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9FB-B4B4-439B-A75B-0B93356CC6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1483-AE2A-402E-A19E-D0F4A2B18893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C364-4C2B-4E56-971B-76A5BE8F524D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9EA-95F6-4DB1-9539-FA719FE1CD39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F55-8877-484C-B50B-4CC62414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97C-8108-4E34-BA1C-704313B2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49C-67CF-4A5B-8C12-69A5F3B1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9A0-6EE7-4A3E-9347-1A60EBD0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D8C-835F-4B28-AB5E-9C7BD9D4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E5E5-8761-46C4-8D74-2E711718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CD23-E940-4065-AB40-70C5900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DC97-1319-4657-A2C6-F10B54E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0E3-2BE4-499E-9FDF-50FEE78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CE20-E3CA-4235-9744-2B7E7B73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4BD-DB0D-4DF6-9FF7-EF054120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878-3CC7-44A2-B3B9-1A636191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66CF-D39B-4126-9BAF-39EA5A5F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6E33-FF67-4BD5-A5C4-F023E31D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877F-D371-410D-ACD1-0352D4D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A1F5-ECC4-4DA1-87FE-01CF800B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93F0-9EAE-42B1-9250-E3624744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811B-BA20-42EF-9ACF-5616AF4C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B5B-B7A9-4B49-952E-B3781C1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AC4-264D-4C8B-A87D-91C8500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33F-342E-44F1-821E-4D0161FF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EEC-AAA4-4714-A94C-CA38A61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D99-682A-4B50-9F77-ABA0C96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5B1-E69C-4E63-AE68-E1FE7FB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022-B2E9-4CBA-B257-52496191C83E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6B8-F668-4214-9F62-F4A595EE090A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projekty@mzcr.cz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zd.gov.cz/category/evropske-fondy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Příkaz ministra pro přímo řízené organizace Ministerstva zdravotnictví týkající se administrace a realizace projektů financovaných z EU fondů,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účinný od 1. 11. 2024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Datum konání semináře: 21. listopadu 2024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16532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d61"/>
                </a:solidFill>
                <a:latin typeface="GillSans"/>
              </a:rPr>
              <a:t>Příprava projektu řešeného metodou EPC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ohlednit délku přípravy projektu (až 3 roky) a realiza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908000" y="1916280"/>
          <a:ext cx="4781880" cy="4795560"/>
        </p:xfrm>
        <a:graphic>
          <a:graphicData uri="http://schemas.openxmlformats.org/drawingml/2006/table">
            <a:tbl>
              <a:tblPr/>
              <a:tblGrid>
                <a:gridCol w="2391120"/>
                <a:gridCol w="2390760"/>
              </a:tblGrid>
              <a:tr h="1753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Fáze projektu EPC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ěžná doba trvání fáz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70020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Zaslání informace o záměru využití dodavatelského úvěru (metody EPC) MZ včetně vydání stanoviska MZ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– 2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2524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chválení investičního/projektového záměru MZ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měsíc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35028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běr zpracovatele a následné zpracování analýzy vhodnosti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4 – 6 měsíců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2524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Rozhodnutí o pokračování přípravné fáze + výběr poradce (facilitátora)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– 2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70020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chválení záměru využít dodavatelský úvěr MZ a MF včetně zadávací dokumentace (je-li relevantní)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 – 3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70020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ydání právního aktu (registrace akce / rozhodnutí o poskytnutí dotace či sloučeného řídícího dokumentu)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měsíc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17532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říprava zadávací dokumenta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 – 4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35028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růběh zadávacího řízení na výběr ESC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6 – 12 měsíců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70020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chválení využití dodavatelského úvěru MZ a MF včetně vydání rozhodnutí o poskytnutí dotace (je-li to relevantní)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 – 3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52524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Uzavření smlouvy, příprava realizace (předběžná zpráva a podpis upřesňujícího dodatku)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 – 3 měsí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  <a:tr h="17532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Realizace úsporných opat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dle rozsahu projektu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cd"/>
                    </a:solidFill>
                  </a:tcPr>
                </a:tc>
              </a:tr>
              <a:tr h="175320"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Období garance úspo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následujících 8 – 12 let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e8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0000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y realizované metodou EPC jsou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dporovány jak na úrovni EU, tak ČR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a to v souladu se Směrnicí Evropského parlamentu a Rady (EU) 2018/2002 ze dne 11. prosince 2018, kterou se mění směrnice 2012/27/EU o energetické účin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alizace projektů EPC je (spolu)financována zdroji EU v rámci několika dotačních programů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perační program Životní prostředí 2021-2027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rodní plán obnovy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odernizační fond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EME ZA POZORNOST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M č. 39/2024/PM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560" y="1268280"/>
            <a:ext cx="799308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Čl. 1 odst. 7 =&gt; financování výdajů projektu formou úvěru (vč. metody EPC jako finančního nástroje)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§ 62 odst. 3 zákona č. 218/2000 Sb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nformovat odbor EFI a tuto informaci uvést v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projektovém záměru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žádat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o schválení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použití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 úvěru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před zahájením zadávacího říze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 dodavatele/poskytovatele energetických služeb, resp. metody EPC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O MZ je oprávněna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vyhlásit výběrové/zadávací řízení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 až po vydání kladného stanoviska Ministerstva finan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 výběru dodavatele (ve fázi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před podpisem smlouvy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) je opět nutné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požádat o schválení </a:t>
            </a:r>
            <a:r>
              <a:rPr b="0" lang="cs-CZ" sz="2000" spc="-1" strike="noStrike" u="sng">
                <a:solidFill>
                  <a:srgbClr val="c00000"/>
                </a:solidFill>
                <a:uFillTx/>
                <a:latin typeface="GillSans"/>
              </a:rPr>
              <a:t>využití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 úvěru =&gt; smlouvu je možné uzavřít až po vydání kladného stanoviska Ministerstva finan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žádosti o schválení použití/využití úvěru zasílají PŘO MZ na adresu </a:t>
            </a: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y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8520" indent="-3085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 vydán „Metodický pokyn MZ k procesu schvalování úvěrů včetně metody EPC jako finančního nástroje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18728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8000" y="2349360"/>
            <a:ext cx="90360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947880" y="2565360"/>
            <a:ext cx="72723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Metodika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„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Příprava a realizace projektů EPC PO MZ“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53" name="Obrázek 1" descr=""/>
          <p:cNvPicPr/>
          <p:nvPr/>
        </p:nvPicPr>
        <p:blipFill>
          <a:blip r:embed="rId1"/>
          <a:stretch/>
        </p:blipFill>
        <p:spPr>
          <a:xfrm>
            <a:off x="2411280" y="4797360"/>
            <a:ext cx="510696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4360" y="1166760"/>
            <a:ext cx="79200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etodika je k dispozici ke stažení zde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94360" indent="-159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Evropské fondy – Ministerstvo zdravotnictv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94360" indent="-159840" algn="just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94360" indent="-159840" algn="just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563c1"/>
                </a:solidFill>
                <a:uFillTx/>
                <a:latin typeface="GillSans"/>
                <a:ea typeface="Calibri"/>
              </a:rPr>
              <a:t>Ministerstvo zdravotnictví vydalo ke dni 30. srpna 2024 metodiku s názvem „Příprava a realizace projektů EPC PO MZ“ | Projektová kancelář MZ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94360" indent="-159840" algn="just">
              <a:spcBef>
                <a:spcPts val="4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zpracována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  <a:ea typeface="Times New Roman"/>
              </a:rPr>
              <a:t>„Pracovní skupinou pro energetické úspory v přímo řízených organizacích MZ“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určena pro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  <a:ea typeface="Times New Roman"/>
              </a:rPr>
              <a:t>příspěvkové organizace M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cíl =&gt;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poskytnout informace, jak efektivně a úspěšně využít metodu EPC pro přípravu a realizaci investičních projektů a akcí, jejichž hlavními cíli jsou snížení energetické náročnosti a energetická revitalizace / modernizace budov PO MZ v majetku stá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594360" indent="-159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EPC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 =&gt; poskytování energetických služeb se zaručeným výsledkem, případně energetické služby se zárukou úspo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využívá se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komplexní projekt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energetických revitalizací budov a technologických systémů se zárukou úspor, a to jak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  <a:ea typeface="Times New Roman"/>
              </a:rPr>
              <a:t>energetických, tak finančních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EPC =&gt;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vhodné pro objekty, které jsou provozovány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  <a:ea typeface="Times New Roman"/>
              </a:rPr>
              <a:t>po velkou část dne v průběhu celého roku a v nichž dochází k významné spotřebě energi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  <a:ea typeface="Times New Roman"/>
              </a:rPr>
              <a:t>, respektive v nichž jsou vynakládány významné prostředky na energii, vodu a další provozní výdaje (řádově miliony Kč bez DPH ročně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42680" y="126828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Typické znaky metody EPC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 všechny etapy projektu a služby s ním spojenými je jen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jeden smluvní partner (dodavatel)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označovaný jako 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ESCO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polupráce na základě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Smlouvy o poskytování energetických služeb se zaručeným výsledke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zajišťuje celý soubor aktivit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=&gt; od návrhu  energetických opatření přes energetický managemen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garantuje finanční ekvivalent úspory energi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při jeho nedosažení hradí zadavateli vzniklý deficit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94840" indent="-2948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ároveň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dpovídá za většinu finančních i technických rizik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grpSp>
        <p:nvGrpSpPr>
          <p:cNvPr id="161" name="Skupina 2"/>
          <p:cNvGrpSpPr/>
          <p:nvPr/>
        </p:nvGrpSpPr>
        <p:grpSpPr>
          <a:xfrm>
            <a:off x="1407960" y="3173400"/>
            <a:ext cx="6328080" cy="3684600"/>
            <a:chOff x="1407960" y="3173400"/>
            <a:chExt cx="6328080" cy="3684600"/>
          </a:xfrm>
        </p:grpSpPr>
        <p:grpSp>
          <p:nvGrpSpPr>
            <p:cNvPr id="162" name="Skupina 3"/>
            <p:cNvGrpSpPr/>
            <p:nvPr/>
          </p:nvGrpSpPr>
          <p:grpSpPr>
            <a:xfrm>
              <a:off x="1407960" y="3173400"/>
              <a:ext cx="6328080" cy="3684600"/>
              <a:chOff x="1407960" y="3173400"/>
              <a:chExt cx="6328080" cy="3684600"/>
            </a:xfrm>
          </p:grpSpPr>
          <p:grpSp>
            <p:nvGrpSpPr>
              <p:cNvPr id="163" name="Skupina 5"/>
              <p:cNvGrpSpPr/>
              <p:nvPr/>
            </p:nvGrpSpPr>
            <p:grpSpPr>
              <a:xfrm>
                <a:off x="1407960" y="3173400"/>
                <a:ext cx="6328080" cy="3684600"/>
                <a:chOff x="1407960" y="3173400"/>
                <a:chExt cx="6328080" cy="3684600"/>
              </a:xfrm>
            </p:grpSpPr>
            <p:grpSp>
              <p:nvGrpSpPr>
                <p:cNvPr id="164" name="Group 2"/>
                <p:cNvGrpSpPr/>
                <p:nvPr/>
              </p:nvGrpSpPr>
              <p:grpSpPr>
                <a:xfrm>
                  <a:off x="2006280" y="3396600"/>
                  <a:ext cx="4939920" cy="3095640"/>
                  <a:chOff x="2006280" y="3396600"/>
                  <a:chExt cx="4939920" cy="3095640"/>
                </a:xfrm>
              </p:grpSpPr>
              <p:grpSp>
                <p:nvGrpSpPr>
                  <p:cNvPr id="165" name="Group 3"/>
                  <p:cNvGrpSpPr/>
                  <p:nvPr/>
                </p:nvGrpSpPr>
                <p:grpSpPr>
                  <a:xfrm>
                    <a:off x="2084760" y="3396600"/>
                    <a:ext cx="4860720" cy="2724480"/>
                    <a:chOff x="2084760" y="3396600"/>
                    <a:chExt cx="4860720" cy="2724480"/>
                  </a:xfrm>
                </p:grpSpPr>
                <p:sp>
                  <p:nvSpPr>
                    <p:cNvPr id="166" name="Rectangle 4"/>
                    <p:cNvSpPr/>
                    <p:nvPr/>
                  </p:nvSpPr>
                  <p:spPr>
                    <a:xfrm>
                      <a:off x="2109240" y="3803400"/>
                      <a:ext cx="4470840" cy="2317680"/>
                    </a:xfrm>
                    <a:prstGeom prst="rect">
                      <a:avLst/>
                    </a:prstGeom>
                    <a:solidFill>
                      <a:srgbClr val="dee668">
                        <a:alpha val="5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p:txBody>
                </p:sp>
                <p:cxnSp>
                  <p:nvCxnSpPr>
                    <p:cNvPr id="167" name="AutoShape 5"/>
                    <p:cNvCxnSpPr/>
                    <p:nvPr/>
                  </p:nvCxnSpPr>
                  <p:spPr>
                    <a:xfrm flipV="1">
                      <a:off x="2084760" y="3396600"/>
                      <a:ext cx="2520" cy="27244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grpSp>
                  <p:nvGrpSpPr>
                    <p:cNvPr id="168" name="Group 6"/>
                    <p:cNvGrpSpPr/>
                    <p:nvPr/>
                  </p:nvGrpSpPr>
                  <p:grpSpPr>
                    <a:xfrm>
                      <a:off x="2876760" y="3788640"/>
                      <a:ext cx="3693600" cy="1088280"/>
                      <a:chOff x="2876760" y="3788640"/>
                      <a:chExt cx="3693600" cy="1088280"/>
                    </a:xfrm>
                  </p:grpSpPr>
                  <p:sp>
                    <p:nvSpPr>
                      <p:cNvPr id="169" name="Rectangle 7"/>
                      <p:cNvSpPr/>
                      <p:nvPr/>
                    </p:nvSpPr>
                    <p:spPr>
                      <a:xfrm>
                        <a:off x="2876760" y="3803760"/>
                        <a:ext cx="3047760" cy="791280"/>
                      </a:xfrm>
                      <a:prstGeom prst="rect">
                        <a:avLst/>
                      </a:prstGeom>
                      <a:solidFill>
                        <a:srgbClr val="92d050"/>
                      </a:solidFill>
                      <a:ln w="38160">
                        <a:solidFill>
                          <a:srgbClr val="92d05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400" spc="-1" strike="noStrike">
                          <a:solidFill>
                            <a:srgbClr val="003d61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70" name="Rectangle 8"/>
                      <p:cNvSpPr/>
                      <p:nvPr/>
                    </p:nvSpPr>
                    <p:spPr>
                      <a:xfrm>
                        <a:off x="2876760" y="4611960"/>
                        <a:ext cx="3047760" cy="264960"/>
                      </a:xfrm>
                      <a:prstGeom prst="rect">
                        <a:avLst/>
                      </a:prstGeom>
                      <a:solidFill>
                        <a:srgbClr val="b5fdbe"/>
                      </a:solidFill>
                      <a:ln w="38160">
                        <a:solidFill>
                          <a:srgbClr val="b5fdbe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400" spc="-1" strike="noStrike">
                          <a:solidFill>
                            <a:srgbClr val="003d61"/>
                          </a:solidFill>
                          <a:latin typeface="Garamond"/>
                        </a:endParaRPr>
                      </a:p>
                    </p:txBody>
                  </p:sp>
                  <p:sp>
                    <p:nvSpPr>
                      <p:cNvPr id="171" name="Rectangle 9"/>
                      <p:cNvSpPr/>
                      <p:nvPr/>
                    </p:nvSpPr>
                    <p:spPr>
                      <a:xfrm>
                        <a:off x="5913360" y="3788640"/>
                        <a:ext cx="657000" cy="1073160"/>
                      </a:xfrm>
                      <a:prstGeom prst="rect">
                        <a:avLst/>
                      </a:prstGeom>
                      <a:solidFill>
                        <a:srgbClr val="b5fdbe"/>
                      </a:solidFill>
                      <a:ln w="38160">
                        <a:solidFill>
                          <a:srgbClr val="b5fdbe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400" spc="-1" strike="noStrike">
                          <a:solidFill>
                            <a:srgbClr val="003d61"/>
                          </a:solidFill>
                          <a:latin typeface="Garamond"/>
                        </a:endParaRPr>
                      </a:p>
                    </p:txBody>
                  </p:sp>
                </p:grpSp>
                <p:sp>
                  <p:nvSpPr>
                    <p:cNvPr id="172" name="AutoShape 10"/>
                    <p:cNvSpPr/>
                    <p:nvPr/>
                  </p:nvSpPr>
                  <p:spPr>
                    <a:xfrm>
                      <a:off x="6629040" y="4640400"/>
                      <a:ext cx="316440" cy="562320"/>
                    </a:xfrm>
                    <a:custGeom>
                      <a:avLst/>
                      <a:gdLst>
                        <a:gd name="textAreaLeft" fmla="*/ 49320 w 316440"/>
                        <a:gd name="textAreaRight" fmla="*/ 197280 w 316440"/>
                        <a:gd name="textAreaTop" fmla="*/ 96120 h 562320"/>
                        <a:gd name="textAreaBottom" fmla="*/ 466200 h 5623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9233" y="0"/>
                          </a:moveTo>
                          <a:lnTo>
                            <a:pt x="9233" y="3695"/>
                          </a:lnTo>
                          <a:lnTo>
                            <a:pt x="3375" y="3695"/>
                          </a:lnTo>
                          <a:lnTo>
                            <a:pt x="3375" y="17905"/>
                          </a:lnTo>
                          <a:lnTo>
                            <a:pt x="9233" y="17905"/>
                          </a:lnTo>
                          <a:lnTo>
                            <a:pt x="9233" y="21600"/>
                          </a:lnTo>
                          <a:lnTo>
                            <a:pt x="21600" y="10800"/>
                          </a:lnTo>
                          <a:lnTo>
                            <a:pt x="9233" y="0"/>
                          </a:lnTo>
                          <a:close/>
                        </a:path>
                        <a:path w="21600" h="21600">
                          <a:moveTo>
                            <a:pt x="1350" y="3695"/>
                          </a:moveTo>
                          <a:lnTo>
                            <a:pt x="1350" y="17905"/>
                          </a:lnTo>
                          <a:lnTo>
                            <a:pt x="2700" y="17905"/>
                          </a:lnTo>
                          <a:lnTo>
                            <a:pt x="2700" y="3695"/>
                          </a:lnTo>
                          <a:lnTo>
                            <a:pt x="1350" y="3695"/>
                          </a:lnTo>
                          <a:close/>
                        </a:path>
                        <a:path w="21600" h="21600">
                          <a:moveTo>
                            <a:pt x="0" y="3695"/>
                          </a:moveTo>
                          <a:lnTo>
                            <a:pt x="0" y="17905"/>
                          </a:lnTo>
                          <a:lnTo>
                            <a:pt x="675" y="17905"/>
                          </a:lnTo>
                          <a:lnTo>
                            <a:pt x="675" y="3695"/>
                          </a:lnTo>
                          <a:lnTo>
                            <a:pt x="0" y="369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b5fdbe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38160">
                      <a:solidFill>
                        <a:srgbClr val="a5a5a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p:txBody>
                </p:sp>
                <p:cxnSp>
                  <p:nvCxnSpPr>
                    <p:cNvPr id="173" name="AutoShape 11"/>
                    <p:cNvCxnSpPr/>
                    <p:nvPr/>
                  </p:nvCxnSpPr>
                  <p:spPr>
                    <a:xfrm>
                      <a:off x="2108880" y="6120360"/>
                      <a:ext cx="4774320" cy="1080"/>
                    </a:xfrm>
                    <a:prstGeom prst="straightConnector1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174" name="Text Box 12"/>
                  <p:cNvSpPr/>
                  <p:nvPr/>
                </p:nvSpPr>
                <p:spPr>
                  <a:xfrm>
                    <a:off x="2006280" y="6159240"/>
                    <a:ext cx="4939920" cy="33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 fontScale="91000"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cs-CZ" sz="14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-1        0         1           2           3           4          5          6          7           8        </a:t>
                    </a:r>
                    <a:endParaRPr b="0" lang="en-US" sz="1400" spc="-1" strike="noStrike">
                      <a:solidFill>
                        <a:srgbClr val="003d61"/>
                      </a:solidFill>
                      <a:latin typeface="Garamond"/>
                    </a:endParaRPr>
                  </a:p>
                </p:txBody>
              </p:sp>
            </p:grpSp>
            <p:sp>
              <p:nvSpPr>
                <p:cNvPr id="175" name="Přímá spojovací čára 16"/>
                <p:cNvSpPr/>
                <p:nvPr/>
              </p:nvSpPr>
              <p:spPr>
                <a:xfrm>
                  <a:off x="2125800" y="3788640"/>
                  <a:ext cx="4428720" cy="0"/>
                </a:xfrm>
                <a:prstGeom prst="line">
                  <a:avLst/>
                </a:prstGeom>
                <a:ln cap="sq" w="50760">
                  <a:solidFill>
                    <a:srgbClr val="c2cd23"/>
                  </a:solidFill>
                  <a:custDash>
                    <a:ds d="100000" sp="100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76" name="Přímá spojovací čára 24"/>
                <p:cNvSpPr/>
                <p:nvPr/>
              </p:nvSpPr>
              <p:spPr>
                <a:xfrm>
                  <a:off x="2844720" y="3805200"/>
                  <a:ext cx="0" cy="111924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77" name="Přímá spojovací čára 26"/>
                <p:cNvSpPr/>
                <p:nvPr/>
              </p:nvSpPr>
              <p:spPr>
                <a:xfrm>
                  <a:off x="2844720" y="4908600"/>
                  <a:ext cx="3710160" cy="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78" name="Rectangle 35"/>
                <p:cNvSpPr/>
                <p:nvPr/>
              </p:nvSpPr>
              <p:spPr>
                <a:xfrm>
                  <a:off x="4519800" y="3173400"/>
                  <a:ext cx="3216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c00000"/>
                      </a:solidFill>
                      <a:latin typeface="Calibri"/>
                      <a:ea typeface="Times New Roman"/>
                    </a:rPr>
                    <a:t>náklady bez použití EPC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28"/>
                <p:cNvSpPr/>
                <p:nvPr/>
              </p:nvSpPr>
              <p:spPr>
                <a:xfrm>
                  <a:off x="1407960" y="6574320"/>
                  <a:ext cx="215388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podpis EPC smlouvy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27"/>
                <p:cNvSpPr/>
                <p:nvPr/>
              </p:nvSpPr>
              <p:spPr>
                <a:xfrm>
                  <a:off x="4791240" y="6573960"/>
                  <a:ext cx="243756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konec účinnosti EPC smlouvy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1" name="Rectangle 31"/>
                <p:cNvSpPr/>
                <p:nvPr/>
              </p:nvSpPr>
              <p:spPr>
                <a:xfrm>
                  <a:off x="2963880" y="5355360"/>
                  <a:ext cx="274176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0070c0"/>
                      </a:solidFill>
                      <a:latin typeface="Calibri"/>
                      <a:ea typeface="Times New Roman"/>
                    </a:rPr>
                    <a:t>náklady s použitím EPC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2" name="Rectangle 33"/>
                <p:cNvSpPr/>
                <p:nvPr/>
              </p:nvSpPr>
              <p:spPr>
                <a:xfrm>
                  <a:off x="2963880" y="3900600"/>
                  <a:ext cx="2886480" cy="50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034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ffffff"/>
                      </a:solidFill>
                      <a:latin typeface="Calibri"/>
                      <a:ea typeface="Times New Roman"/>
                    </a:rPr>
                    <a:t>zaručené úspory pro krytí splácených finančních nákladů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3" name="Rectangle 32"/>
                <p:cNvSpPr/>
                <p:nvPr/>
              </p:nvSpPr>
              <p:spPr>
                <a:xfrm>
                  <a:off x="5896080" y="3919680"/>
                  <a:ext cx="846720" cy="92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034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úspory pro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034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zadava-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034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tele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 flipH="1">
                  <a:off x="5579640" y="3396960"/>
                  <a:ext cx="166320" cy="357120"/>
                </a:xfrm>
                <a:prstGeom prst="line">
                  <a:avLst/>
                </a:prstGeom>
                <a:ln w="19080">
                  <a:solidFill>
                    <a:srgbClr val="c2cd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5" name="Přímá spojovací čára 39"/>
                <p:cNvSpPr/>
                <p:nvPr/>
              </p:nvSpPr>
              <p:spPr>
                <a:xfrm>
                  <a:off x="2476080" y="3620880"/>
                  <a:ext cx="0" cy="285372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6" name="Přímá spojovací čára 40"/>
                <p:cNvSpPr/>
                <p:nvPr/>
              </p:nvSpPr>
              <p:spPr>
                <a:xfrm>
                  <a:off x="5896440" y="3620880"/>
                  <a:ext cx="0" cy="2853720"/>
                </a:xfrm>
                <a:prstGeom prst="line">
                  <a:avLst/>
                </a:prstGeom>
                <a:ln w="19080">
                  <a:solidFill>
                    <a:srgbClr val="4a7ebb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7" name="Rectangle 29"/>
                <p:cNvSpPr/>
                <p:nvPr/>
              </p:nvSpPr>
              <p:spPr>
                <a:xfrm rot="16200000">
                  <a:off x="858960" y="4520160"/>
                  <a:ext cx="1836720" cy="27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4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provozní náklady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  <p:sp>
              <p:nvSpPr>
                <p:cNvPr id="188" name="Rectangle 32"/>
                <p:cNvSpPr/>
                <p:nvPr/>
              </p:nvSpPr>
              <p:spPr>
                <a:xfrm>
                  <a:off x="3143160" y="4628160"/>
                  <a:ext cx="2273760" cy="22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800" rIns="19800" tIns="10440" bIns="10440" anchor="t">
                  <a:normAutofit fontScale="94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034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400" spc="-1" strike="noStrike">
                      <a:solidFill>
                        <a:srgbClr val="9fbf0e"/>
                      </a:solidFill>
                      <a:latin typeface="Calibri"/>
                      <a:ea typeface="Times New Roman"/>
                    </a:rPr>
                    <a:t>úspory přesahující garanci</a:t>
                  </a:r>
                  <a:endParaRPr b="0" lang="en-US" sz="1400" spc="-1" strike="noStrike">
                    <a:solidFill>
                      <a:srgbClr val="003d6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189" name="Line 18"/>
              <p:cNvSpPr/>
              <p:nvPr/>
            </p:nvSpPr>
            <p:spPr>
              <a:xfrm flipH="1">
                <a:off x="3864960" y="4944960"/>
                <a:ext cx="176040" cy="409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400" spc="-1" strike="noStrike">
                  <a:solidFill>
                    <a:srgbClr val="003d61"/>
                  </a:solidFill>
                  <a:latin typeface="Garamond"/>
                </a:endParaRPr>
              </a:p>
            </p:txBody>
          </p:sp>
        </p:grpSp>
        <p:sp>
          <p:nvSpPr>
            <p:cNvPr id="190" name="Textové pole 2"/>
            <p:cNvSpPr/>
            <p:nvPr/>
          </p:nvSpPr>
          <p:spPr>
            <a:xfrm>
              <a:off x="3968280" y="6421680"/>
              <a:ext cx="715680" cy="38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15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3d61"/>
                  </a:solidFill>
                  <a:latin typeface="Arial"/>
                  <a:ea typeface="Times New Roman"/>
                </a:rPr>
                <a:t>[rok]</a:t>
              </a:r>
              <a:endParaRPr b="0" lang="en-US" sz="1200" spc="-1" strike="noStrike">
                <a:solidFill>
                  <a:srgbClr val="003d61"/>
                </a:solidFill>
                <a:latin typeface="Garamond"/>
              </a:endParaRPr>
            </a:p>
          </p:txBody>
        </p:sp>
      </p:grpSp>
      <p:sp>
        <p:nvSpPr>
          <p:cNvPr id="191" name="TextovéPole 34"/>
          <p:cNvSpPr/>
          <p:nvPr/>
        </p:nvSpPr>
        <p:spPr>
          <a:xfrm>
            <a:off x="706320" y="868320"/>
            <a:ext cx="78868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i zadavatel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j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hodnou motivaci naplnit předmět smlouvy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kterým je maximální výše úspor energie a nákladů při vynaložení optimální výše investic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áklady na realizaci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úsporných opatření jsou ve většině případů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plně kompenzovány úsporami provozních nákladů na energie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640" y="1052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i využití financování nebo spolufinancová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davatelským úvěrem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jsou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náklady spláceny až zpětně z dosažených úspor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(postup pro využití dodavatelského financování aktuálně upravuje čl. 1 odst. 7 PM č. 39/2024/PM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dodavatelské financování je 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volitelným prvkem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metoda EPC může být výhodná i bez dodavatelského financování – její 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klíčovou vlastností je garance úspory ESC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smluvně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dpovídá za dosažení úspor a za návratnost vynaložených prostředků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finančně kompenzuje celý deficit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v případě nedosažení garantované úspor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při převýše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garantovaných hodnot má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ESCO naopak nárok na bonus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ypočtený dohodnutým procentem z nadúspor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63880" indent="-2638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prava a realizace projektů EPC PO MZ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42920" y="150984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etodika obsahuje informace k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běru objektů a shromáždění d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analýze vhod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d61"/>
                </a:solidFill>
                <a:latin typeface="GillSans"/>
              </a:rPr>
              <a:t>realizaci projektu EPC s dotační podporo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říprav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ě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 a realizac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i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 zadávacího říz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alizaci úsporných opatř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bdobí garan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96" name="Obrázek 1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autor</cp:lastModifiedBy>
  <cp:lastPrinted>2020-02-27T06:59:52Z</cp:lastPrinted>
  <dcterms:modified xsi:type="dcterms:W3CDTF">2024-11-21T08:57:53Z</dcterms:modified>
  <cp:revision>690</cp:revision>
  <dc:subject/>
  <dc:title>Snímek 1</dc:title>
</cp:coreProperties>
</file>