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0DAE-3EB8-4E9E-B7B5-DF0025A3C4F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03A1-602D-4F91-86F3-901BFDE90ABB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CEBE-ECB8-4F65-9043-86DEC3C9E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0B2A-FA87-4CA4-932B-F14CE2F6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8909-BAC1-477D-9FFB-FE775B852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B5FD-B3DB-4B88-980D-28AD71657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3A7C-3E7C-45AF-9F90-B5CB6B67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11C4-2018-4221-83E8-0527413B4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79D7-E0E3-4CCC-A8FD-3926CE5E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FD2B-F0B7-4374-9FA9-0B6C46D1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A1A8-A486-4B51-9A4D-504AD4DE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E2175-525F-4B64-A964-6DF05355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A443-89E5-4F93-93F9-16A14CAE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AA20-A9B8-4D9F-9D73-1FEE12A7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EE89-67F7-4677-A364-4C68FEA5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6D73-5D6E-4C8E-AD54-A37AE836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06E6-08D2-4AB2-9A92-4D3E34C4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AAB8-7F9B-4107-BEED-37FA446B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D623-4375-479C-9F21-B97631C9B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F596-5E52-411F-A0EA-FA144F801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B351-6C63-402E-B45C-99FFDBFC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0C4F-4059-4964-BEA5-448CE8AC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15DE-6640-45CB-905E-428398C4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95E2-AF1C-462B-8A65-C5EBB577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76B8-616B-419C-B930-DD714DD8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55E2-88BA-4381-819E-9B58BFF9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233360" y="6244920"/>
            <a:ext cx="1371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914560" y="6237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56F9-AB7E-43A0-A147-5C5C765E21E4}" type="slidenum">
              <a:rPr b="0" lang="cs-CZ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7" name="Rectangle 11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9" name="Picture 15" descr="pp_podtisk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233360" y="1989000"/>
            <a:ext cx="67946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53" name="Picture 12" descr="pp_podtisk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logo IOP + EU + text - 1"/>
          <p:cNvPicPr/>
          <p:nvPr/>
        </p:nvPicPr>
        <p:blipFill>
          <a:blip r:embed="rId3"/>
          <a:stretch/>
        </p:blipFill>
        <p:spPr>
          <a:xfrm>
            <a:off x="1116000" y="5157720"/>
            <a:ext cx="5545080" cy="620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4"/>
          <a:stretch/>
        </p:blipFill>
        <p:spPr>
          <a:xfrm>
            <a:off x="6815160" y="5157720"/>
            <a:ext cx="1428840" cy="6256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6"/>
          <p:cNvSpPr/>
          <p:nvPr/>
        </p:nvSpPr>
        <p:spPr>
          <a:xfrm>
            <a:off x="2124000" y="6140520"/>
            <a:ext cx="5256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d61"/>
                </a:solidFill>
                <a:latin typeface="GillSans"/>
              </a:rPr>
              <a:t>Tento Projekt technické pomoci 6.1 Ministerstva zdravotnictví je spolufinancován Evropskou unií z Evropského fondu pro regionální rozvoj. </a:t>
            </a:r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"/>
          <p:cNvSpPr/>
          <p:nvPr/>
        </p:nvSpPr>
        <p:spPr>
          <a:xfrm>
            <a:off x="-12600" y="1968480"/>
            <a:ext cx="9156600" cy="488952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95" name="Picture 9" descr="logo_mzcr"/>
          <p:cNvPicPr/>
          <p:nvPr/>
        </p:nvPicPr>
        <p:blipFill>
          <a:blip r:embed="rId2"/>
          <a:stretch/>
        </p:blipFill>
        <p:spPr>
          <a:xfrm>
            <a:off x="647640" y="682560"/>
            <a:ext cx="6737400" cy="593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pp_titul_podtisk"/>
          <p:cNvPicPr/>
          <p:nvPr/>
        </p:nvPicPr>
        <p:blipFill>
          <a:blip r:embed="rId3"/>
          <a:stretch/>
        </p:blipFill>
        <p:spPr>
          <a:xfrm>
            <a:off x="0" y="1989000"/>
            <a:ext cx="812880" cy="4869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4"/>
          </p:nvPr>
        </p:nvSpPr>
        <p:spPr>
          <a:xfrm>
            <a:off x="1220760" y="6244920"/>
            <a:ext cx="13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5"/>
          </p:nvPr>
        </p:nvSpPr>
        <p:spPr>
          <a:xfrm>
            <a:off x="291600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F0B8-2860-426D-A43F-62BFA63D4521}" type="slidenum">
              <a:rPr b="0" lang="cs-CZ" sz="1200" spc="-1" strike="noStrike">
                <a:solidFill>
                  <a:srgbClr val="ffffff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1187280" y="-130320"/>
            <a:ext cx="679464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42920" y="3212640"/>
            <a:ext cx="63374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  </a:t>
            </a:r>
            <a:br>
              <a:rPr sz="2000"/>
            </a:b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826920" y="1197000"/>
            <a:ext cx="74534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d61"/>
                </a:solidFill>
                <a:latin typeface="GillSans"/>
              </a:rPr>
              <a:t>Příkaz ministra pro přímo řízené organizace Ministerstva zdravotnictví týkající se administrace a realizace projektů financovaných z EU fondů, </a:t>
            </a: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d61"/>
                </a:solidFill>
                <a:latin typeface="GillSans"/>
              </a:rPr>
              <a:t>účinný od 1. 11. 2024</a:t>
            </a: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d61"/>
                </a:solidFill>
                <a:latin typeface="GillSans"/>
              </a:rPr>
              <a:t>Datum konání semináře: 21. listopadu 2024</a:t>
            </a: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PM č.39/2024 – Neplatí pro NPO 6.1 a 6.2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GillSans"/>
              </a:rPr>
              <a:t>Nový projekt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žádost o vydání PA (včetně projektové žádosti)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Dopis ze strany ŘO/VK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Porada vedení MZ schvaluje projekt k financování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Email + bilance projektu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Registrace do systému SMVS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Zaslání sestavy S09 Dokumentace akce k potvrzení příjemcem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Vydání řídicí dokumentace (elektronická verze)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GillSans"/>
              </a:rPr>
              <a:t>Změny v projektu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Zaslání textu změny na email (včetně změny v bilanci projektu)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Obdržení dopisu od příslušného ŘO/VK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Vydání řídicí dokumentace(změna)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PM č.39/2024 – Neplatí pro NPO 6.1 a 6.2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GillSans"/>
              </a:rPr>
              <a:t>Průběžná administrace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Zasílání soupisek k fakturám na příslušný email – nepřímé náklady jsou </a:t>
            </a:r>
            <a:r>
              <a:rPr b="1" lang="cs-CZ" sz="1800" spc="-1" strike="noStrike">
                <a:solidFill>
                  <a:srgbClr val="ff0000"/>
                </a:solidFill>
                <a:latin typeface="GillSans"/>
              </a:rPr>
              <a:t>NEINVESTIČNÍ!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Po schválení ŽOP je nutné zaslat </a:t>
            </a:r>
            <a:r>
              <a:rPr b="1" lang="cs-CZ" sz="1800" spc="-1" strike="noStrike">
                <a:solidFill>
                  <a:srgbClr val="ff0000"/>
                </a:solidFill>
                <a:latin typeface="GillSans"/>
              </a:rPr>
              <a:t>formulář F1 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(ke stažení v dokumentech u ŽOP v ISKP) na příslušný email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7030a0"/>
                </a:solidFill>
                <a:uFillTx/>
                <a:latin typeface="GillSans"/>
              </a:rPr>
              <a:t>Krácení v ŽoP 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– nutno vyčkat na Dopis od ŘO/VK, poté Vás MZ vyzve k vratce dotace dle 14f zákona 218/2000 Sb.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GillSans"/>
              </a:rPr>
              <a:t>Ukončení projektu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Po schválení závěrečné ŽoP a obdržení všech vratek dochází </a:t>
            </a:r>
            <a:br>
              <a:rPr sz="1800"/>
            </a:b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k vypracování ZVA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3d61"/>
                </a:solidFill>
                <a:uFillTx/>
                <a:latin typeface="GillSans"/>
              </a:rPr>
              <a:t>Vratky dotace: 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pochybení a přeplatky (číslo účtu pro vrácení stanovuje MZ)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Finanční vypořádání projektu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Ukončení financování v roce 2024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pic>
        <p:nvPicPr>
          <p:cNvPr id="153" name="Zástupný obsah 2" descr=""/>
          <p:cNvPicPr/>
          <p:nvPr/>
        </p:nvPicPr>
        <p:blipFill>
          <a:blip r:embed="rId1"/>
          <a:stretch/>
        </p:blipFill>
        <p:spPr>
          <a:xfrm>
            <a:off x="1176480" y="1566720"/>
            <a:ext cx="6913440" cy="46213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08:56:53Z</dcterms:created>
  <dc:creator>kobid</dc:creator>
  <dc:description/>
  <dc:language>en-US</dc:language>
  <cp:lastModifiedBy>Galuszková Věra, Ing. MBA</cp:lastModifiedBy>
  <cp:lastPrinted>2021-03-30T06:05:26Z</cp:lastPrinted>
  <dcterms:modified xsi:type="dcterms:W3CDTF">2024-11-20T13:08:31Z</dcterms:modified>
  <cp:revision>712</cp:revision>
  <dc:subject/>
  <dc:title>Snímek 1</dc:title>
</cp:coreProperties>
</file>