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18F8-AFD2-4E72-A6FB-A4E6166310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3132-EAA4-413D-A9E2-05DD7A56C29A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D33-94E5-4CCF-92F7-A4084B60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D6B-18FD-4FA4-B257-C99490F5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952-A0EB-4DF5-AFF4-120AB776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66E-AF10-4931-B966-3A5F5356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F44-7D5F-4353-A246-0F55C1E5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2DD4-03D2-47E0-A6D7-28CE8FE5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BFCA-6865-412F-81D7-59907D6A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46DD-6B72-4DE5-9330-A83F3516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40ED-150C-4E8B-86C6-F5C4D628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A3A1-0F6F-4118-A7BD-8DA4383D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7E7-852C-4195-93C6-6FB0A558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9A83-F30E-4AED-97BB-7C341294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C6DC-DFD3-4E89-B46D-71DC66A7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0C06-DDBB-4D3D-8881-CD8AFD35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F28F-4972-409A-B531-7ED1B8F4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405D-6EC5-4158-ABDB-DA093020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B1C6-AB0F-4587-9060-7BFFB3E7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17A8-0BDB-4094-9B4A-22223C6B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3F3-E597-4411-BCF8-9EAB3323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B19-C70B-47B8-A25F-BEDC6145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7C95-3AC3-4265-B05F-8709117F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31E-96E2-47E0-959E-2D4847AC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90D-7F84-4164-A191-9A65FFF6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0230-B140-4876-B0DF-C0869BEC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3A5D-3EBF-4472-8315-B5629A2AC15A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99B3-812F-46BF-A05B-B6C79BA8C3C7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finance@mzcr.cz" TargetMode="External"/><Relationship Id="rId2" Type="http://schemas.openxmlformats.org/officeDocument/2006/relationships/hyperlink" Target="mailto:NPO.finance@mzcr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finance@mzcr.cz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-13032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42920" y="3212640"/>
            <a:ext cx="6337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6920" y="1197000"/>
            <a:ext cx="7453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Ukončování projektů v rámci REACT-EU a</a:t>
            </a: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další aktuality v oblasti EU fondů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12. října 2023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ojekt „Zajištění administrativních kapacit MZ ČR pro REACT-EU“ CZ.06.7.127/0.0/0.0/21_126/0017003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8" name="Obrázek 5" descr=""/>
          <p:cNvPicPr/>
          <p:nvPr/>
        </p:nvPicPr>
        <p:blipFill>
          <a:blip r:embed="rId1"/>
          <a:stretch/>
        </p:blipFill>
        <p:spPr>
          <a:xfrm>
            <a:off x="611280" y="3198960"/>
            <a:ext cx="8208720" cy="1066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468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Informace k čerpání REACT-EU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elkový počet registrovaných projektů: 67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elková alokace: 8,47 mld. Kč včetně vlastních zdrojů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elkové čerpání k 30. 9. 2023: 5,03 mld. Kč bez vlastních zdrojů příjemců za rok 2023 (59,31%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graphicFrame>
        <p:nvGraphicFramePr>
          <p:cNvPr id="151" name="Graf 5"/>
          <p:cNvGraphicFramePr/>
          <p:nvPr/>
        </p:nvGraphicFramePr>
        <p:xfrm>
          <a:off x="2144880" y="3119400"/>
          <a:ext cx="4854240" cy="30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Graf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4880" y="3119400"/>
                    <a:ext cx="48542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Informace k čerpání IROP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elkový počet registrovaných projektů: 68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elková alokace: 6,36 mld. Kč včetně vlastních zdrojů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elkové čerpání k 30. 9. 2023: 5,6 mld. Kč bez vlastních zdrojů příjemců za rok 2023 (88,08%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graphicFrame>
        <p:nvGraphicFramePr>
          <p:cNvPr id="155" name="Graf 5"/>
          <p:cNvGraphicFramePr/>
          <p:nvPr/>
        </p:nvGraphicFramePr>
        <p:xfrm>
          <a:off x="2246400" y="3090960"/>
          <a:ext cx="4651200" cy="30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Graf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6400" y="3090960"/>
                    <a:ext cx="4651200" cy="30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Informace k čerpání OPŽP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elkový počet registrovaných projektů: 42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elková alokace: 5,2 mld. Kč včetně vlastních zdrojů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elkové čerpání k 30. 9. 2023: 2,64 mld. Kč bez vlastních zdrojů příjemců za rok 2023 (50,84%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graphicFrame>
        <p:nvGraphicFramePr>
          <p:cNvPr id="159" name="Graf 5"/>
          <p:cNvGraphicFramePr/>
          <p:nvPr/>
        </p:nvGraphicFramePr>
        <p:xfrm>
          <a:off x="2409840" y="3090960"/>
          <a:ext cx="4324320" cy="29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Graf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9840" y="3090960"/>
                    <a:ext cx="432432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Informace pro příjemce - PO MZ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oces uvolňování plateb dle PM č.11/2022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stupným uvolňováním finančních prostředků na základě splatných faktur a s nimi předložených uzavřených smluv/objednávek.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 případě projektu z OPŽP jsou platby zpracovávány </a:t>
            </a:r>
            <a:br>
              <a:rPr sz="2000"/>
            </a:b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až na základě </a:t>
            </a:r>
            <a:r>
              <a:rPr b="1" i="1" lang="cs-CZ" sz="2000" spc="-1" strike="noStrike">
                <a:solidFill>
                  <a:srgbClr val="003d61"/>
                </a:solidFill>
                <a:latin typeface="GillSans"/>
              </a:rPr>
              <a:t>Souhlasu s uvolněním prostředků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, který je schválen SFŽP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šechny podklady jsou zasílány na emailovou adresu 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finance@mzcr.cz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otazy k financování z Národního plánu obnovy budou vyřizovány prostřednictvím emailové schránky 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2"/>
              </a:rPr>
              <a:t>NPO.finance@mzcr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Změna ve financování v REACT-EU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Dočasnou změnou v postupu bude umožněno zálohové financování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Předfinancování celé zakázky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(doložení tabulky a podepsané smlouvy, ze které doposud nebylo čerpáno)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Dofinancování zakázky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(doložení tabulky s doplněnými údaji ohledně již zaplacených plateb, vhodné předkonzultovat s pracovníky MZ)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Termíny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o 31. 10. 2023 zaslat podklady k již proběhlé fakturaci a poklady pro zpracování zálohových plateb </a:t>
            </a:r>
            <a:br>
              <a:rPr sz="2000"/>
            </a:b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a předfinancování celé zakázky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bdobí od 1. 11. - 15. 12. 2023 budou probíhat doplatky zbylých dotací (dofinancování zakázky, DPH).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Informace pro příjemce - KHS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4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Financování je prováděno na základě rozpočtových opatřeních ze strany MZ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0000"/>
                </a:solidFill>
                <a:latin typeface="GillSans"/>
              </a:rPr>
              <a:t>Do 31. 10. 2023 je nutné požádat prostřednictvím e-mailu </a:t>
            </a:r>
            <a:r>
              <a:rPr b="1" lang="cs-CZ" sz="19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finance@mzcr.cz</a:t>
            </a:r>
            <a:r>
              <a:rPr b="1" lang="cs-CZ" sz="1900" spc="-1" strike="noStrike">
                <a:solidFill>
                  <a:srgbClr val="ff0000"/>
                </a:solidFill>
                <a:latin typeface="GillSans"/>
              </a:rPr>
              <a:t> o prostředky určené na dofinancování projektů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Příjemce prostředky v ISSP může rezervovat bez souhlasu MZ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Po schválení Zprávy o realizaci je Žádost o platbu zahrnuta </a:t>
            </a:r>
            <a:br>
              <a:rPr sz="1900"/>
            </a:b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do souhrnné žádosti a následně z účtu Národního fondu proplácena na účet příslušné KHS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Obdržená refundace je zaúčtována jako příjem pod RP 4118, 4218 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Po ukončení administrace projektu ze strany CRR budete ze strany MZ požádáni o vypracování podkladu pro Závěrečné vyhodnocení akce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Další informace k financování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4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Financování všech projektů bude standardně probíhat </a:t>
            </a:r>
            <a:br>
              <a:rPr sz="1900"/>
            </a:b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cca do 20. 12. 2023, kdy je možné zaslat podklady </a:t>
            </a:r>
            <a:br>
              <a:rPr sz="1900"/>
            </a:b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pro předfinancování všech dotací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224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V lednu 2024 bude probíhat kompletace databáze SMVS </a:t>
            </a:r>
            <a:br>
              <a:rPr sz="1900"/>
            </a:b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(doplnění skutečností potřeb a vlastních zdrojů příjemce)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224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Termín pro vratku v rámci finančního vypořádání </a:t>
            </a:r>
            <a:r>
              <a:rPr b="1" lang="cs-CZ" sz="1900" spc="-1" strike="noStrike" u="sng">
                <a:solidFill>
                  <a:srgbClr val="003d61"/>
                </a:solidFill>
                <a:uFillTx/>
                <a:latin typeface="GillSans"/>
              </a:rPr>
              <a:t>vypočtenou poskytovatelem dotace </a:t>
            </a: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– 15. 2. 2024. V případě pozdější výzvy bude dotace finančně vypořádána až v roce 2025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0000"/>
                </a:solidFill>
                <a:latin typeface="GillSans"/>
              </a:rPr>
              <a:t>Při dodržení podmínky způsobilosti výdajů (především výpis z bankovního účtu s max. datem 31. 12. 2023) je možné prostředky </a:t>
            </a:r>
            <a:r>
              <a:rPr b="1" lang="cs-CZ" sz="1900" spc="-1" strike="noStrike" u="sng">
                <a:solidFill>
                  <a:srgbClr val="ff0000"/>
                </a:solidFill>
                <a:uFillTx/>
                <a:latin typeface="GillSans"/>
              </a:rPr>
              <a:t>čerpané z vlastních zdrojů příjemců dodatečně uhradit v roce 2024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Ostatní informace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Informace o schválení žádosti o podstatnou změnu zasílejte na finance@mzcr.cz. V případě prodloužení realizace projektu, změnu v monitorovacích indikátorech a výši dotace 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poskytovatel čeká na dopis z MMR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Závěrečné vyhodnocení akce bude vydáno až po schválení závěrečné zprávy o realizaci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. Zdroje financování musí odpovídat částkám uvedených v ISKP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V případě krácení v ŽoP budete vyzváni dle 14f RP k vrácení dotčených prostředků. Výzva k navrácení dotace je zasílána MZ až po obdržení dopisu z MMR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Grygarová Kateřina, Mgr. Bc.</cp:lastModifiedBy>
  <cp:lastPrinted>2021-03-30T06:05:26Z</cp:lastPrinted>
  <dcterms:modified xsi:type="dcterms:W3CDTF">2023-10-11T14:58:38Z</dcterms:modified>
  <cp:revision>734</cp:revision>
  <dc:subject/>
  <dc:title>Snímek 1</dc:title>
</cp:coreProperties>
</file>