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E8F0-5078-4C8B-ADF2-214505B7BB4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B177-7EC7-4678-BFB3-B1CC626EC6A0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F611-E559-4663-99E6-23BD9C7FE27C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2875-427F-4B65-A9DA-501F43BCA30B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AB7-0A5F-4A7D-AE37-92A99932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441-7329-4546-B599-B6FB8F51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A2B-9F9F-4CEA-90EE-8C4A2B9C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BE52-6E9C-43B4-ACD2-582A1F37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0F2-7650-4FAC-9001-385613ED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4A11-DCFC-42C3-922F-85D3A3B7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FC6C-7458-406A-BB6A-C50D46AA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0E5C-EBD2-4263-A610-DF745161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5E92-7CAC-40D5-AE0E-1B882048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9803-322B-4F49-89BA-0EA3BE4B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A05-63AA-4BBD-81A6-94C38B58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5AA3-C9C8-4680-B7E5-29902CA6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A981-2F7E-4EEE-8DEF-E0DA51D8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48B6-816C-4106-A709-FE4BBD7A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447D-B4C1-49A2-9F57-7358018A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8F18-05B6-42F6-AEC1-05544BA4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CACC-4F4A-4EFB-A9B7-A661B4494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8CBF-AC07-4DB2-88AA-2017A866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D201-AD8D-42B7-BD09-668601BE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4AE-88A5-4605-92E0-0AEAA4D6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93F-D810-4C26-8EA1-FBD91256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656-98B2-459B-8AE2-F8157505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DCF-2823-4D12-A195-DAD82379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771-0994-4CC5-B259-180F4016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3134-D958-4C2A-9B70-5D867DB64619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8A8C-8379-4E18-B0F0-A1EBB4EEE40A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projekty@mzcr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projektova.kancelar@mzcr.cz" TargetMode="External"/><Relationship Id="rId2" Type="http://schemas.openxmlformats.org/officeDocument/2006/relationships/hyperlink" Target="mailto:projekty@mzcr.cz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Ukončování projektů v rámci REACT-EU a</a:t>
            </a: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další aktuality v oblasti EU fondů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12. října 2023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jekt „Zajištění administrativních kapacit MZ ČR pro REACT-EU“ CZ.06.7.127/0.0/0.0/21_126/001700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Obrázek 5" descr=""/>
          <p:cNvPicPr/>
          <p:nvPr/>
        </p:nvPicPr>
        <p:blipFill>
          <a:blip r:embed="rId1"/>
          <a:stretch/>
        </p:blipFill>
        <p:spPr>
          <a:xfrm>
            <a:off x="684360" y="3363840"/>
            <a:ext cx="777528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49240" y="185400"/>
            <a:ext cx="788688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hled výzev - specifický cíl 4.3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3" name="TextovéPole 10"/>
          <p:cNvSpPr/>
          <p:nvPr/>
        </p:nvSpPr>
        <p:spPr>
          <a:xfrm>
            <a:off x="993600" y="1413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Plánované vyhlášení výzev 2024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93600" y="1989000"/>
          <a:ext cx="7597800" cy="2051280"/>
        </p:xfrm>
        <a:graphic>
          <a:graphicData uri="http://schemas.openxmlformats.org/drawingml/2006/table">
            <a:tbl>
              <a:tblPr/>
              <a:tblGrid>
                <a:gridCol w="2345040"/>
                <a:gridCol w="1012680"/>
                <a:gridCol w="1011240"/>
                <a:gridCol w="1582920"/>
                <a:gridCol w="1645920"/>
              </a:tblGrid>
              <a:tr h="3049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 - zkráceně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Plánovaný termín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Celkem alokace EFRR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Územní zaměřen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</a:tr>
              <a:tr h="457200"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rozvoje a dostupnosti komunitní psychiatrické  péče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Komunitní psychiatri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3/20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41 378 970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457200"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Vznik a modernizace urgentních příjmů ČR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Urgentní příjm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6/20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3 739 462 090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ah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ochrany veřejného zdraví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Veřejné zdrav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9/20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500 000 000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ah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integrované onkologické péče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Onkologi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11/20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467 432 761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 - specifický cíl 4.3 - specifický cíl 4.3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00000" y="1341360"/>
            <a:ext cx="763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ODPORA ROZVOJE A DOSTUPNOSTI ZDRAVOTNÍ NÁSLEDNÉ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ýzvy č. 31 (méně rozvinuté regiony) a č. 32 (přechodové regiony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Termín vyhlášení výzvy: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29. 11. 2022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Termín ukončení příjmu žádostí o podporu: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30. 11. 2023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A</a:t>
            </a:r>
            <a:r>
              <a:rPr b="0" lang="cs-CZ" sz="18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– Zvýšení kvality a rozšíření spektra poskytované následné lůžkové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B</a:t>
            </a:r>
            <a:r>
              <a:rPr b="0" lang="cs-CZ" sz="18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– Zvýšení dostupnosti následné lůžkové péče v regionech s nedostatečným pokrytím – až 80 mil. Kč pro nové poskytovatele – platí pro kraje Karlovarský, Liberecký, Ústecký, Zlínský, Jihočeský a Kraj Vysočina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: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rehabilitační následná péče 00022, pneumologická a ftizeologická následná péče 00023, následná dětská rehabilitační péče 00027, následná dětská pneumologická péče 00028, následná dětská ostatní péče 00029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Realizovány projekty RÚ Hrabyně, Hamzovy léčebny, Fakultní nemocnice u sv. Anny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 - specifický cíl 4.3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99640" y="1052280"/>
            <a:ext cx="7704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ODPORA ROZVOJE A DOSTUPNOSTI PALIATIVNÍ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ýzvy č. 71 (méně rozvinuté regiony) a č. 72 (přechodové regiony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Termín vyhlášení výzvy: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16. 2. 2023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Termín ukončení příjmu žádostí o podporu: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28. 2. 2025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A</a:t>
            </a:r>
            <a:r>
              <a:rPr b="0" lang="cs-CZ" sz="18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– Zvýšení kvality a dostupnosti péče poskytované stávajícími nebo nově vznikajícími konziliárními paliativními týmy v nemocnicích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e7d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Výše dotace – min. 0,5 mil. Kč, </a:t>
            </a:r>
            <a:r>
              <a:rPr b="0" lang="cs-CZ" sz="1800" spc="-1" strike="noStrike">
                <a:solidFill>
                  <a:srgbClr val="c00000"/>
                </a:solidFill>
                <a:latin typeface="GillSans"/>
              </a:rPr>
              <a:t>max. u nových 1,5 mil. Kč, u stávajících </a:t>
            </a:r>
            <a:r>
              <a:rPr b="0" lang="cs-CZ" sz="1800" spc="-1" strike="noStrike">
                <a:solidFill>
                  <a:srgbClr val="c00000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c00000"/>
                </a:solidFill>
                <a:latin typeface="GillSans"/>
              </a:rPr>
              <a:t>1,0 mil. Kč (v méně rozvinutých regionech) / 0,8 mil. Kč (v </a:t>
            </a:r>
            <a:r>
              <a:rPr b="0" lang="cs-CZ" sz="1800" spc="-1" strike="noStrike">
                <a:solidFill>
                  <a:srgbClr val="c00000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c00000"/>
                </a:solidFill>
                <a:latin typeface="GillSans"/>
              </a:rPr>
              <a:t>přechodových  regionech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působilé výdaje – stavby/rekonstrukce zázemí pro nemocničn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paliativní tým a nákup ultrazvukového přístroje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právnění „noví“ žadatelé – oprávnění pro obor paliativní medicína,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souhlas VZP a druhé „nejsilnější“ pojišťovny v kraji se záměrem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B</a:t>
            </a:r>
            <a:r>
              <a:rPr b="0" lang="cs-CZ" sz="18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– Zvýšení kvality a dostupnosti paliativní péče ve vlastním sociálním prostředí pacienta prostřednictvím stávajících nebo nově vznikajících poskytovatelů mobilní specializované paliativní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C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– Zvýšení kvality a dostupnosti lůžkové paliativní a hospicové péče prostřednictvím stávajících nebo nově vznikajících poskytovatelů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00000" y="1196640"/>
            <a:ext cx="80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ODPORA AKUTNÍ A SPECIALIZOVANÉ LŮŽKOVÉ </a:t>
            </a:r>
            <a:br>
              <a:rPr sz="1800"/>
            </a:b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SYCHIATRICKÉ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Výzvy č. 56 (méně rozvinuté regiony) a č. 57 (přechodové regiony)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Termín vyhlášení výzvy: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29. 3. 2023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Postupný posun data zahájení příjmu žádostí – nyní 17.10.2023: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Upřesnění termínu vznik nových lůžek – smlouva s VZP uzavřena </a:t>
            </a:r>
            <a:r>
              <a:rPr b="1" lang="cs-CZ" sz="1600" spc="-1" strike="noStrike">
                <a:solidFill>
                  <a:srgbClr val="c00000"/>
                </a:solidFill>
                <a:latin typeface="GillSans"/>
              </a:rPr>
              <a:t>nejdříve po datu zahájení příjmu žádostí o podporu</a:t>
            </a: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 </a:t>
            </a:r>
            <a:endParaRPr b="0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Ukončení příjmu žádostí – 17.10.2024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Aktivita A</a:t>
            </a:r>
            <a:r>
              <a:rPr b="0" lang="cs-CZ" sz="17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Podpora rozvoje a dostupnosti dětské akutní lůžkové psychiatrické péče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Aktivita B</a:t>
            </a:r>
            <a:r>
              <a:rPr b="0" lang="cs-CZ" sz="17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Podpora rozvoje a dostupnosti akutní lůžkové psychiatrické péče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Aktivita C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Podpora rozvoje a dostupnosti ochranného léčení se střední úrovní dohledu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0" name="Nadpis 1"/>
          <p:cNvSpPr/>
          <p:nvPr/>
        </p:nvSpPr>
        <p:spPr>
          <a:xfrm>
            <a:off x="104292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 - specifický cíl 4.3 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 - specifický cíl 4.3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8960" y="1165320"/>
            <a:ext cx="679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ODPORA VZNIKU ZÁKLADNÍ SÍTĚ INFEKČNÍCH KLINIK A ODDĚLENÍ 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zvy č. 91 (méně rozvinuté regiony), 92 (přechodové regiony) a 93 (ČR – Praha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 současné době intenzivně připravována, aby se stihlo plánované vyhlášení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 listopadu 2023 s předpokládaným zahájením příjmu žádostí v březnu 2024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astavení vychází z Koncepce oboru infekční lékařství schválené Společnosti infekčního lékařství ČLS JEP v roce 2021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 - specifický cíl 1.1 eGovernment a kyberbezpečnost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18960" y="1165320"/>
            <a:ext cx="679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Ukončené výzvy č. 3, 4 a 5 Kyberbezpečnost – v tuto chvíli vydáno Rozhodnutí o poskytnutí dotace pro 13 projekt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zva č. 9 – eGovernment – ukončení příjmu 5.1.2024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zvy č. 78, 79 a 80 – eHealth – probíhá snad poslední připomínkové řízení – předpoklad vyhlášení </a:t>
            </a:r>
            <a:r>
              <a:rPr b="1" lang="cs-CZ" sz="2000" spc="-1" strike="noStrike">
                <a:solidFill>
                  <a:srgbClr val="990033"/>
                </a:solidFill>
                <a:latin typeface="GillSans"/>
              </a:rPr>
              <a:t>konec října 2023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Zaměstnanost plus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33000" y="1267920"/>
            <a:ext cx="7155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92d050"/>
                </a:solidFill>
                <a:latin typeface="GillSans"/>
              </a:rPr>
              <a:t>Specifický cíl 2.2: k) </a:t>
            </a: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zvyšovat rovný a včasný přístup ke kvalitním, udržitelným a cenově dostupným službám, včetně služeb, které podporují přístup k bydlení a individuální péči, včetně zdravotní péče; modernizovat systémy sociální ochrany včetně prosazování přístupu k sociální ochraně se zvláštním důrazem na děti a znevýhodněné skupiny; </a:t>
            </a:r>
            <a:r>
              <a:rPr b="1" lang="cs-CZ" sz="1600" spc="-1" strike="noStrike">
                <a:solidFill>
                  <a:srgbClr val="92d050"/>
                </a:solidFill>
                <a:latin typeface="GillSans"/>
              </a:rPr>
              <a:t>zlepšovat přístupnost, i pro osoby se zdravotním postižením, účinnost a odolnost systémů zdravotní péče a služeb dlouhodobé péče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87" name="Obrázek 2" descr=""/>
          <p:cNvPicPr/>
          <p:nvPr/>
        </p:nvPicPr>
        <p:blipFill>
          <a:blip r:embed="rId1"/>
          <a:stretch/>
        </p:blipFill>
        <p:spPr>
          <a:xfrm>
            <a:off x="1854360" y="3213000"/>
            <a:ext cx="5553000" cy="3327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Zaměstnanost plus 2021-202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hled výzev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89" name="Zástupný obsah 2" descr=""/>
          <p:cNvPicPr/>
          <p:nvPr/>
        </p:nvPicPr>
        <p:blipFill>
          <a:blip r:embed="rId1"/>
          <a:stretch/>
        </p:blipFill>
        <p:spPr>
          <a:xfrm>
            <a:off x="1195560" y="1163520"/>
            <a:ext cx="7272000" cy="557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1233360" y="1773360"/>
          <a:ext cx="7010640" cy="3298680"/>
        </p:xfrm>
        <a:graphic>
          <a:graphicData uri="http://schemas.openxmlformats.org/drawingml/2006/table">
            <a:tbl>
              <a:tblPr/>
              <a:tblGrid>
                <a:gridCol w="1702080"/>
                <a:gridCol w="977760"/>
                <a:gridCol w="1326960"/>
                <a:gridCol w="1187640"/>
                <a:gridCol w="1816200"/>
              </a:tblGrid>
              <a:tr h="39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Číslo výzv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Ukončení příjmu žádost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Typ příjemc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Projekt příklad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</a:tr>
              <a:tr h="70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Zkvalitnění zdravotních služeb - preventivní programy, zdravotní gramotnost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03_22_005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31. srpna 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ÚZIS, SZÚ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ÚZIS - Národní program prevence obezity dětí – BE FIT 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Zkvalitnění zdravotních služeb - péče o duševní zdrav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03_22_031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18. prosince 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NÚDZ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Prevence a podpora duševního zdraví dospělé populace v ČR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Zkvalitnění zdravotních služeb - vzdělávání zdravotnických pracovníků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03_22_045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13. října 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IPVZ, NCO NZO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IPVZ - Jazyková a odborná příprava zdravotnických pracovníků ze zahraničí 1,2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85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Zkvalitnění zdravotních služeb - zdravotní služby, integrace sociální a zdravotní péč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03_22_046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29. ledna 2024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MZ ČR, ÚZIS, NCO NZO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MZ ČR - Návrh systému komplexní sdílené zdravotně-sociální péče o pacienty se vzácnými onemocněními – SYPOVO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Jan Amos Komenský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33360" y="1196640"/>
            <a:ext cx="7299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Řídicí orgán: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Ministerstvo školství, mládeže a tělovýchovy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Celková alokace: </a:t>
            </a: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90 mld. Kč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Priorita 1: Výzkum a vývoj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Výzva 02_22_008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Špičkový výzkum – ukončena k 16.1.2023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Podpora realizace špičkových výzkumných záměrů, které dosáhnou svou kvalitou a originalitou mezinárodní excelence (ukončení příjmu žádostí 16. 1 .2023) 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celkem za 8 mld. Kč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Výzva 02_23_021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Mezisektorová spolupráce pro ITI – do 28.2.2025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Rozvoj kapacit výzkumných týmů, navázání strategického partnerství a posílení dlouhodobé mezisektorové spolupráce výzkumných organizací s aplikačním sférou 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celkem 2, 52 mld. Kč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Výzva 02_23_015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Výzkumné infrastruktury I – ukončena k 25.8.2023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Podpora rozvoje infrastrukturní základny pro oblast výzkumu, vývoje a inovací v ČR - modernizace velkých výzkumných infrastruktur (investice do klíčového vybavení) 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celkem 3 mld. Kč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Jan Amos Komenský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Priorita 2: Vzděláv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síme o informaci ohledně plánovaného předložení projektového záměru do výzev OP JAK předem na e-mail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projekty@mzcr.cz</a:t>
            </a: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Aktuality v oblasti </a:t>
            </a: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EU fondů - programové období </a:t>
            </a: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2021-2027 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12. října 2023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jekt „Zajištění administrativních kapacit MZ ČR pro REACT-EU“ CZ.06.7.127/0.0/0.0/21_126/001700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ĚKUJI ZA POZORNOST!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https://projektovakancelar.mzcr.cz/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projektova.kancelar@mzcr.c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2"/>
              </a:rPr>
              <a:t>projekty@mzcr.c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Schéma možností podpory ze zdrojů EU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33360" y="1600200"/>
            <a:ext cx="679464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6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777440" cy="5732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Schéma možností podpory ze zdrojů EU – NPO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33360" y="1600200"/>
            <a:ext cx="679464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Obrázek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8351640" cy="5322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ole Ministerstva zdravotnictví v období 2021+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33360" y="1341000"/>
            <a:ext cx="6794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Odborný garant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íslušných specifických cílů Integrovaného regionálního operačního programu 2021–2027 a Operačního programu Zaměstnanost plus – příprava podkladů pro výzvy, hodnocení projekt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Poskytovatel dotace pro příspěvkové organizace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 rámci všech nástrojů, pokud není zákonem umožněno poskytnout dotaci přímo – tj. poskytovatel dotace v rámci IROP </a:t>
            </a:r>
            <a:br>
              <a:rPr sz="2000"/>
            </a:b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2021–2027, OPZ+, OP ŽP, NPO komponenty zejména 1.1, 1.2, 3.3;  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Realizátor systémových projektů resortu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– v tuto chvíli realizován projekt OPZ+ </a:t>
            </a:r>
            <a:r>
              <a:rPr b="0" i="1" lang="cs-CZ" sz="2000" spc="-1" strike="noStrike">
                <a:solidFill>
                  <a:srgbClr val="003d61"/>
                </a:solidFill>
                <a:latin typeface="GillSans"/>
              </a:rPr>
              <a:t>Návrh systému komplexní sdílené zdravotně-sociální péče o pacienty se vzácnými onemocněními – SYPOVO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Vlastník komponent 6.1 a 6.2 Národního plánu obnovy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– MZ je </a:t>
            </a: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Řídicím orgánem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, zajišťuje vyhlašování výzev a administraci projekt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 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ole Ministerstva zdravotnictví v období 2021+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33360" y="1341000"/>
            <a:ext cx="6794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Realizátor projektů resor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jekt „Zajištění administrativních kapacit MZ ČR pro REACT-EU“ - CZ.06.7.127/0.0/0.0/21_126/0017003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jekt „</a:t>
            </a:r>
            <a:r>
              <a:rPr b="0" lang="pt-BR" sz="2000" spc="-1" strike="noStrike">
                <a:solidFill>
                  <a:srgbClr val="003d61"/>
                </a:solidFill>
                <a:latin typeface="GillSans"/>
              </a:rPr>
              <a:t>Publicita REACT-EU v resortu zdravotnictví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“  - CZ.06.7.127/0.0/0.0/21_126/0017552 – probíhá zakázka – dodavatel EVERESTA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 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íkaz ministra č. 11/2022 </a:t>
            </a:r>
            <a:r>
              <a:rPr b="1" lang="cs-CZ" sz="1800" spc="-1" strike="noStrike">
                <a:solidFill>
                  <a:srgbClr val="ffffff"/>
                </a:solidFill>
                <a:latin typeface="GillSans"/>
              </a:rPr>
              <a:t>Postup pro předkládání, realizaci a administraci projektů přímo řízených organizací MZ financovaných ze zdrojů EU  a finančních mechanismů</a:t>
            </a:r>
            <a:endParaRPr b="1" lang="en-US" sz="1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 11.10.2023 zaevidováno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270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projektových záměrů, z toho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Typ 1 – pro informaci, není financováno ze strany MZ –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90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projektových záměrů (Horizon Europe – 37, EU4Health – 11, Interreg Central Europe – 2)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Typ 3 –financování by mělo probíhat ze strany MZ -  </a:t>
            </a:r>
            <a:r>
              <a:rPr b="1" lang="cs-CZ" sz="2000" spc="-1" strike="noStrike">
                <a:solidFill>
                  <a:srgbClr val="990033"/>
                </a:solidFill>
                <a:latin typeface="GillSans"/>
              </a:rPr>
              <a:t>180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– jen k Integrovanému regionálnímu operačnímu programu 2021-2027 –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46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íkaz ministra č. 11/2022 Postup pro předkládání, realizaci a administraci projektů přímo řízených organizací MZ financovaných ze zdrojů EU  a finančních mechanismů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33360" y="1197000"/>
            <a:ext cx="6794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 11.10.2023 vydáno ze strany MZ v rámci programového období 2021-2027 Stanovení výdajů/Rozhodnutí o poskytnutí dotace k </a:t>
            </a:r>
            <a:r>
              <a:rPr b="1" lang="cs-CZ" sz="2000" spc="-1" strike="noStrike">
                <a:solidFill>
                  <a:srgbClr val="990033"/>
                </a:solidFill>
                <a:latin typeface="GillSans"/>
              </a:rPr>
              <a:t>42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projektům (v rámci Národního plánu obnovy pak </a:t>
            </a:r>
            <a:r>
              <a:rPr b="1" lang="cs-CZ" sz="2000" spc="-1" strike="noStrike">
                <a:solidFill>
                  <a:srgbClr val="990033"/>
                </a:solidFill>
                <a:latin typeface="GillSans"/>
              </a:rPr>
              <a:t>15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Rozhodnutí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66" name="Graf 3" descr=""/>
          <p:cNvPicPr/>
          <p:nvPr/>
        </p:nvPicPr>
        <p:blipFill>
          <a:blip r:embed="rId1"/>
          <a:stretch/>
        </p:blipFill>
        <p:spPr>
          <a:xfrm>
            <a:off x="871560" y="2639880"/>
            <a:ext cx="7516800" cy="4351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228240"/>
            <a:ext cx="788688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hled výzev – specifický cíl 4.3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8" name="TextovéPole 2"/>
          <p:cNvSpPr/>
          <p:nvPr/>
        </p:nvSpPr>
        <p:spPr>
          <a:xfrm>
            <a:off x="826920" y="14842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Vyhlášené výzvy 2022/202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57240" y="1989000"/>
          <a:ext cx="7597800" cy="1928880"/>
        </p:xfrm>
        <a:graphic>
          <a:graphicData uri="http://schemas.openxmlformats.org/drawingml/2006/table">
            <a:tbl>
              <a:tblPr/>
              <a:tblGrid>
                <a:gridCol w="2359080"/>
                <a:gridCol w="1255680"/>
                <a:gridCol w="1655640"/>
                <a:gridCol w="2327400"/>
              </a:tblGrid>
              <a:tr h="28260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 - zkráceně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Celkem alokace EFRR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Územní zaměřen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</a:tr>
              <a:tr h="549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rozvoje a dostupnosti zdravotní následné péč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Následná péč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 899 744 781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rozvoje a dostupnosti paliativní péče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aliati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280 459 657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rozvoje a dostupnosti akutní a specializované lůžkové psychiatrické  péče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sychiatri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700 000 000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  <p:sp>
        <p:nvSpPr>
          <p:cNvPr id="170" name="TextovéPole 1"/>
          <p:cNvSpPr/>
          <p:nvPr/>
        </p:nvSpPr>
        <p:spPr>
          <a:xfrm>
            <a:off x="790560" y="41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Plánované vyhlášení výzev 202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57240" y="4749840"/>
          <a:ext cx="7596360" cy="831960"/>
        </p:xfrm>
        <a:graphic>
          <a:graphicData uri="http://schemas.openxmlformats.org/drawingml/2006/table">
            <a:tbl>
              <a:tblPr/>
              <a:tblGrid>
                <a:gridCol w="2344680"/>
                <a:gridCol w="1011240"/>
                <a:gridCol w="1011240"/>
                <a:gridCol w="1582920"/>
                <a:gridCol w="1646280"/>
              </a:tblGrid>
              <a:tr h="3049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 - zkráceně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Plánovaný termín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Celkem alokace EFRR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Územní zaměřen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</a:tr>
              <a:tr h="700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vzniku základní sítě infekčních klinik a oddělení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Infekční klinik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11/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 837 163 806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ah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Marková Kateřina, Ing.</cp:lastModifiedBy>
  <cp:lastPrinted>2023-10-11T12:15:03Z</cp:lastPrinted>
  <dcterms:modified xsi:type="dcterms:W3CDTF">2023-10-17T06:33:37Z</dcterms:modified>
  <cp:revision>1112</cp:revision>
  <dc:subject/>
  <dc:title>Snímek 1</dc:title>
</cp:coreProperties>
</file>