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314F-DC83-4907-B2B3-C1B856A9C8A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8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554D-1549-45E3-968A-BC49CEDD34B8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D63-28E6-4BB0-BDEE-CB05E745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D34-BF8F-4B9E-8DF0-0B3EA88A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F669-CFCD-471D-A38F-F503573D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B40-89AD-4837-95EB-43CF3370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D04-0294-4771-A65F-457F366C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1274-206E-4B68-A905-49974EBB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3E48-888F-4527-86CA-4B9D5568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06CA-ACBE-407A-9E52-AC29E84D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5603-A508-44BD-AD52-B8F4B16C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A748-7CCB-465E-8970-8E4B2696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C452-91A2-45F4-BD33-749ECA2A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68C9-282D-4444-BCEA-B923940B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563F-F597-4EED-88A5-3ABE149B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C3BE-C684-4CB3-9B76-7C6F76C8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2192-D9CD-4AA7-A55A-7F3786A0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11C9-41BD-46E6-93EA-DF572511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3F0B-7861-4A47-BC76-8D706804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A388-21FA-4548-95C2-996AD405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937-DA9B-4E1B-A4FD-CD83E320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A38-92C1-48D0-8FF4-D6D24174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66A-8819-4B26-AC55-200241AD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543-6D53-433B-A63D-9EBD9792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237-4FC1-456A-8332-E00575A3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04C-D989-43AA-B31F-7458E4EA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C05B-B97B-4DF5-A91A-5C4CB966E873}" type="slidenum">
              <a:rPr b="0" lang="cs-CZ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233360" y="1989000"/>
            <a:ext cx="6794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 algn="ctr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3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 IOP + EU + text - 1"/>
          <p:cNvPicPr/>
          <p:nvPr/>
        </p:nvPicPr>
        <p:blipFill>
          <a:blip r:embed="rId3"/>
          <a:stretch/>
        </p:blipFill>
        <p:spPr>
          <a:xfrm>
            <a:off x="1116000" y="5157720"/>
            <a:ext cx="5545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"/>
          <p:cNvPicPr/>
          <p:nvPr/>
        </p:nvPicPr>
        <p:blipFill>
          <a:blip r:embed="rId4"/>
          <a:stretch/>
        </p:blipFill>
        <p:spPr>
          <a:xfrm>
            <a:off x="6815160" y="5157720"/>
            <a:ext cx="1428840" cy="625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6"/>
          <p:cNvSpPr/>
          <p:nvPr/>
        </p:nvSpPr>
        <p:spPr>
          <a:xfrm>
            <a:off x="2124000" y="6140520"/>
            <a:ext cx="525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3d61"/>
                </a:solidFill>
                <a:latin typeface="GillSans"/>
              </a:rPr>
              <a:t>Tento Projekt technické pomoci 6.1 Ministerstva zdravotnictví je spolufinancován Evropskou unií z Evropského fondu pro regionální rozvoj. </a:t>
            </a:r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95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68D1-C8B1-4433-83DA-558767F08811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finance@mzcr.cz" TargetMode="External"/><Relationship Id="rId2" Type="http://schemas.openxmlformats.org/officeDocument/2006/relationships/hyperlink" Target="mailto:NPO.finance@mzcr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finance@mzcr.cz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1187280" y="-130320"/>
            <a:ext cx="6794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42920" y="3212640"/>
            <a:ext cx="63374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26920" y="1197000"/>
            <a:ext cx="74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Ukončování projektů v rámci REACT-EU a</a:t>
            </a:r>
            <a:r>
              <a:rPr b="1" lang="cs-CZ" sz="32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pt-BR" sz="3200" spc="-1" strike="noStrike">
                <a:solidFill>
                  <a:srgbClr val="003d61"/>
                </a:solidFill>
                <a:latin typeface="GillSans"/>
              </a:rPr>
              <a:t>další aktuality v oblasti EU fondů</a:t>
            </a:r>
            <a:endParaRPr b="0" lang="en-US" sz="32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12. října 2023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jekt „Zajištění administrativních kapacit MZ ČR pro REACT-EU“ CZ.06.7.127/0.0/0.0/21_126/0017003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8" name="Obrázek 5" descr=""/>
          <p:cNvPicPr/>
          <p:nvPr/>
        </p:nvPicPr>
        <p:blipFill>
          <a:blip r:embed="rId1"/>
          <a:stretch/>
        </p:blipFill>
        <p:spPr>
          <a:xfrm>
            <a:off x="611280" y="3198960"/>
            <a:ext cx="8208720" cy="1066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468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Informace k čerpání REACT-EU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ý počet registrovaných projektů: 67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á alokace: 8,47 mld. Kč včetně vlastních zdrojů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é čerpání k 30. 9. 2023: 5,03 mld. Kč bez vlastních zdrojů příjemců za rok 2023 (59,31%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graphicFrame>
        <p:nvGraphicFramePr>
          <p:cNvPr id="151" name="Graf 5"/>
          <p:cNvGraphicFramePr/>
          <p:nvPr/>
        </p:nvGraphicFramePr>
        <p:xfrm>
          <a:off x="2144880" y="3119400"/>
          <a:ext cx="4854240" cy="30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Graf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4880" y="3119400"/>
                    <a:ext cx="48542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Informace k čerpání IROP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ý počet registrovaných projektů: 68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á alokace: 6,36 mld. Kč včetně vlastních zdrojů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é čerpání k 30. 9. 2023: 5,6 mld. Kč bez vlastních zdrojů příjemců za rok 2023 (88,08%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graphicFrame>
        <p:nvGraphicFramePr>
          <p:cNvPr id="155" name="Graf 5"/>
          <p:cNvGraphicFramePr/>
          <p:nvPr/>
        </p:nvGraphicFramePr>
        <p:xfrm>
          <a:off x="2246400" y="3090960"/>
          <a:ext cx="4651200" cy="308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Graf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6400" y="3090960"/>
                    <a:ext cx="4651200" cy="30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Informace k čerpání OPŽP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ý počet registrovaných projektů: 42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á alokace: 5,2 mld. Kč včetně vlastních zdrojů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Celkové čerpání k 30. 9. 2023: 2,64 mld. Kč bez vlastních zdrojů příjemců za rok 2023 (50,84%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graphicFrame>
        <p:nvGraphicFramePr>
          <p:cNvPr id="159" name="Graf 5"/>
          <p:cNvGraphicFramePr/>
          <p:nvPr/>
        </p:nvGraphicFramePr>
        <p:xfrm>
          <a:off x="2409840" y="3090960"/>
          <a:ext cx="4324320" cy="29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Graf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9840" y="3090960"/>
                    <a:ext cx="4324320" cy="29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Informace pro příjemce - PO MZ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oces uvolňování plateb dle PM č.11/2022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stupným uvolňováním finančních prostředků na základě splatných faktur a s nimi předložených uzavřených smluv/objednávek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 případě projektu z OPŽP jsou platby zpracovávány </a:t>
            </a:r>
            <a:br>
              <a:rPr sz="2000"/>
            </a:b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až na základě </a:t>
            </a:r>
            <a:r>
              <a:rPr b="1" i="1" lang="cs-CZ" sz="2000" spc="-1" strike="noStrike">
                <a:solidFill>
                  <a:srgbClr val="003d61"/>
                </a:solidFill>
                <a:latin typeface="GillSans"/>
              </a:rPr>
              <a:t>Souhlasu s uvolněním prostředků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, který je schválen SFŽP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šechny podklady jsou zasílány na emailovou adresu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finance@mzcr.cz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otazy k financování z Národního plánu obnovy budou vyřizovány prostřednictvím emailové schránky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  <a:hlinkClick r:id="rId2"/>
              </a:rPr>
              <a:t>NPO.finance@mzcr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Změna ve financování v REACT-EU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Dočasnou změnou v postupu bude umožněno zálohové financování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ředfinancování celé zakázky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(doložení tabulky a podepsané smlouvy, ze které doposud nebylo čerpáno)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Dofinancování zakázky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(doložení tabulky s doplněnými údaji ohledně již zaplacených plateb, vhodné předkonzultovat s pracovníky MZ)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Termíny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o 31. 10. 2023 zaslat podklady k již proběhlé fakturaci a poklady pro zpracování zálohových plateb </a:t>
            </a:r>
            <a:br>
              <a:rPr sz="2000"/>
            </a:b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a předfinancování celé zakázky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bdobí od 1. 11. - 15. 12. 2023 budou probíhat doplatky zbylých dotací (dofinancování zakázky, DPH)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Informace pro příjemce - KHS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Financování je prováděno na základě rozpočtových opatřeních ze strany MZ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0000"/>
                </a:solidFill>
                <a:latin typeface="GillSans"/>
              </a:rPr>
              <a:t>Do 31. 10. 2023 je nutné požádat prostřednictvím e-mailu </a:t>
            </a:r>
            <a:r>
              <a:rPr b="1" lang="cs-CZ" sz="19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finance@mzcr.cz</a:t>
            </a:r>
            <a:r>
              <a:rPr b="1" lang="cs-CZ" sz="1900" spc="-1" strike="noStrike">
                <a:solidFill>
                  <a:srgbClr val="ff0000"/>
                </a:solidFill>
                <a:latin typeface="GillSans"/>
              </a:rPr>
              <a:t> o prostředky určené na dofinancování projektů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Příjemce prostředky v ISSP může rezervovat bez souhlasu MZ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Po schválení Zprávy o realizaci je Žádost o platbu zahrnuta </a:t>
            </a:r>
            <a:br>
              <a:rPr sz="1900"/>
            </a:b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do souhrnné žádosti a následně z účtu Národního fondu proplácena na účet příslušné KHS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Obdržená refundace je zaúčtována jako příjem pod RP 4118, 4218 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 algn="just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Po ukončení administrace projektu ze strany CRR budete ze strany MZ požádáni o vypracování podkladu pro Závěrečné vyhodnocení akce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05280" indent="-305280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Další informace k financování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Financování všech projektů bude standardně probíhat </a:t>
            </a:r>
            <a:br>
              <a:rPr sz="1900"/>
            </a:b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cca do 20. 12. 2023, kdy je možné zaslat podklady </a:t>
            </a:r>
            <a:br>
              <a:rPr sz="1900"/>
            </a:b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pro předfinancování všech dotací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224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V lednu 2024 bude probíhat kompletace databáze SMVS </a:t>
            </a:r>
            <a:br>
              <a:rPr sz="1900"/>
            </a:b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(doplnění skutečností potřeb a vlastních zdrojů příjemce)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224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76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Termín pro vratku v rámci finančního vypořádání </a:t>
            </a:r>
            <a:r>
              <a:rPr b="1" lang="cs-CZ" sz="1900" spc="-1" strike="noStrike" u="sng">
                <a:solidFill>
                  <a:srgbClr val="003d61"/>
                </a:solidFill>
                <a:uFillTx/>
                <a:latin typeface="GillSans"/>
              </a:rPr>
              <a:t>vypočtenou poskytovatelem dotace </a:t>
            </a:r>
            <a:r>
              <a:rPr b="1" lang="cs-CZ" sz="1900" spc="-1" strike="noStrike">
                <a:solidFill>
                  <a:srgbClr val="003d61"/>
                </a:solidFill>
                <a:latin typeface="GillSans"/>
              </a:rPr>
              <a:t>– 15. 2. 2024. V případě pozdější výzvy bude dotace finančně vypořádána až v roce 2025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 algn="just"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ff0000"/>
                </a:solidFill>
                <a:latin typeface="GillSans"/>
              </a:rPr>
              <a:t>Při dodržení podmínky způsobilosti výdajů (především výpis z bankovního účtu s max. datem 31. 12. 2023) je možné prostředky </a:t>
            </a:r>
            <a:r>
              <a:rPr b="1" lang="cs-CZ" sz="1900" spc="-1" strike="noStrike" u="sng">
                <a:solidFill>
                  <a:srgbClr val="ff0000"/>
                </a:solidFill>
                <a:uFillTx/>
                <a:latin typeface="GillSans"/>
              </a:rPr>
              <a:t>čerpané z vlastních zdrojů příjemců dodatečně uhradit v roce 2024.</a:t>
            </a:r>
            <a:endParaRPr b="1" lang="en-US" sz="19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Ostatní informace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Informace o schválení žádosti o podstatnou změnu zasílejte na finance@mzcr.cz. V případě prodloužení realizace projektu, změnu v monitorovacích indikátorech a výši dotace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poskytovatel čeká na dopis z MMR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Závěrečné vyhodnocení akce bude vydáno až po schválení závěrečné zprávy o realizaci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. Zdroje financování musí odpovídat částkám uvedených v ISKP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V případě krácení v ŽoP budete vyzváni dle 14f RP k vrácení dotčených prostředků. Výzva k navrácení dotace je zasílána MZ až po obdržení dopisu z MMR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8:56:53Z</dcterms:created>
  <dc:creator>kobid</dc:creator>
  <dc:description/>
  <dc:language>en-US</dc:language>
  <cp:lastModifiedBy>Grygarová Kateřina, Mgr. Bc.</cp:lastModifiedBy>
  <cp:lastPrinted>2021-03-30T06:05:26Z</cp:lastPrinted>
  <dcterms:modified xsi:type="dcterms:W3CDTF">2023-10-11T14:58:38Z</dcterms:modified>
  <cp:revision>734</cp:revision>
  <dc:subject/>
  <dc:title>Snímek 1</dc:title>
</cp:coreProperties>
</file>