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B3AE-ECF4-47D2-8F33-C9575D3004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20FF-34AC-4285-A718-14D510391FEB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541-87C6-4F00-927F-26178F71DEF9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54C1-0F9E-499D-8BD4-2CC434E24104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52E-4854-4497-A0AD-6321C99F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09A1-E45F-4BBC-8BC7-ABE9B436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B688-3990-4A5A-BD9A-2B050A4A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FE1-A455-40CD-8C48-3D57D39B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AC6-1A9F-4340-93D6-CBB371C9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2E1B-D814-4888-93DC-926BBE23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5555-4F48-41B4-9D9F-F25B2BAB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1ABD-8A3B-4069-AA10-A02E82C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8E2-8B4F-4AD4-9FD2-7AA1FE8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3279-8367-4986-B7B1-8E2BF1B9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6FA-747A-4539-AC08-8E9283D4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E751-C9D0-4757-869E-977EF27D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6CC7-C63B-4F2E-BE51-1AD0C995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BEE5-C7DD-48A7-875E-1FE310B2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1DF-BA49-43CB-924C-0AEAB807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47ED-6F21-4B96-AF32-3E0667D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766E-2195-4876-A202-2B89FEA8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8860-5B4E-45D1-AB75-B94477A6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E0A-4A85-44D7-AD0D-E3337E06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487-2ABF-4C58-84C4-62F8D0A4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1CC-9473-4B3F-B4EA-52F88071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9FC-7317-4448-AB7D-373B0281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5C59-B4C5-41F6-B60A-29799F3A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93FC-B5E2-46BD-9D68-E07E6AE6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B9A3-E7A2-4AF4-92A8-D047F64776B0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720D-346E-470D-B9FF-CFB8AFDF88E2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projekty@mzcr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projektova.kancelar@mzcr.cz" TargetMode="External"/><Relationship Id="rId2" Type="http://schemas.openxmlformats.org/officeDocument/2006/relationships/hyperlink" Target="mailto:projekty@mzcr.cz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Ukončování projektů v rámci REACT-EU a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další aktuality v oblasti EU fondů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84360" y="3363840"/>
            <a:ext cx="7775280" cy="1011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49240" y="18540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-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3" name="TextovéPole 10"/>
          <p:cNvSpPr/>
          <p:nvPr/>
        </p:nvSpPr>
        <p:spPr>
          <a:xfrm>
            <a:off x="993600" y="1413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4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3600" y="1989000"/>
          <a:ext cx="7597800" cy="2051280"/>
        </p:xfrm>
        <a:graphic>
          <a:graphicData uri="http://schemas.openxmlformats.org/drawingml/2006/table">
            <a:tbl>
              <a:tblPr/>
              <a:tblGrid>
                <a:gridCol w="2345040"/>
                <a:gridCol w="1012680"/>
                <a:gridCol w="1011240"/>
                <a:gridCol w="1582920"/>
                <a:gridCol w="164592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komunitní psychiatrické 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Komunitní 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3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41 378 97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znik a modernizace urgentních příjmů 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Urgentní příjm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6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3 739 462 09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8400" rIns="68400" tIns="34200" bIns="34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ochrany veřejného zdrav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Veřejné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9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5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integrované onkologické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Onkolog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467 432 76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-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00000" y="1341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ZDRAVOTNÍ NÁSLEDN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31 (méně rozvinuté regiony) a č. 32 (přechodové regiony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9. 11. 2022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30. 11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rozšíření spektra poskytované následné lůžkov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dostupnosti následné lůžkové péče v regionech s nedostatečným pokrytím – až 80 mil. Kč pro nové poskytovatele – platí pro kraje Karlovarský, Liberecký, Ústecký, Zlínský, Jihočeský a Kraj Vysočina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: 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rehabilitační následná péče 00022, pneumologická a ftizeologická následná péče 00023, následná dětská rehabilitační péče 00027, následná dětská pneumologická péče 00028, následná dětská ostatní péče 00029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ealizovány projekty RÚ Hrabyně, Hamzovy léčebny, Fakultní nemocnice u sv. Ann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99640" y="1052280"/>
            <a:ext cx="770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ROZVOJE A DOSTUPNOSTI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ýzvy č. 71 (méně rozvinuté regiony) a č. 72 (přechodové regiony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16. 2. 2023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Termín ukončení příjmu žádostí o podporu: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8. 2. 2025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– Zvýšení kvality a dostupnosti péče poskytované stávajícími nebo nově vznikajícími konziliárními paliativními týmy v nemocnicí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4e7d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ýše dotace – min. 0,5 mil. Kč,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max. u nových 1,5 mil. Kč, u stávajících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1,0 mil. Kč (v méně rozvinutých regionech) / 0,8 mil. Kč (v 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c00000"/>
                </a:solidFill>
                <a:latin typeface="GillSans"/>
              </a:rPr>
              <a:t>přechodových  regionech)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působilé výdaje – stavby/rekonstrukce zázemí pro nemocničn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aliativní tým a nákup ultrazvukového přístroje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právnění „noví“ žadatelé – oprávnění pro obor paliativní medicína,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ouhlas VZP a druhé „nejsilnější“ pojišťovny v kraji se záměrem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8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paliativní péče ve vlastním sociálním prostředí pacienta prostřednictvím stávajících nebo nově vznikajících poskytovatelů mobilní specializované paliativní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5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– Zvýšení kvality a dostupnosti lůžkové paliativní a hospicové péče prostřednictvím stávajících nebo nově vznikajících poskytovatelů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00000" y="1196640"/>
            <a:ext cx="806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AKUTNÍ A SPECIALIZOVANÉ LŮŽKOVÉ </a:t>
            </a:r>
            <a:br>
              <a:rPr sz="1800"/>
            </a:b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SYCHIATRICKÉ PÉČ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vy č. 56 (méně rozvinuté regiony) a č. 57 (přechodové regiony)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Termín vyhlášení výzvy: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29. 3. 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Postupný posun data zahájení příjmu žádostí – nyní 17.10.2023: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Upřesnění termínu vznik nových lůžek – smlouva s VZP uzavřena </a:t>
            </a:r>
            <a:r>
              <a:rPr b="1" lang="cs-CZ" sz="1600" spc="-1" strike="noStrike">
                <a:solidFill>
                  <a:srgbClr val="c00000"/>
                </a:solidFill>
                <a:latin typeface="GillSans"/>
              </a:rPr>
              <a:t>nejdříve po datu zahájení příjmu žádostí o podporu</a:t>
            </a: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 </a:t>
            </a:r>
            <a:endParaRPr b="0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Ukončení příjmu žádostí – 17.10.2024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A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dětské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B</a:t>
            </a:r>
            <a:r>
              <a:rPr b="0" lang="cs-CZ" sz="17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akutní lůžkové psychiatrické péče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25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Aktivita C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Podpora rozvoje a dostupnosti ochranného léčení se střední úrovní dohledu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0" name="Nadpis 1"/>
          <p:cNvSpPr/>
          <p:nvPr/>
        </p:nvSpPr>
        <p:spPr>
          <a:xfrm>
            <a:off x="1042920" y="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 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4.3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8960" y="116532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c000"/>
                </a:solidFill>
                <a:latin typeface="Arial"/>
                <a:ea typeface="SimSun"/>
              </a:rPr>
              <a:t>PODPORA VZNIKU ZÁKLADNÍ SÍTĚ INFEKČNÍCH KLINIK A ODDĚLENÍ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ýzvy č. 91 (méně rozvinuté regiony), 92 (přechodové regiony) a 93 (ČR – Praha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současné době intenzivně připravována, aby se stihlo plánované vyhláš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listopadu 2023 s předpokládaným zahájením příjmu žádostí v březnu 2024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astavení vychází z Koncepce oboru infekční lékařství schválené Společnosti infekčního lékařství ČLS JEP v roce 2021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 - specifický cíl 1.1 eGovernment a kyberbezpečnost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18960" y="1165320"/>
            <a:ext cx="679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končené výzvy č. 3, 4 a 5 Kyberbezpečnost – v tuto chvíli vydáno Rozhodnutí o poskytnutí dotace pro 13 projekt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zva č. 9 – eGovernment – ukončení příjmu 5.1.2024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ýzvy č. 78, 79 a 80 – eHealth – probíhá snad poslední připomínkové řízení – předpoklad vyhlášení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konec října 2023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990033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33000" y="1267920"/>
            <a:ext cx="7155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Specifický cíl 2.2: k) </a:t>
            </a: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vyšovat rovný a včasný přístup ke kvalitním, udržitelným a cenově dostupným službám, včetně služeb, které podporují přístup k bydlení a individuální péči, včetně zdravotní péče; modernizovat systémy sociální ochrany včetně prosazování přístupu k sociální ochraně se zvláštním důrazem na děti a znevýhodněné skupiny; </a:t>
            </a:r>
            <a:r>
              <a:rPr b="1" lang="cs-CZ" sz="1600" spc="-1" strike="noStrike">
                <a:solidFill>
                  <a:srgbClr val="92d050"/>
                </a:solidFill>
                <a:latin typeface="GillSans"/>
              </a:rPr>
              <a:t>zlepšovat přístupnost, i pro osoby se zdravotním postižením, účinnost a odolnost systémů zdravotní péče a služeb dlouhodobé péče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87" name="Obrázek 2" descr=""/>
          <p:cNvPicPr/>
          <p:nvPr/>
        </p:nvPicPr>
        <p:blipFill>
          <a:blip r:embed="rId1"/>
          <a:stretch/>
        </p:blipFill>
        <p:spPr>
          <a:xfrm>
            <a:off x="1854360" y="3213000"/>
            <a:ext cx="5553000" cy="3327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Zaměstnanost plus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89" name="Zástupný obsah 2" descr=""/>
          <p:cNvPicPr/>
          <p:nvPr/>
        </p:nvPicPr>
        <p:blipFill>
          <a:blip r:embed="rId1"/>
          <a:stretch/>
        </p:blipFill>
        <p:spPr>
          <a:xfrm>
            <a:off x="1195560" y="1163520"/>
            <a:ext cx="7272000" cy="557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1233360" y="1773360"/>
          <a:ext cx="7010640" cy="3298680"/>
        </p:xfrm>
        <a:graphic>
          <a:graphicData uri="http://schemas.openxmlformats.org/drawingml/2006/table">
            <a:tbl>
              <a:tblPr/>
              <a:tblGrid>
                <a:gridCol w="1702080"/>
                <a:gridCol w="977760"/>
                <a:gridCol w="1326960"/>
                <a:gridCol w="1187640"/>
                <a:gridCol w="1816200"/>
              </a:tblGrid>
              <a:tr h="39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Číslo výzv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Ukončení příjmu žádost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Typ příjemc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rojekt příklad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352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reventivní programy, zdravotní gramotnost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0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31. srp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, SZÚ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ÚZIS - Národní program prevence obezity dětí – BE FIT 24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péče o duševní zdrav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31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8. prosince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NÚDZ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Prevence a podpora duševního zdraví dospělé populace v ČR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vzdělávání zdravotnických pracovníků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5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13. října 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IPVZ - Jazyková a odborná příprava zdravotnických pracovníků ze zahraničí 1,2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85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Zkvalitnění zdravotních služeb - zdravotní služby, integrace sociální a zdravotní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03_22_046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29. ledna 2024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, ÚZIS, NCO NZ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002060"/>
                          </a:solidFill>
                          <a:latin typeface="GillSans"/>
                        </a:rPr>
                        <a:t>MZ ČR - Návrh systému komplexní sdílené zdravotně-sociální péče o pacienty se vzácnými onemocněními – SYPOVO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Jan Amos Komenský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33360" y="1196640"/>
            <a:ext cx="7299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Řídicí orgán: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Ministerstvo školství, mládeže a tělovýchovy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ová alokace: </a:t>
            </a: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90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92d050"/>
                </a:solidFill>
                <a:latin typeface="GillSans"/>
              </a:rPr>
              <a:t>Priorita 1: Výzkum a vývoj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2_008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Špičkový výzkum – ukončena k 16.1.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ealizace špičkových výzkumných záměrů, které dosáhnou svou kvalitou a originalitou mezinárodní excelence (ukončení příjmu žádostí 16. 1 .2023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za 8 mld. Kč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21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Mezisektorová spolupráce pro ITI – do 28.2.2025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Rozvoj kapacit výzkumných týmů, navázání strategického partnerství a posílení dlouhodobé mezisektorové spolupráce výzkumných organizací s aplikačním sférou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2, 52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c00000"/>
                </a:solidFill>
                <a:latin typeface="GillSans"/>
              </a:rPr>
              <a:t>Výzva 02_23_015 </a:t>
            </a: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Výzkumné infrastruktury I – ukončena k 25.8.2023 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25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3d61"/>
                </a:solidFill>
                <a:latin typeface="GillSans"/>
              </a:rPr>
              <a:t>Podpora rozvoje infrastrukturní základny pro oblast výzkumu, vývoje a inovací v ČR - modernizace velkých výzkumných infrastruktur (investice do klíčového vybavení) – </a:t>
            </a:r>
            <a:r>
              <a:rPr b="1" lang="cs-CZ" sz="1700" spc="-1" strike="noStrike">
                <a:solidFill>
                  <a:srgbClr val="003d61"/>
                </a:solidFill>
                <a:latin typeface="GillSans"/>
              </a:rPr>
              <a:t>celkem 3 mld. Kč</a:t>
            </a:r>
            <a:endParaRPr b="1" lang="en-US" sz="17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Operační program Jan Amos Komenský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Priorita 2: Vzděl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síme o informaci ohledně plánovaného předložení projektového záměru do výzev OP JAK předem na e-mail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y@mzcr.cz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Aktuality v oblasti 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EU fondů - programové období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2021-2027 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ĚKUJI ZA POZORNOST!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https://projektovakancelar.mzcr.cz/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projektova.kancelar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2"/>
              </a:rPr>
              <a:t>projekty@mzcr.cz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Obrázek 6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7777440" cy="5732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Schéma možností podpory ze zdrojů EU – NPO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33360" y="1600200"/>
            <a:ext cx="679464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Obrázek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8351640" cy="5322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le Ministerstva zdravotnictví v období 2021+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3336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Odborný garant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slušných specifických cílů Integrovaného regionálního operačního programu 2021–2027 a Operačního programu Zaměstnanost plus – příprava podkladů pro výzvy, hodnocení projekt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Poskytovatel dotace pro příspěvkové organiz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 rámci všech nástrojů, pokud není zákonem umožněno poskytnout dotaci přímo – tj. poskytovatel dotace v rámci IROP </a:t>
            </a:r>
            <a:br>
              <a:rPr sz="2000"/>
            </a:b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21–2027, OPZ+, OP ŽP, NPO komponenty zejména 1.1, 1.2, 3.3; 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Realizátor systémových projektů resortu</a:t>
            </a:r>
            <a:r>
              <a:rPr b="0" lang="cs-CZ" sz="2000" spc="-1" strike="noStrike">
                <a:solidFill>
                  <a:srgbClr val="92d050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v tuto chvíli realizován projekt OPZ+ </a:t>
            </a:r>
            <a:r>
              <a:rPr b="0" i="1" lang="cs-CZ" sz="2000" spc="-1" strike="noStrike">
                <a:solidFill>
                  <a:srgbClr val="003d61"/>
                </a:solidFill>
                <a:latin typeface="GillSans"/>
              </a:rPr>
              <a:t>Návrh systému komplexní sdílené zdravotně-sociální péče o pacienty se vzácnými onemocněními – SYPOVO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Vlastník komponent 6.1 a 6.2 Národního plánu obnovy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– MZ je </a:t>
            </a: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Řídicím orgánem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zajišťuje vyhlašování výzev a administraci projekt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Role Ministerstva zdravotnictví v období 2021+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33360" y="134100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Realizátor projektů resort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- CZ.06.7.127/0.0/0.0/21_126/0017003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jekt „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Publicita REACT-EU v resortu zdravotnictví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“  - CZ.06.7.127/0.0/0.0/21_126/0017552 – probíhá zakázka – dodavatel EVERESTA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2d050"/>
                </a:solidFill>
                <a:latin typeface="GillSans"/>
              </a:rPr>
              <a:t> 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kaz ministra č. 11/2022 </a:t>
            </a: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Postup pro předkládání, realizaci a administraci projektů přímo řízených organizací MZ financovaných ze zdrojů EU  a finančních mechanismů</a:t>
            </a:r>
            <a:endParaRPr b="1" lang="en-US" sz="1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11.10.2023 zaevidováno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27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ových záměrů, z toho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yp 1 – pro informaci, není financováno ze strany MZ –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9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ových záměrů (Horizon Europe – 37, EU4Health – 11, Interreg Central Europe – 2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Typ 3 –financování by mělo probíhat ze strany MZ - 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18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 jen k Integrovanému regionálnímu operačnímu programu 2021-2027 –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46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íkaz ministra č. 11/2022 Postup pro předkládání, realizaci a administraci projektů přímo řízených organizací MZ financovaných ze zdrojů EU  a finančních mechanismů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33360" y="1197000"/>
            <a:ext cx="6794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 11.10.2023 vydáno ze strany MZ v rámci programového období 2021-2027 Stanovení výdajů/Rozhodnutí o poskytnutí dotace k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42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projektům (v rámci Národního plánu obnovy pak </a:t>
            </a:r>
            <a:r>
              <a:rPr b="1" lang="cs-CZ" sz="2000" spc="-1" strike="noStrike">
                <a:solidFill>
                  <a:srgbClr val="990033"/>
                </a:solidFill>
                <a:latin typeface="GillSans"/>
              </a:rPr>
              <a:t>15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Rozhodnutí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pic>
        <p:nvPicPr>
          <p:cNvPr id="166" name="Graf 3" descr=""/>
          <p:cNvPicPr/>
          <p:nvPr/>
        </p:nvPicPr>
        <p:blipFill>
          <a:blip r:embed="rId1"/>
          <a:stretch/>
        </p:blipFill>
        <p:spPr>
          <a:xfrm>
            <a:off x="871560" y="2639880"/>
            <a:ext cx="7516800" cy="4351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6920" y="228240"/>
            <a:ext cx="788688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Integrovaný regionální operační program 2021-202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Přehled výzev – specifický cíl 4.3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TextovéPole 2"/>
          <p:cNvSpPr/>
          <p:nvPr/>
        </p:nvSpPr>
        <p:spPr>
          <a:xfrm>
            <a:off x="826920" y="14842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Vyhlášené výzvy 2022/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57240" y="1989000"/>
          <a:ext cx="7597800" cy="1928880"/>
        </p:xfrm>
        <a:graphic>
          <a:graphicData uri="http://schemas.openxmlformats.org/drawingml/2006/table">
            <a:tbl>
              <a:tblPr/>
              <a:tblGrid>
                <a:gridCol w="2359080"/>
                <a:gridCol w="1255680"/>
                <a:gridCol w="1655640"/>
                <a:gridCol w="2327400"/>
              </a:tblGrid>
              <a:tr h="28260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549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zdravotní následné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Následná péč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99 744 781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>
                      <a:noFill/>
                    </a:lnB>
                    <a:solidFill>
                      <a:srgbClr val="e7e8ea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paliativní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aliati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280 459 657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rozvoje a dostupnosti akutní a specializované lůžkové psychiatrické  péče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sychiatrie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700 000 000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  <p:sp>
        <p:nvSpPr>
          <p:cNvPr id="170" name="TextovéPole 1"/>
          <p:cNvSpPr/>
          <p:nvPr/>
        </p:nvSpPr>
        <p:spPr>
          <a:xfrm>
            <a:off x="790560" y="414972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2d050"/>
                </a:solidFill>
                <a:latin typeface="GillSans"/>
              </a:rPr>
              <a:t>Plánované vyhlášení výzev 202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57240" y="4749840"/>
          <a:ext cx="7596360" cy="831960"/>
        </p:xfrm>
        <a:graphic>
          <a:graphicData uri="http://schemas.openxmlformats.org/drawingml/2006/table">
            <a:tbl>
              <a:tblPr/>
              <a:tblGrid>
                <a:gridCol w="2344680"/>
                <a:gridCol w="1011240"/>
                <a:gridCol w="1011240"/>
                <a:gridCol w="1582920"/>
                <a:gridCol w="1646280"/>
              </a:tblGrid>
              <a:tr h="304920">
                <a:tc>
                  <a:txBody>
                    <a:bodyPr lIns="68400" rIns="68400" tIns="34200" bIns="342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ýzva - zkráceně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Plánovaný termín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Celkem alokace EFRR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Územní zaměření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003d61"/>
                    </a:solidFill>
                  </a:tcPr>
                </a:tc>
              </a:tr>
              <a:tr h="700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odpora vzniku základní sítě infekčních klinik a oddělení 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Infekční klinik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c00000"/>
                          </a:solidFill>
                          <a:latin typeface="GillSans"/>
                        </a:rPr>
                        <a:t>11/2023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1 837 163 806 Kč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řechodov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Méně rozvinuté regiony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3d61"/>
                          </a:solidFill>
                          <a:latin typeface="GillSans"/>
                        </a:rPr>
                        <a:t>Praha</a:t>
                      </a:r>
                      <a:endParaRPr b="0" lang="en-US" sz="10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3d61"/>
                      </a:solidFill>
                    </a:lnT>
                    <a:lnB w="12240">
                      <a:solidFill>
                        <a:srgbClr val="003d61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Marková Kateřina, Ing.</cp:lastModifiedBy>
  <cp:lastPrinted>2023-10-11T12:15:03Z</cp:lastPrinted>
  <dcterms:modified xsi:type="dcterms:W3CDTF">2023-10-17T06:33:37Z</dcterms:modified>
  <cp:revision>1112</cp:revision>
  <dc:subject/>
  <dc:title>Snímek 1</dc:title>
</cp:coreProperties>
</file>