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1E27-D3ED-49C7-9871-8AB861817D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E810-69BF-4B3A-A730-27D5D0111555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7A6-EA1D-4F9E-8C81-A2852F1B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6EC-9126-40AD-B83E-4E41B182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8F1-9EEE-412F-BE07-8B6AC62D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A48-C0EB-440A-AD07-61164B06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145-A570-4CEA-B36B-0A4E714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A913-DE9B-41E6-89FD-068804D4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D4D1-2410-4BF5-84A2-C39115C0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B36-76A5-438C-B1E3-DE8F9D0C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650A-BBD3-45C7-A4BE-3C1D2D3D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145-7658-4A87-A1AE-3929CD9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291-C6D0-45D3-B66E-686F2ED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3FA-626B-4C50-A88C-89FD72ED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0B6D-242A-4E0D-85E8-AE6BB853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A34C-5D9C-4983-B567-2C29A7E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C709-BBD5-480B-9D3A-4437C47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DA1A-45D1-460E-ADAD-B905786B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FED9-34BA-48A1-99BC-B1E27682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38B-BCD3-462F-80CA-78958EA2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2C3-ADE9-4933-9B52-E72D23E5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378-0401-4E81-AFA0-6375D2BA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A66-AFBD-4856-9129-B49A868A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72F-5D98-40EB-B518-27E3753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8C5-1D70-48F1-A9CF-FB956694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BCB-392E-47D4-973A-F32BDC9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8ED5-A7C7-428D-AA2E-4C29FC995432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83D-2359-4D46-9751-EB6E5AFB1020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Aktuality v oblasti strukturálních fondů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7. červ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820872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 EU – Vydání změnové řídicí dokumen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45960" y="1628280"/>
            <a:ext cx="701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Schválené změny je nutno dle nařízení ministra č. 11/2022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hlásit na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s vlivem na Dopis ředitele MM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termínu realiza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indikátor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e zdrojích financování (i vlastní zdroje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- tištěné RoD zasílané příjemc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schválené pouze v systému ISKP 2014+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1. Přesun v položkách rozpočtu – INVESTICE vs NEINVESTI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- tištěné RoD zasílané příjemc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2. Změna etapizace, jména kontaktních osob a přesun zdrojů mezi lety  – technické RoD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 EU – financování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Žádost o uvolnění finančních prostředků a podklady zasílat nejlépe v jednom souboru na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žadované podklady: faktura, dodací list, košilka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 zaúčtování, smlouva včetně dodatků/objednávka, předávací protokol, soupis prac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případě přenesené daňové povinnosti bude DPH uhrazeno až po doložení daňového přizn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šechny podklady musí mít zřetelné označení čísla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DOFINANCOVÁNÍ PROJEKTU BUDE UMOŽNĚNO I V ROCE 2024 POKUD ČERPÁNÍ SPLNÍ PODMÍNKU ZPŮSOBILOSTI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(ÚHRADA BUDE DOLOŽENA DO 31. 12. 2023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 EU – ukončení projekt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věrečné vyhodnocení akce bude vydáno až po schválení závěrečné zprávy o realizaci. Zdroje financování musí odpovídat částkám uvedených v ISKP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- je zasílána tabulka a formulář R 09 199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případě krácení v ŽoP budete vyzváni dle 14f RP k vrácení dotčených prostředků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ČETNĚ SR PODÍL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(Vratka je i v případě, že Vám MZ nezaslalo prostředky dotčené krácením. MZ prostředky musí uhradit, jinak by nebyla dodržena podmínka „vratky dotace“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, Ing.</cp:lastModifiedBy>
  <cp:lastPrinted>2021-03-30T06:05:26Z</cp:lastPrinted>
  <dcterms:modified xsi:type="dcterms:W3CDTF">2023-06-26T12:49:29Z</dcterms:modified>
  <cp:revision>702</cp:revision>
  <dc:subject/>
  <dc:title>Snímek 1</dc:title>
</cp:coreProperties>
</file>