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BB5B-8CE6-4F28-87A3-6085207E04A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16D2-407D-42D5-B1DA-25048C75E521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ADFA-8D3F-44E5-9AA1-B40A22955C20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07C3-6918-4EC0-B899-46BA1CD095FC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390A-2388-4028-A888-6EDD65CFF406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E38C-F781-44D3-97F9-1E4A379E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796-53BD-4062-97AE-8914E3FA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95E-B127-4565-963F-8193D3E0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4A7-4E4C-4A31-919F-448F870B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5F02-C9BB-47B5-A2DC-4140AAFF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5EE1-F6D9-4C76-8B4D-EDD98914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9D5E-C9BA-4593-9F77-CDE55A22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A3FF-4022-43E3-AE9F-EB1C298F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D956-7182-4317-9583-DCCC2644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CF96-84FE-4264-A1D3-F07FDF60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302-E24B-4D65-A2DD-465B3FC2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DA22-9E04-47A9-A22F-8CB0BF26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43D8-C634-4C5C-967C-C1522C68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AF79-1E58-4434-887E-CDAAACBD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0F8F-831B-4686-B0A8-24B73530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2171-713B-4EFF-A863-FA1EF0B8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046B-50B3-48ED-AEB5-C4B0A6E3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14A2-C650-4029-931B-2A75EFEF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7AE-96B6-4B58-9A67-91434CD8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921-FF39-44E3-A2B6-DBC5F3C9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9C3-A35E-483C-95AD-AF4A0F95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4F1-8B21-483D-A6CD-6AE56050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376-75E7-487E-A059-38F5D1F8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B63-2C11-48DD-AC60-C87067D1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8E73-4162-4EB7-BD0C-0E812627E125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F10A-AC04-4C44-B6E5-87689B199EF5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projekty@mzcr.cz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projektova.kancelar@mzcr.cz" TargetMode="External"/><Relationship Id="rId2" Type="http://schemas.openxmlformats.org/officeDocument/2006/relationships/hyperlink" Target="mailto:projekty@mzcr.cz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-13032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42920" y="3212640"/>
            <a:ext cx="6337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6920" y="1197000"/>
            <a:ext cx="74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Aktuality v oblasti strukturálních fondů 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27. června 2023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jekt „Zajištění administrativních kapacit MZ ČR pro REACT-EU“ CZ.06.7.127/0.0/0.0/21_126/0017003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Obrázek 5" descr=""/>
          <p:cNvPicPr/>
          <p:nvPr/>
        </p:nvPicPr>
        <p:blipFill>
          <a:blip r:embed="rId1"/>
          <a:stretch/>
        </p:blipFill>
        <p:spPr>
          <a:xfrm>
            <a:off x="684360" y="2781360"/>
            <a:ext cx="8208720" cy="1066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920" y="228240"/>
            <a:ext cx="788688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ehled výzev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5" name="TextovéPole 2"/>
          <p:cNvSpPr/>
          <p:nvPr/>
        </p:nvSpPr>
        <p:spPr>
          <a:xfrm>
            <a:off x="826920" y="148428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Vyhlášené výzvy 2022/2023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57240" y="1989000"/>
          <a:ext cx="7597800" cy="1928880"/>
        </p:xfrm>
        <a:graphic>
          <a:graphicData uri="http://schemas.openxmlformats.org/drawingml/2006/table">
            <a:tbl>
              <a:tblPr/>
              <a:tblGrid>
                <a:gridCol w="2359080"/>
                <a:gridCol w="1255680"/>
                <a:gridCol w="1655640"/>
                <a:gridCol w="2327400"/>
              </a:tblGrid>
              <a:tr h="22104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 - zkráceně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Celkem alokace EFRR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Územní zaměřen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rozvoje a dostupnosti zdravotní následné péč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Následná péč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 899 744 781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rozvoje a dostupnosti paliativní péče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aliativ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280 459 657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0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rozvoje a dostupnosti akutní a specializované lůžkové psychiatrické  péče – </a:t>
                      </a: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úprava 20. 6. 2023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sychiatri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700 000 000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  <p:sp>
        <p:nvSpPr>
          <p:cNvPr id="177" name="TextovéPole 1"/>
          <p:cNvSpPr/>
          <p:nvPr/>
        </p:nvSpPr>
        <p:spPr>
          <a:xfrm>
            <a:off x="790560" y="4149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Plánované vyhlášení výzev 2023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57240" y="4749840"/>
          <a:ext cx="7596360" cy="831960"/>
        </p:xfrm>
        <a:graphic>
          <a:graphicData uri="http://schemas.openxmlformats.org/drawingml/2006/table">
            <a:tbl>
              <a:tblPr/>
              <a:tblGrid>
                <a:gridCol w="2344680"/>
                <a:gridCol w="1011240"/>
                <a:gridCol w="1011240"/>
                <a:gridCol w="1582920"/>
                <a:gridCol w="1646280"/>
              </a:tblGrid>
              <a:tr h="30492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 - zkráceně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Plánovaný termín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Celkem alokace EFRR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Územní zaměřen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</a:tr>
              <a:tr h="700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vzniku základní sítě infekčních klinik a oddělení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Infekční klinik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11/2023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 837 163 806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ah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49240" y="185400"/>
            <a:ext cx="788688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ehled výzev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0" name="TextovéPole 10"/>
          <p:cNvSpPr/>
          <p:nvPr/>
        </p:nvSpPr>
        <p:spPr>
          <a:xfrm>
            <a:off x="993600" y="1413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Plánované vyhlášení výzev 2024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3600" y="1989000"/>
          <a:ext cx="7597800" cy="2051280"/>
        </p:xfrm>
        <a:graphic>
          <a:graphicData uri="http://schemas.openxmlformats.org/drawingml/2006/table">
            <a:tbl>
              <a:tblPr/>
              <a:tblGrid>
                <a:gridCol w="2345040"/>
                <a:gridCol w="1012680"/>
                <a:gridCol w="1011240"/>
                <a:gridCol w="1582920"/>
                <a:gridCol w="1645920"/>
              </a:tblGrid>
              <a:tr h="30492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 - zkráceně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Plánovaný termín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Celkem alokace EFRR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Územní zaměřen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</a:tr>
              <a:tr h="457200"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rozvoje a dostupnosti komunitní psychiatrické  péče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Komunitní psychiatri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3/2024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41 378 970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</a:tr>
              <a:tr h="457200"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Vznik a modernizace urgentních příjmů ČR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Urgentní příjm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6/2024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3 739 462 090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ah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ochrany veřejného zdraví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Veřejné zdrav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9/2024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500 000 000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ah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integrované onkologické péče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Onkologi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11/2024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467 432 761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00000" y="1341360"/>
            <a:ext cx="763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  <a:ea typeface="SimSun"/>
              </a:rPr>
              <a:t>PODPORA ROZVOJE A DOSTUPNOSTI ZDRAVOTNÍ NÁSLEDNÉ PÉČ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ýzvy č. 31 (MRR) a č. 32 (PR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Termín vyhlášení výzvy: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29. 11. 2022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Termín ukončení příjmu žádostí o podporu: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30. 11. 2023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Aktivita A</a:t>
            </a:r>
            <a:r>
              <a:rPr b="0" lang="cs-CZ" sz="18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– Zvýšení kvality a rozšíření spektra poskytované následné lůžkové péč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Aktivita B</a:t>
            </a:r>
            <a:r>
              <a:rPr b="0" lang="cs-CZ" sz="18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– Zvýšení dostupnosti následné lůžkové péče v regionech s nedostatečným pokrytím – až 80 mil. Kč pro nové poskytovatele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D: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rehabilitační následná péče 00022, pneumologická a ftizeologická následná péče 00023, následná dětská rehabilitační péče 00027, následná dětská pneumologická péče 00028, následná dětská ostatní péče 00029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99640" y="1052280"/>
            <a:ext cx="7704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  <a:ea typeface="SimSun"/>
              </a:rPr>
              <a:t>PODPORA ROZVOJE A DOSTUPNOSTI PALIATIVNÍ PÉČ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ýzvy č. 71 (MRR) a č. 72 (PR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Termín vyhlášení výzvy: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16. 2. 2023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Termín ukončení příjmu žádostí o podporu: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28. 2. 2025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Aktivita A</a:t>
            </a:r>
            <a:r>
              <a:rPr b="0" lang="cs-CZ" sz="18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– Zvýšení kvality a dostupnosti péče poskytované stávajícími nebo nově vznikajícími konziliárními paliativními týmy v nemocnicích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e7d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Výše dotace – min. 0,5 mil. Kč, max. u nových 1,5 mil. Kč, u stávajících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1,0 mil. Kč (v méně rozvinutých regionech) / 0,8 mil. Kč (v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přechodových  regionech)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působilé výdaje – stavby/rekonstrukce zázemí pro nemocniční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paliativní tým a nákup ultrazvukového přístroje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právnění „noví“ žadatelé – oprávnění pro obor paliativní medicína,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souhlas VZP a druhé „nejsilnější“ pojišťovny v kraji se záměrem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Aktivita B</a:t>
            </a:r>
            <a:r>
              <a:rPr b="0" lang="cs-CZ" sz="18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– Zvýšení kvality a dostupnosti paliativní péče ve vlastním sociálním prostředí pacienta prostřednictvím stávajících nebo nově vznikajících poskytovatelů mobilní specializované paliativní péč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Aktivita C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– Zvýšení kvality a dostupnosti lůžkové paliativní a hospicové péče prostřednictvím stávajících nebo nově vznikajících poskytovatelů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900000" y="1196640"/>
            <a:ext cx="806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  <a:ea typeface="SimSun"/>
              </a:rPr>
              <a:t>PODPORA AKUTNÍ A SPECIALIZOVANÉ LŮŽKOVÉ </a:t>
            </a:r>
            <a:br>
              <a:rPr sz="1800"/>
            </a:br>
            <a:r>
              <a:rPr b="1" lang="cs-CZ" sz="1800" spc="-1" strike="noStrike">
                <a:solidFill>
                  <a:srgbClr val="ffc000"/>
                </a:solidFill>
                <a:latin typeface="Arial"/>
                <a:ea typeface="SimSun"/>
              </a:rPr>
              <a:t>PSYCHIATRICKÉ PÉČ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Výzvy č. 56 (MRR) a č. 57 (PR)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Termín vyhlášení výzvy: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29. 3. 2023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c00000"/>
                </a:solidFill>
                <a:latin typeface="GillSans"/>
              </a:rPr>
              <a:t>Revize výzvy dne 20. 6. 2023: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změna kritérií pro dětskou akutní lůžkovou psychiatrickou péči</a:t>
            </a:r>
            <a:endParaRPr b="0" lang="en-US" sz="17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aktualizovány Podklady pro vydání stanoviska Ministerstva zdravotnictví, aktualizace finančních limitů u stavebních projektů</a:t>
            </a:r>
            <a:endParaRPr b="0" lang="en-US" sz="17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posun data zahájení příjmu žádostí a zpřístupnění formuláře žádostí o podporu v MS2021+ na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12. 9. 2023</a:t>
            </a:r>
            <a:endParaRPr b="0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Termín ukončení příjmu žádostí o podporu: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12. 9. 2024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25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Aktivita A</a:t>
            </a:r>
            <a:r>
              <a:rPr b="0" lang="cs-CZ" sz="17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Podpora rozvoje a dostupnosti dětské akutní lůžkové psychiatrické péče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25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Aktivita B</a:t>
            </a:r>
            <a:r>
              <a:rPr b="0" lang="cs-CZ" sz="17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Podpora rozvoje a dostupnosti akutní lůžkové psychiatrické péče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25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Aktivita C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Podpora rozvoje a dostupnosti ochranného léčení se střední úrovní dohledu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7" name="Nadpis 1"/>
          <p:cNvSpPr/>
          <p:nvPr/>
        </p:nvSpPr>
        <p:spPr>
          <a:xfrm>
            <a:off x="104292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Zaměstnanost plus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233000" y="1366920"/>
            <a:ext cx="7155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Řídicí orgán: Ministerstvo práce a sociálních věcí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Celková alokace: </a:t>
            </a:r>
            <a:r>
              <a:rPr b="1" lang="cs-CZ" sz="1800" spc="-1" strike="noStrike">
                <a:solidFill>
                  <a:srgbClr val="c00000"/>
                </a:solidFill>
                <a:latin typeface="GillSans"/>
              </a:rPr>
              <a:t>cca 49 mld. Kč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Calibri"/>
                <a:ea typeface="Times New Roman"/>
              </a:rPr>
              <a:t>Alokace pro zdravotnictví:</a:t>
            </a:r>
            <a:r>
              <a:rPr b="1" lang="cs-CZ" sz="1800" spc="-1" strike="noStrike">
                <a:solidFill>
                  <a:srgbClr val="92d050"/>
                </a:solidFill>
                <a:latin typeface="Calibri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c00000"/>
                </a:solidFill>
                <a:latin typeface="GillSans"/>
              </a:rPr>
              <a:t>cca 2,7 mld. Kč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ůběžně vyhlašované systémové výzvy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Mohou být financovány pouze neinvestiční „tzv. měkké“ finanční projekty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Max. výše dotace 60 mil. Kč u systémového projektu, doba trvání projektu max. 3 roky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90" name="Obrázek 3" descr=""/>
          <p:cNvPicPr/>
          <p:nvPr/>
        </p:nvPicPr>
        <p:blipFill>
          <a:blip r:embed="rId1"/>
          <a:stretch/>
        </p:blipFill>
        <p:spPr>
          <a:xfrm>
            <a:off x="6084720" y="5805360"/>
            <a:ext cx="2419560" cy="63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Zaměstnanost plus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33000" y="1267920"/>
            <a:ext cx="7155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92d050"/>
                </a:solidFill>
                <a:latin typeface="GillSans"/>
              </a:rPr>
              <a:t>Specifický cíl 2.2: k) </a:t>
            </a: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zvyšovat rovný a včasný přístup ke kvalitním, udržitelným a cenově dostupným službám, včetně služeb, které podporují přístup k bydlení a individuální péči, včetně zdravotní péče; modernizovat systémy sociální ochrany včetně prosazování přístupu k sociální ochraně se zvláštním důrazem na děti a znevýhodněné skupiny; </a:t>
            </a:r>
            <a:r>
              <a:rPr b="1" lang="cs-CZ" sz="1600" spc="-1" strike="noStrike">
                <a:solidFill>
                  <a:srgbClr val="92d050"/>
                </a:solidFill>
                <a:latin typeface="GillSans"/>
              </a:rPr>
              <a:t>zlepšovat přístupnost, i pro osoby se zdravotním postižením, účinnost a odolnost systémů zdravotní péče a služeb dlouhodobé péče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93" name="Obrázek 2" descr=""/>
          <p:cNvPicPr/>
          <p:nvPr/>
        </p:nvPicPr>
        <p:blipFill>
          <a:blip r:embed="rId1"/>
          <a:stretch/>
        </p:blipFill>
        <p:spPr>
          <a:xfrm>
            <a:off x="1854360" y="3213000"/>
            <a:ext cx="5553000" cy="3327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Zaměstnanost plus 2021-2027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ehled výzev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95" name="Zástupný obsah 2" descr=""/>
          <p:cNvPicPr/>
          <p:nvPr/>
        </p:nvPicPr>
        <p:blipFill>
          <a:blip r:embed="rId1"/>
          <a:stretch/>
        </p:blipFill>
        <p:spPr>
          <a:xfrm>
            <a:off x="1195560" y="1163520"/>
            <a:ext cx="7272000" cy="557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1233360" y="1773360"/>
          <a:ext cx="7010640" cy="3298680"/>
        </p:xfrm>
        <a:graphic>
          <a:graphicData uri="http://schemas.openxmlformats.org/drawingml/2006/table">
            <a:tbl>
              <a:tblPr/>
              <a:tblGrid>
                <a:gridCol w="1702080"/>
                <a:gridCol w="977760"/>
                <a:gridCol w="1326960"/>
                <a:gridCol w="1187640"/>
                <a:gridCol w="1816200"/>
              </a:tblGrid>
              <a:tr h="39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35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Číslo výzv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35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Ukončení příjmu žádost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35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Typ příjemc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35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Projekt příklad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352"/>
                    </a:solidFill>
                  </a:tcPr>
                </a:tc>
              </a:tr>
              <a:tr h="85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Zkvalitnění zdravotních služeb - preventivní programy, zdravotní gramotnost – </a:t>
                      </a: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revize</a:t>
                      </a: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 </a:t>
                      </a: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12. 6. 2023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03_22_005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31. srpna 2023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ÚZIS, SZÚ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ÚZIS - Národní program prevence obezity dětí – BE FIT 24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Zkvalitnění zdravotních služeb - péče o duševní zdrav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03_22_031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18. prosince 2023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NÚDZ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Prevence a podpora duševního zdraví dospělé populace v ČR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Zkvalitnění zdravotních služeb - vzdělávání zdravotnických pracovníků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03_22_045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13. října 2023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IPVZ, NCO NZO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IPVZ - Jazyková a odborná příprava zdravotnických pracovníků ze zahraničí 1,2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</a:tr>
              <a:tr h="85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Zkvalitnění zdravotních služeb - zdravotní služby, integrace sociální a zdravotní péč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03_22_046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29. ledna 2024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MZ ČR, ÚZIS, NCO NZO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MZ ČR - Návrh systému komplexní sdílené zdravotně-sociální péče o pacienty se vzácnými onemocněními – SYPOVO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Jan Amos Komenský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33360" y="1196640"/>
            <a:ext cx="7299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Řídicí orgán: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Ministerstvo školství, mládeže a tělovýchovy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Celková alokace: </a:t>
            </a: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90 mld. Kč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Priorita 1: Výzkum a vývoj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c00000"/>
                </a:solidFill>
                <a:latin typeface="GillSans"/>
              </a:rPr>
              <a:t>Výzva 02_22_008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Špičkový výzkum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Podpora realizace špičkových výzkumných záměrů, které dosáhnou svou kvalitou a originalitou mezinárodní excelence (ukončení příjmu žádostí 16. 1 .2023) 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celkem za 8 mld. Kč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c00000"/>
                </a:solidFill>
                <a:latin typeface="GillSans"/>
              </a:rPr>
              <a:t>Výzva 02_23_021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Mezisektorová spolupráce pro ITI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Rozvoj kapacit výzkumných týmů, navázání strategického partnerství a posílení dlouhodobé mezisektorové spolupráce výzkumných organizací s aplikačním sférou 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celkem 2, 52 mld. Kč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c00000"/>
                </a:solidFill>
                <a:latin typeface="GillSans"/>
              </a:rPr>
              <a:t>Výzva 02_23_015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Výzkumné infrastruktury I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Podpora rozvoje infrastrukturní základny pro oblast výzkumu, vývoje a inovací v ČR - modernizace velkých výzkumných infrastruktur (investice do klíčového vybavení) 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celkem 3 mld. Kč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Prosíme o informaci ohledně plánovaného předložení projektového záměru do výzev OP JAK předem na e-mail </a:t>
            </a:r>
            <a:r>
              <a:rPr b="1" lang="cs-CZ" sz="17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projekty@mzcr.cz</a:t>
            </a: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Priorita 2: Vzdělávání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4680" y="2376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Komunitární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programy EU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47640" y="1196640"/>
            <a:ext cx="7848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28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  <a:ea typeface="Calibri"/>
              </a:rPr>
              <a:t>EU4Health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542880" algn="just">
              <a:spcBef>
                <a:spcPts val="11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  <a:ea typeface="Calibri"/>
              </a:rPr>
              <a:t>Hlavní finanční nástroj pro realizaci cílů EU v oblasti veřejného zdraví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542880" algn="just">
              <a:spcBef>
                <a:spcPts val="11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  <a:ea typeface="Calibri"/>
              </a:rPr>
              <a:t>Program EU4Health je řízen agenturou Evropské komise s názvem HaDEA (European Health and Digital Executive Agency)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542880" algn="just">
              <a:spcBef>
                <a:spcPts val="11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  <a:ea typeface="Calibri"/>
              </a:rPr>
              <a:t>Program je financován přímo z rozpočtu EU 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542880" algn="just">
              <a:spcBef>
                <a:spcPts val="11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  <a:ea typeface="Calibri"/>
              </a:rPr>
              <a:t>Rozpočet programu činí </a:t>
            </a:r>
            <a:r>
              <a:rPr b="1" lang="cs-CZ" sz="1600" spc="-1" strike="noStrike">
                <a:solidFill>
                  <a:srgbClr val="003d61"/>
                </a:solidFill>
                <a:latin typeface="GillSans"/>
                <a:ea typeface="Calibri"/>
              </a:rPr>
              <a:t>5,3 miliard EUR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542880" algn="just">
              <a:spcBef>
                <a:spcPts val="11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  <a:ea typeface="Calibri"/>
              </a:rPr>
              <a:t>Participace ČR v rámci mezinárodních konsorcií (6 schválených projektů)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5428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  <a:ea typeface="Calibri"/>
              </a:rPr>
              <a:t>HORIZON</a:t>
            </a:r>
            <a:r>
              <a:rPr b="1" lang="cs-CZ" sz="1600" spc="-1" strike="noStrike">
                <a:solidFill>
                  <a:srgbClr val="92d050"/>
                </a:solidFill>
                <a:latin typeface="GillSans"/>
                <a:ea typeface="Calibri"/>
              </a:rPr>
              <a:t> </a:t>
            </a:r>
            <a:r>
              <a:rPr b="1" lang="cs-CZ" sz="1800" spc="-1" strike="noStrike">
                <a:solidFill>
                  <a:srgbClr val="92d050"/>
                </a:solidFill>
                <a:latin typeface="GillSans"/>
                <a:ea typeface="Calibri"/>
              </a:rPr>
              <a:t>EUROPE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542880" algn="just">
              <a:spcBef>
                <a:spcPts val="11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  <a:ea typeface="Calibri"/>
              </a:rPr>
              <a:t>Hlavní rámcový program EU pro výzkum a inovace na období 2021–2027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542880" algn="just">
              <a:spcBef>
                <a:spcPts val="11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  <a:ea typeface="Calibri"/>
              </a:rPr>
              <a:t>Rozpočet programu činí </a:t>
            </a:r>
            <a:r>
              <a:rPr b="1" lang="cs-CZ" sz="1600" spc="-1" strike="noStrike">
                <a:solidFill>
                  <a:srgbClr val="003d61"/>
                </a:solidFill>
                <a:latin typeface="GillSans"/>
                <a:ea typeface="Calibri"/>
              </a:rPr>
              <a:t>95,5 miliardy EUR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542880" algn="just">
              <a:spcBef>
                <a:spcPts val="11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  <a:ea typeface="Calibri"/>
              </a:rPr>
              <a:t>Participace ČR v rámci mezinárodních konsorcií (10 schválených projektů)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542880" algn="just">
              <a:spcBef>
                <a:spcPts val="11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  <a:ea typeface="Calibri"/>
              </a:rPr>
              <a:t>Mise Rakovina –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  <a:ea typeface="Calibri"/>
              </a:rPr>
              <a:t>implementační plán, který je naplňován Horizon Europe a dalšími finančními programy a mechanismy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542880" algn="just">
              <a:spcBef>
                <a:spcPts val="11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7164360" y="6321600"/>
            <a:ext cx="1609920" cy="465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187280" y="-13032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42920" y="3212640"/>
            <a:ext cx="6337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826920" y="1197000"/>
            <a:ext cx="74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Aktuality v oblasti dalších operačních programů 2021-2027 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27. června 2023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jekt „Zajištění administrativních kapacit MZ ČR pro REACT-EU“ CZ.06.7.127/0.0/0.0/21_126/0017003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ĚKUJI ZA POZORNOST!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https://projektovakancelar.mzcr.cz/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projektova.kancelar@mzcr.cz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2"/>
              </a:rPr>
              <a:t>projekty@mzcr.cz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rogramového období 2021 – 2027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riority MZ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20440" y="1165320"/>
            <a:ext cx="735156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  <a:ea typeface="Times New Roman"/>
              </a:rPr>
              <a:t>Priority MZ vychází ze Strategického rámce rozvoje péče o zdraví v České republice do roku 2030 a dalších strategií MZ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54" name="Obrázek 3" descr=""/>
          <p:cNvPicPr/>
          <p:nvPr/>
        </p:nvPicPr>
        <p:blipFill>
          <a:blip r:embed="rId1"/>
          <a:stretch/>
        </p:blipFill>
        <p:spPr>
          <a:xfrm>
            <a:off x="820800" y="2276640"/>
            <a:ext cx="5688000" cy="403200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30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7093080" y="1989000"/>
            <a:ext cx="1376280" cy="1947960"/>
          </a:xfrm>
          <a:prstGeom prst="rect">
            <a:avLst/>
          </a:prstGeom>
          <a:ln w="0">
            <a:noFill/>
          </a:ln>
        </p:spPr>
      </p:pic>
      <p:sp>
        <p:nvSpPr>
          <p:cNvPr id="156" name="TextovéPole 5"/>
          <p:cNvSpPr/>
          <p:nvPr/>
        </p:nvSpPr>
        <p:spPr>
          <a:xfrm>
            <a:off x="6659640" y="3770280"/>
            <a:ext cx="237636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3d61"/>
                </a:solidFill>
                <a:latin typeface="Calibri"/>
                <a:ea typeface="Calibri"/>
              </a:rPr>
              <a:t>Národní onkologický plán 2030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Calibri"/>
                <a:ea typeface="Calibri"/>
              </a:rPr>
              <a:t>Národní akční plán pro duševní zdraví 2020-2030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Calibri"/>
                <a:ea typeface="Calibri"/>
              </a:rPr>
              <a:t>Národní akční plán prevence sebevražd 2020-2030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Calibri"/>
                <a:ea typeface="Calibri"/>
              </a:rPr>
              <a:t>Národní akční plán pro Alzheimerovu nemoc obdobná onemocnění 2020-2030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Calibri"/>
                <a:ea typeface="Calibri"/>
              </a:rPr>
              <a:t>Koncepce domácí péče v ČR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Calibri"/>
                <a:ea typeface="Calibri"/>
              </a:rPr>
              <a:t>Koncepce ošetřovatelství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ožnosti finanční podpory ze zdrojů EU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33360" y="116532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  <a:ea typeface="Times New Roman"/>
              </a:rPr>
              <a:t>Možné zdroje financová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11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Evropské strukturální a investiční fondy </a:t>
            </a:r>
            <a:br>
              <a:rPr sz="2000"/>
            </a:b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jednotlivé operační programy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11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árodní plán obnov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11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munitární programy EU (EU4Health, Horizon Europe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11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finanční mechanismy (EHP fondy, Švýcarský příspěvek II – rozvoj domácí péče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11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Schéma možností podpory ze zdrojů EU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33360" y="1600200"/>
            <a:ext cx="679464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Obrázek 6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7777440" cy="5732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Schéma možností podpory ze zdrojů EU – NPO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33360" y="1600200"/>
            <a:ext cx="6794640" cy="45259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8351640" cy="5322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ole Ministerstva zdravotnictví v období 2021+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33360" y="1341000"/>
            <a:ext cx="6794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Odborný garant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říslušných specifických cílů Integrovaného regionálního operačního programu 2021–2027 a Operačního programu Zaměstnanost plus – příprava podkladů pro výzvy, hodnocení projektů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Poskytovatel dotace pro příspěvkové organizace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 rámci všech nástrojů, pokud není zákonem umožněno poskytnout dotaci přímo – tj. poskytovatel dotace v rámci IROP </a:t>
            </a:r>
            <a:br>
              <a:rPr sz="2000"/>
            </a:b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2021–2027, OPZ+, OP ŽP, NPO komponenty zejména 1.1, 1.2, 3.3; OP JAK 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Realizátor systémových projektů resortu</a:t>
            </a:r>
            <a:r>
              <a:rPr b="0" lang="cs-CZ" sz="2000" spc="-1" strike="noStrike">
                <a:solidFill>
                  <a:srgbClr val="92d050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Vlastník komponent 6.1 a 6.2 Národního plánu obnovy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– MZ je </a:t>
            </a: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Řídicím orgánem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, zajišťuje vyhlašování výzev a administraci projekt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 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90560" y="1716120"/>
            <a:ext cx="756144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0080" indent="-280080" algn="just">
              <a:lnSpc>
                <a:spcPct val="100000"/>
              </a:lnSpc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Calibri"/>
                <a:ea typeface="Times New Roman"/>
              </a:rPr>
              <a:t>Řídicí orgán: </a:t>
            </a:r>
            <a:r>
              <a:rPr b="0" lang="cs-CZ" sz="1600" spc="-1" strike="noStrike">
                <a:solidFill>
                  <a:srgbClr val="003d61"/>
                </a:solidFill>
                <a:latin typeface="Calibri"/>
                <a:ea typeface="Times New Roman"/>
              </a:rPr>
              <a:t>Ministerstvo pro místní rozvoj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0080" indent="-280080" algn="just">
              <a:lnSpc>
                <a:spcPct val="100000"/>
              </a:lnSpc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d61"/>
                </a:solidFill>
                <a:latin typeface="Calibri"/>
                <a:ea typeface="Times New Roman"/>
              </a:rPr>
              <a:t>Administrace programu: </a:t>
            </a:r>
            <a:r>
              <a:rPr b="0" lang="pt-BR" sz="1600" spc="-1" strike="noStrike">
                <a:solidFill>
                  <a:srgbClr val="003d61"/>
                </a:solidFill>
                <a:latin typeface="Calibri"/>
                <a:ea typeface="Times New Roman"/>
              </a:rPr>
              <a:t>Centrum pro regionální rozvoj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0080" indent="-280080" algn="just">
              <a:lnSpc>
                <a:spcPct val="100000"/>
              </a:lnSpc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Calibri"/>
                <a:ea typeface="Times New Roman"/>
              </a:rPr>
              <a:t>Celková alokace: </a:t>
            </a:r>
            <a:r>
              <a:rPr b="1" lang="cs-CZ" sz="1600" spc="-1" strike="noStrike">
                <a:solidFill>
                  <a:srgbClr val="c00000"/>
                </a:solidFill>
                <a:latin typeface="Calibri"/>
                <a:ea typeface="Times New Roman"/>
              </a:rPr>
              <a:t>cca 117,7 mld. Kč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0080" indent="-280080" algn="just">
              <a:lnSpc>
                <a:spcPct val="100000"/>
              </a:lnSpc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Calibri"/>
                <a:ea typeface="Times New Roman"/>
              </a:rPr>
              <a:t>Alokace pro zdravotnictví: </a:t>
            </a:r>
            <a:r>
              <a:rPr b="1" lang="cs-CZ" sz="1600" spc="-1" strike="noStrike">
                <a:solidFill>
                  <a:srgbClr val="c00000"/>
                </a:solidFill>
                <a:latin typeface="Calibri"/>
                <a:ea typeface="Times New Roman"/>
              </a:rPr>
              <a:t>cca 9,6 mld. Kč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0080" indent="-28008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růběžné výzvy, nesoutěžní nastavení výzev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0080" indent="-28008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očáteční datum způsobilosti výdajů:  1. 1. 2021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0080" indent="-28008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Mezi oprávněné žadatele zařazeny </a:t>
            </a: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kraje/obce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, jako zřizovatele zdravotnických zařízení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0080" indent="-280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92d050"/>
                </a:solidFill>
                <a:latin typeface="GillSans"/>
              </a:rPr>
              <a:t>Priority MZ: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0080" indent="-280080" algn="just">
              <a:spcBef>
                <a:spcPts val="601"/>
              </a:spcBef>
              <a:buClr>
                <a:srgbClr val="003d61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rimární péče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 (vznik a modernizace sítě urgentních příjmů)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0080" indent="-280080" algn="just">
              <a:spcBef>
                <a:spcPts val="601"/>
              </a:spcBef>
              <a:buClr>
                <a:srgbClr val="003d61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Integrovaná péče, integrace zdravotních a sociálních služeb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0080" indent="-280080" algn="just">
              <a:spcBef>
                <a:spcPts val="601"/>
              </a:spcBef>
              <a:buClr>
                <a:srgbClr val="003d61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odpora ochrany veřejného zdraví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0080" indent="-280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0080" indent="-28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MZ dále spolupracuje na přípravě </a:t>
            </a:r>
            <a:r>
              <a:rPr b="1" lang="cs-CZ" sz="1600" spc="-1" strike="noStrike">
                <a:solidFill>
                  <a:srgbClr val="c00000"/>
                </a:solidFill>
                <a:latin typeface="GillSans"/>
              </a:rPr>
              <a:t>Specifického cíle 1.1: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Využívání přínosů digitalizace pro občany, podniky, výzkumné organizace a veřejné orgány (výzvy na eHealth a kybernetickou bezpečnost)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114560" y="1170000"/>
            <a:ext cx="6913440" cy="449280"/>
          </a:xfrm>
          <a:prstGeom prst="rect">
            <a:avLst/>
          </a:prstGeom>
          <a:ln w="0">
            <a:noFill/>
          </a:ln>
        </p:spPr>
      </p:pic>
      <p:pic>
        <p:nvPicPr>
          <p:cNvPr id="170" name="Obrázek 8" descr=""/>
          <p:cNvPicPr/>
          <p:nvPr/>
        </p:nvPicPr>
        <p:blipFill>
          <a:blip r:embed="rId2"/>
          <a:stretch/>
        </p:blipFill>
        <p:spPr>
          <a:xfrm>
            <a:off x="5435640" y="6184800"/>
            <a:ext cx="3584520" cy="585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Kategorie regionů a míra spolufinancování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72" name="Zástupný obsah 3" descr="Obsah obrázku mapa&#10;&#10;Popis byl vytvořen automaticky"/>
          <p:cNvPicPr/>
          <p:nvPr/>
        </p:nvPicPr>
        <p:blipFill>
          <a:blip r:embed="rId1"/>
          <a:stretch/>
        </p:blipFill>
        <p:spPr>
          <a:xfrm>
            <a:off x="826920" y="2222640"/>
            <a:ext cx="6402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4211640" y="1341360"/>
          <a:ext cx="4689360" cy="1314360"/>
        </p:xfrm>
        <a:graphic>
          <a:graphicData uri="http://schemas.openxmlformats.org/drawingml/2006/table">
            <a:tbl>
              <a:tblPr/>
              <a:tblGrid>
                <a:gridCol w="2293920"/>
                <a:gridCol w="996840"/>
                <a:gridCol w="1398600"/>
              </a:tblGrid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98f2"/>
                          </a:solidFill>
                          <a:latin typeface="Arial"/>
                          <a:ea typeface="Arial"/>
                        </a:rPr>
                        <a:t>Kategorie regionu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98f2"/>
                          </a:solidFill>
                          <a:latin typeface="Arial"/>
                          <a:ea typeface="Arial"/>
                        </a:rPr>
                        <a:t>EFRR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98f2"/>
                          </a:solidFill>
                          <a:latin typeface="Arial"/>
                          <a:ea typeface="Arial"/>
                        </a:rPr>
                        <a:t>Státní rozpočet 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98f2"/>
                          </a:solidFill>
                          <a:latin typeface="Arial"/>
                          <a:ea typeface="Arial"/>
                        </a:rPr>
                        <a:t>(dle typu příjemce)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4c4c4c"/>
                          </a:solidFill>
                          <a:latin typeface="Arial"/>
                          <a:ea typeface="Arial"/>
                        </a:rPr>
                        <a:t>Projekty PR (přechodové)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3c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4c4c4c"/>
                          </a:solidFill>
                          <a:latin typeface="Arial"/>
                          <a:ea typeface="Arial"/>
                        </a:rPr>
                        <a:t>70 %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4c4c4c"/>
                          </a:solidFill>
                          <a:latin typeface="Arial"/>
                          <a:ea typeface="Arial"/>
                        </a:rPr>
                        <a:t>0 – 30 </a:t>
                      </a:r>
                      <a:r>
                        <a:rPr b="0" lang="en-US" sz="1200" spc="-1" strike="noStrike">
                          <a:solidFill>
                            <a:srgbClr val="4c4c4c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360" rIns="9360" tIns="936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98f2"/>
                          </a:solidFill>
                          <a:latin typeface="Arial"/>
                          <a:ea typeface="Arial"/>
                        </a:rPr>
                        <a:t>Projekty MRR (méně rozvinuté)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0d7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4c4c4c"/>
                          </a:solidFill>
                          <a:latin typeface="Arial"/>
                          <a:ea typeface="Arial"/>
                        </a:rPr>
                        <a:t>85 %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4c4c4c"/>
                          </a:solidFill>
                          <a:latin typeface="Arial"/>
                          <a:ea typeface="Arial"/>
                        </a:rPr>
                        <a:t>0 – 15 </a:t>
                      </a:r>
                      <a:r>
                        <a:rPr b="0" lang="en-US" sz="1200" spc="-1" strike="noStrike">
                          <a:solidFill>
                            <a:srgbClr val="4c4c4c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98f2"/>
                          </a:solidFill>
                          <a:latin typeface="Arial"/>
                          <a:ea typeface="Arial"/>
                        </a:rPr>
                        <a:t>Projekty VRR (více rozvinuté)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959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4c4c4c"/>
                          </a:solidFill>
                          <a:latin typeface="Arial"/>
                          <a:ea typeface="Arial"/>
                        </a:rPr>
                        <a:t>40 </a:t>
                      </a:r>
                      <a:r>
                        <a:rPr b="0" lang="en-US" sz="1200" spc="-1" strike="noStrike">
                          <a:solidFill>
                            <a:srgbClr val="4c4c4c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4c4c4c"/>
                          </a:solidFill>
                          <a:latin typeface="Arial"/>
                          <a:ea typeface="Arial"/>
                        </a:rPr>
                        <a:t>0 – 60 </a:t>
                      </a:r>
                      <a:r>
                        <a:rPr b="0" lang="en-US" sz="1200" spc="-1" strike="noStrike">
                          <a:solidFill>
                            <a:srgbClr val="4c4c4c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Dimitrovová Kateřina, Mgr.</cp:lastModifiedBy>
  <cp:lastPrinted>2023-06-26T12:47:01Z</cp:lastPrinted>
  <dcterms:modified xsi:type="dcterms:W3CDTF">2023-06-27T10:17:38Z</dcterms:modified>
  <cp:revision>1088</cp:revision>
  <dc:subject/>
  <dc:title>Snímek 1</dc:title>
</cp:coreProperties>
</file>