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Sans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85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1BBEB-A154-4429-8289-8B2ECBCB8C3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8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95E05-73AB-4141-A76E-8AF7A8991243}" type="slidenum">
              <a:rPr b="0" lang="cs-CZ" sz="1200" spc="-1" strike="noStrike">
                <a:solidFill>
                  <a:srgbClr val="003d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d61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8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D65B6-6D33-4D12-8F3D-983025589ACB}" type="slidenum">
              <a:rPr b="0" lang="cs-CZ" sz="1200" spc="-1" strike="noStrike">
                <a:solidFill>
                  <a:srgbClr val="003d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d61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251B-0F71-4F6A-B52C-5891013E2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41B3-2171-4087-89CA-46091D5E0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1B65-8553-4C0E-88CA-AA8E28D1B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3088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82840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23336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3088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82840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825E-FA78-4AAD-B3A4-52C297A73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233360" y="0"/>
            <a:ext cx="6794640" cy="48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8742-6B8C-49CC-9332-CBEC309BF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3088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82840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23336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3088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82840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B95C7-D5C5-4967-8C71-DEC20F332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C1F7F-7088-4F13-8562-1BA3F8647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0DCA1-FB58-4B54-90C7-D57AB46DA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D076A-D58E-4445-BB53-46E9F4A45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77046-CBED-4879-AC5F-1A5F79A8E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AEA7-C7DD-4E65-89FE-6521A47CB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1233360" y="0"/>
            <a:ext cx="6794640" cy="48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263A2-0DEC-49BB-AB11-C4B6416DF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C74E7-0A1A-4AFD-82F4-970BEAFA2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A2DF4-DAED-4DB3-AFAF-51D30424B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80232-73D8-4698-AB09-2A8CF2210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E0765-AA04-4D76-83AA-8F6EF0824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EF732-F894-42FE-9CE4-9CA27DB09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3088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82840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123336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53088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582840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B3E3D-B51B-4B4A-906A-718498653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3797-AD81-4B38-B6F5-D7E3C1CC5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13DA-4993-4978-A42A-CD9759145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233360" y="0"/>
            <a:ext cx="6794640" cy="48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DE51-5F05-4740-AEC7-74C1E3408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3710-5680-4B56-8E88-3E66DE450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692D-5651-45D4-8CA9-CCBABABAB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8DFC-3D07-44AA-A1E5-BD7B77938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3240" y="0"/>
            <a:ext cx="8024760" cy="107964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Click to edit the outline text format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con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Thir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3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our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4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if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5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ix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6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ven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1233360" y="6244920"/>
            <a:ext cx="1371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2914560" y="62370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207120" y="6244920"/>
            <a:ext cx="1835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ill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8E349-88D1-4F24-98A0-848C28E3FF3B}" type="slidenum">
              <a:rPr b="0" lang="cs-CZ" sz="1200" spc="-1" strike="noStrike">
                <a:solidFill>
                  <a:srgbClr val="000000"/>
                </a:solidFill>
                <a:latin typeface="Gill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8628120" y="558720"/>
            <a:ext cx="522360" cy="522360"/>
          </a:xfrm>
          <a:prstGeom prst="rect">
            <a:avLst/>
          </a:prstGeom>
          <a:solidFill>
            <a:srgbClr val="d311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6" name="Rectangle 10"/>
          <p:cNvSpPr/>
          <p:nvPr/>
        </p:nvSpPr>
        <p:spPr>
          <a:xfrm>
            <a:off x="8621640" y="0"/>
            <a:ext cx="522360" cy="522360"/>
          </a:xfrm>
          <a:prstGeom prst="rect">
            <a:avLst/>
          </a:prstGeom>
          <a:solidFill>
            <a:srgbClr val="c2c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7" name="Rectangle 11"/>
          <p:cNvSpPr/>
          <p:nvPr/>
        </p:nvSpPr>
        <p:spPr>
          <a:xfrm>
            <a:off x="8066160" y="558720"/>
            <a:ext cx="522360" cy="52236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8" name="Rectangle 12"/>
          <p:cNvSpPr/>
          <p:nvPr/>
        </p:nvSpPr>
        <p:spPr>
          <a:xfrm>
            <a:off x="8066160" y="0"/>
            <a:ext cx="522360" cy="522360"/>
          </a:xfrm>
          <a:prstGeom prst="rect">
            <a:avLst/>
          </a:prstGeom>
          <a:solidFill>
            <a:srgbClr val="fdb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pic>
        <p:nvPicPr>
          <p:cNvPr id="9" name="Picture 15" descr="pp_podtisk"/>
          <p:cNvPicPr/>
          <p:nvPr/>
        </p:nvPicPr>
        <p:blipFill>
          <a:blip r:embed="rId2"/>
          <a:stretch/>
        </p:blipFill>
        <p:spPr>
          <a:xfrm>
            <a:off x="0" y="1341360"/>
            <a:ext cx="892080" cy="551664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Sans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240" y="0"/>
            <a:ext cx="8024760" cy="107964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233360" y="1989000"/>
            <a:ext cx="679464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Click to edit the outline text format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343080" indent="-343080" algn="ctr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con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343080" indent="-343080" algn="ctr">
              <a:spcBef>
                <a:spcPts val="499"/>
              </a:spcBef>
              <a:buClr>
                <a:srgbClr val="003d61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Thir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3" marL="343080" indent="-343080" algn="ctr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our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4" marL="343080" indent="-343080" algn="ctr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if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5" marL="343080" indent="-343080" algn="ctr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ix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6" marL="343080" indent="-343080" algn="ctr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ven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8628120" y="558720"/>
            <a:ext cx="522360" cy="522360"/>
          </a:xfrm>
          <a:prstGeom prst="rect">
            <a:avLst/>
          </a:prstGeom>
          <a:solidFill>
            <a:srgbClr val="d311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8621640" y="0"/>
            <a:ext cx="522360" cy="522360"/>
          </a:xfrm>
          <a:prstGeom prst="rect">
            <a:avLst/>
          </a:prstGeom>
          <a:solidFill>
            <a:srgbClr val="c2c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8066160" y="558720"/>
            <a:ext cx="522360" cy="52236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8066160" y="0"/>
            <a:ext cx="522360" cy="522360"/>
          </a:xfrm>
          <a:prstGeom prst="rect">
            <a:avLst/>
          </a:prstGeom>
          <a:solidFill>
            <a:srgbClr val="fdb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pic>
        <p:nvPicPr>
          <p:cNvPr id="53" name="Picture 12" descr="pp_podtisk"/>
          <p:cNvPicPr/>
          <p:nvPr/>
        </p:nvPicPr>
        <p:blipFill>
          <a:blip r:embed="rId2"/>
          <a:stretch/>
        </p:blipFill>
        <p:spPr>
          <a:xfrm>
            <a:off x="0" y="1341360"/>
            <a:ext cx="892080" cy="5516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" descr="logo IOP + EU + text - 1"/>
          <p:cNvPicPr/>
          <p:nvPr/>
        </p:nvPicPr>
        <p:blipFill>
          <a:blip r:embed="rId3"/>
          <a:stretch/>
        </p:blipFill>
        <p:spPr>
          <a:xfrm>
            <a:off x="1116000" y="5157720"/>
            <a:ext cx="5545080" cy="620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" descr=""/>
          <p:cNvPicPr/>
          <p:nvPr/>
        </p:nvPicPr>
        <p:blipFill>
          <a:blip r:embed="rId4"/>
          <a:stretch/>
        </p:blipFill>
        <p:spPr>
          <a:xfrm>
            <a:off x="6815160" y="5157720"/>
            <a:ext cx="1428840" cy="62568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6"/>
          <p:cNvSpPr/>
          <p:nvPr/>
        </p:nvSpPr>
        <p:spPr>
          <a:xfrm>
            <a:off x="2124000" y="6140520"/>
            <a:ext cx="5256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3d61"/>
                </a:solidFill>
                <a:latin typeface="GillSans"/>
              </a:rPr>
              <a:t>Tento Projekt technické pomoci 6.1 Ministerstva zdravotnictví je spolufinancován Evropskou unií z Evropského fondu pro regionální rozvoj. </a:t>
            </a:r>
            <a:endParaRPr b="0" lang="en-US" sz="12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Sans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8"/>
          <p:cNvSpPr/>
          <p:nvPr/>
        </p:nvSpPr>
        <p:spPr>
          <a:xfrm>
            <a:off x="-12600" y="1968480"/>
            <a:ext cx="9156600" cy="488952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pic>
        <p:nvPicPr>
          <p:cNvPr id="95" name="Picture 9" descr="logo_mzcr"/>
          <p:cNvPicPr/>
          <p:nvPr/>
        </p:nvPicPr>
        <p:blipFill>
          <a:blip r:embed="rId2"/>
          <a:stretch/>
        </p:blipFill>
        <p:spPr>
          <a:xfrm>
            <a:off x="647640" y="682560"/>
            <a:ext cx="6737400" cy="593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3" descr="pp_titul_podtisk"/>
          <p:cNvPicPr/>
          <p:nvPr/>
        </p:nvPicPr>
        <p:blipFill>
          <a:blip r:embed="rId3"/>
          <a:stretch/>
        </p:blipFill>
        <p:spPr>
          <a:xfrm>
            <a:off x="0" y="1989000"/>
            <a:ext cx="812880" cy="4869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Click to edit the outline text format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con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Thir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3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our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4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if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5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ix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6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ven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Sans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4"/>
          </p:nvPr>
        </p:nvSpPr>
        <p:spPr>
          <a:xfrm>
            <a:off x="1220760" y="6244920"/>
            <a:ext cx="1370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5"/>
          </p:nvPr>
        </p:nvSpPr>
        <p:spPr>
          <a:xfrm>
            <a:off x="291600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6"/>
          </p:nvPr>
        </p:nvSpPr>
        <p:spPr>
          <a:xfrm>
            <a:off x="6207120" y="6244920"/>
            <a:ext cx="1835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Gill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B39E7-EC5B-45D6-818B-D2842F11472A}" type="slidenum">
              <a:rPr b="0" lang="cs-CZ" sz="1200" spc="-1" strike="noStrike">
                <a:solidFill>
                  <a:srgbClr val="ffffff"/>
                </a:solidFill>
                <a:latin typeface="Gill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4"/>
          <p:cNvSpPr/>
          <p:nvPr/>
        </p:nvSpPr>
        <p:spPr>
          <a:xfrm>
            <a:off x="1187280" y="-130320"/>
            <a:ext cx="679464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042920" y="3212640"/>
            <a:ext cx="633744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  </a:t>
            </a:r>
            <a:br>
              <a:rPr sz="2000"/>
            </a:b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826920" y="1197000"/>
            <a:ext cx="745344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d61"/>
                </a:solidFill>
                <a:latin typeface="GillSans"/>
              </a:rPr>
              <a:t>Aktuality v oblasti strukturálních fondů </a:t>
            </a:r>
            <a:endParaRPr b="0" lang="en-US" sz="32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d61"/>
                </a:solidFill>
                <a:latin typeface="GillSans"/>
              </a:rPr>
              <a:t>VEŘEJNOSPRÁVNÍ KONTROLA NA MÍSTĚ</a:t>
            </a:r>
            <a:endParaRPr b="0" lang="en-US" sz="24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d61"/>
                </a:solidFill>
                <a:latin typeface="GillSans"/>
              </a:rPr>
              <a:t>27. června 2023</a:t>
            </a:r>
            <a:endParaRPr b="0" lang="en-US" sz="24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Projekt „Zajištění administrativních kapacit MZ ČR pro REACT-EU“ CZ.06.7.127/0.0/0.0/21_126/0017003</a:t>
            </a:r>
            <a:endParaRPr b="0" lang="en-US" sz="1800" spc="-1" strike="noStrike">
              <a:solidFill>
                <a:srgbClr val="003d61"/>
              </a:solidFill>
              <a:latin typeface="Garamond"/>
            </a:endParaRPr>
          </a:p>
        </p:txBody>
      </p:sp>
      <p:pic>
        <p:nvPicPr>
          <p:cNvPr id="148" name="Obrázek 5" descr=""/>
          <p:cNvPicPr/>
          <p:nvPr/>
        </p:nvPicPr>
        <p:blipFill>
          <a:blip r:embed="rId1"/>
          <a:stretch/>
        </p:blipFill>
        <p:spPr>
          <a:xfrm>
            <a:off x="684360" y="2781360"/>
            <a:ext cx="8208720" cy="10666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Zahájení veřejnosprávní kontroly na místě 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976320" y="1557360"/>
            <a:ext cx="705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Kontrola na místě je zahájena prvním kontrolním úkonem, </a:t>
            </a:r>
            <a:br>
              <a:rPr sz="2000"/>
            </a:b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a to doručením „Oznámení o zahájení veřejnosprávní kontroly na místě“, které obsahuje: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743040" indent="-200160">
              <a:spcBef>
                <a:spcPts val="11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termín konání kontroly, 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743040" indent="-200160"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název a registrační číslo projektu, 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743040" indent="-200160"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předmět kontroly,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743040" indent="-200160"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kontrolované období,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743040" indent="-200160"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členy kontrolní skupiny atd.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Kontrolovaná osoba je v rámci oznámení vyzvána k </a:t>
            </a: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nahlášení kontaktní osoby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, která po celou dobu spolupracuje s kontrolní skupinou.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Průběh veřejnosprávní kontroly na místě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971280" y="1557360"/>
            <a:ext cx="705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Kontrolní skupina poskytne kontrolované osobě stanovený kontrolní vzorek,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který může být dle uvážení kontrolní skupiny rozšířen (je-li relevantní).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U pořízeného majetku probíhá: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buClr>
                <a:srgbClr val="003d61"/>
              </a:buClr>
              <a:buFont typeface="GillSan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kontrola průkazné dokumentace,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buClr>
                <a:srgbClr val="003d61"/>
              </a:buClr>
              <a:buFont typeface="GillSan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kontrola majetkové evidence (je-li majetek řádně evidován),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buClr>
                <a:srgbClr val="003d61"/>
              </a:buClr>
              <a:buFont typeface="GillSan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fyzická kontrola majetku (je-li majetek užíván v místě realizace projektu a je řádně označen).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Kontrolovaná osoba může být vyzvána k doplnění informací nebo dokumentů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-&gt; standardní lhůta pro doplnění je 5 pracovních dnů.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Ukončení veřejnosprávní kontroly na místě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971280" y="1600200"/>
            <a:ext cx="705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Po vykonání posledního kontrolního úkonu je zpracován protokol o kontrole,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který je odeslán kontrolované osobě prostřednictvím datové schránky.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Proti kontrolním zjištěním uvedených v protokolu o kontrole může kontrolovaná osoba podat písemné a zdůvodněné námitky,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a to ve lhůtě 15 dnů ode dne doručení protokolu.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987640" y="2997000"/>
            <a:ext cx="273672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4e7d"/>
                </a:solidFill>
                <a:latin typeface="GillSans"/>
              </a:rPr>
              <a:t>DĚKUJI ZA POZORNOST!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2T08:56:53Z</dcterms:created>
  <dc:creator>kobid</dc:creator>
  <dc:description/>
  <dc:language>en-US</dc:language>
  <cp:lastModifiedBy>Nečasová Kateřina, Ing.</cp:lastModifiedBy>
  <cp:lastPrinted>2021-03-30T06:05:26Z</cp:lastPrinted>
  <dcterms:modified xsi:type="dcterms:W3CDTF">2023-06-22T12:08:01Z</dcterms:modified>
  <cp:revision>734</cp:revision>
  <dc:subject/>
  <dc:title>Snímek 1</dc:title>
</cp:coreProperties>
</file>