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B454-ADF6-4AF1-A4A4-EA4B0F4E20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2ED8-212B-4ECA-B4E1-BE488F041AD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7A3-F202-46F5-B85B-D0B47060B8CA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8CD-A0F5-459B-BC7F-41998048B84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EB7-195E-4A9D-9AEF-BCE5A7EFF9C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258-D1B0-4413-8571-250785937D37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7471-0695-4CD4-BF7D-92807F7418A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793-08E8-4E9F-8324-4BFB83EEE0F7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roce 2021 bude uvolněno 80 % této částky, tj. 7 982 031 013 K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67F-3875-4749-8182-91B0C378FA68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B4D-4128-45C4-B2B6-1E523DEF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6C4-7DF8-4462-894A-D69BBA7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9FA-280A-4FF4-B3BA-CBB138E7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500-3769-4414-927E-46F19E85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353-4C6A-437E-BC33-5BD1A86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23C1-1C2B-44B7-BBA0-18FFE825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1D66-B1CA-4BBA-9553-FD1AD24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29CC-9B0B-494A-9485-FE16668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A6DE-D7F2-422A-A554-CA8736C2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815-7E35-4D0C-BD69-7B55B678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49E-509C-4DB2-B4F2-7F06E7E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49B2-DA19-4D80-A543-F9A6404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BA0-1D2A-487C-9CD4-3157337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0D3-8CCA-4D42-8AB8-A027588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434-119C-42C8-A80D-02D0D0D5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99F-2001-4A1B-AEE2-2A9BF64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1BBE-2FE0-4C8B-A037-ED3E8224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398-7434-4D91-9DE7-09AFFB57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F0A-D283-4D9E-A30A-9EA5BEA4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0AE-B290-45B7-B661-15E1470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B06-B3F4-4332-AB9B-5570973D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0FB-4865-4506-A551-0EBDA19C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3E0-7D12-4E4F-B02A-348C11D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CFD-D79C-4D2B-9192-DA0F62E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F664-CA8F-4176-A0A1-4F84A7E2C2D6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BAD4-9CE0-4CA4-A5A7-F26FA037DBA0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zcr.cz/seznam-poskytovatelu-zdravotnich-sluzeb-s-urgentnimi-prijmy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434960"/>
            <a:ext cx="91440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Příprava ReactEU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15. únor 2021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Projekt „Projektová kancelář MZd“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2411280" y="5423040"/>
            <a:ext cx="4765680" cy="98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3336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6 % z alokace pro zdravotnictví (6,9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žadatelé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é lůžkové péče, definováni dle cílové skupin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0" name="Obrázek 3" descr=""/>
          <p:cNvPicPr/>
          <p:nvPr/>
        </p:nvPicPr>
        <p:blipFill>
          <a:blip r:embed="rId1"/>
          <a:stretch/>
        </p:blipFill>
        <p:spPr>
          <a:xfrm>
            <a:off x="1403280" y="3192480"/>
            <a:ext cx="6337440" cy="239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žadatelé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746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nkologičtí pacient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 onkologická centra, centra vysoce specializované hematoonkologické péče(pokud nejsou současně vedena jako Komplexní onkologická centra)  – poskytovatel lůžkové péče definovaný ve Věstníku MZ č. 7/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e zvláště závažnou obezitou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zdravotní péče v souladu se zákonem č. 372/2011 Sb., příspěvková organizace Ministerstva zdravotnictví se sídlem na území hl. města Prah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 kardiovaskulárními onemocněním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péče definovaný v platném Věstníku MZ jako centrum vysoce specializované komplexní kardiovaskulární péče pro dospělé  nebo jako centrum vysoce specializované komplexní kardiovaskulární péče a pro transplantace srdce pro dospělé (žadatel nesmí být zařazen jako UP 1. typu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oby s duševním onemocněním –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oskytovatelé akutní péče v oboru psychiatrie a návykové nemoci ve všeobecných a psychiatrických nemocnicí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příjemc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acienti, jejichž zdravotní stav vyžaduje doléčení v lůžkovém zdravotnickém zařízení–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skytovatel následné lůžkové zdravotní péče, který poskytuje alespoň jeden z níže uvedených typů zdravotní péče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ventilační péče (NVP) - 00015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intenzivní péče (NIP) - 00017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- 00022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neumologická a ftizeologická následná péče - 00023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péče, zahrnující péči geriatrickou a ostatní následnou péči - 00024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Podporovaná péč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74680" y="148428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nkologičtí pacient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onkologie, paliativa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 kardiovaskulárními onemocněním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kardiologie, kardiochirurgie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e zvláště závažnou obezito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 lůžkové péče: interna (metabolicky/endokrinologicky zaměřená), chirurgie, rehabilitace)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jejichž zdravotní stav vyžaduje doléčení v lůžkovém zdravotnickém zaříze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nasmlouvaná péče: následná ventilační péče, následná intenzivní péče, rehabilitační následná péče, pneumologická a ftizeologická následná péče, následná péče, zahrnující péči geriatrickou a ostatní následnou péči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oby s duševním onemocněním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psychiatrie a návykové nemoci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POSKYTOVATELŮ PÉČE O ZVLÁŠTĚ OHROŽENÉ PACIENTY –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vby, rekonstrukce a modernizace pracovišť v lékařských oborech dle vymezené ohrožené cílové skupin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doporučeného vybavení vč. stavebních úprav potřebných k uvedení do provozu. Instruktáž personálu podle zákona č. 268/2014 Sb., o zdravotních prostředcích související s pořízením zdravotnických prostředků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9640" y="1341000"/>
            <a:ext cx="741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a 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 10,2 % z celkové alokace pro zdravotnictví (1,966 mld. Kč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rávnění příjemci dle podporovaných aktivit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- Poskytovatelé lůžkové péče zapojení ve standardizované síti urgentních příjmů 1. typu 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infektologických pracovišť všeobecných nemocnic- poskytovatel lůžkové zdravotní péče v oboru infekční lékařství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še dotace: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Minimální výše celkových způsobilých výdajů: 20 mil. Kč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912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 projekty jedním žadatelem -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- podporované obory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31640" y="134136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laboratorních kapacit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</a:t>
            </a:r>
            <a:br>
              <a:rPr sz="1600"/>
            </a:b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a zdravotnických prostředků) uvedených v Seznamu vybavení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uvedených v Seznamu vybavení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653760" indent="-1760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Infekční lékařství 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3" name="Obrázek 5" descr=""/>
          <p:cNvPicPr/>
          <p:nvPr/>
        </p:nvPicPr>
        <p:blipFill>
          <a:blip r:embed="rId1"/>
          <a:stretch/>
        </p:blipFill>
        <p:spPr>
          <a:xfrm>
            <a:off x="1893960" y="3141720"/>
            <a:ext cx="5473800" cy="122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2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Rozvoj laboratorních kapacit zdravotních ústavů a Rozvoj infrastruktury krajských hygienických stanic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1,8 % z celkové alokace pro zdravotnictví (350 mil. Kč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Krajské hygienické stanice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dravotní ústavy (SZÚ, ZÚ Ostrava, ZÚ Ústí n. Labem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Minimální výše celkových způsobilých výdajů: 2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         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projekty jedním žadatelem -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ožadované informace od příspěvkových organizac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ad vyhlášení výzev od března 2021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Tabulka k předhodnocení projektových záměrů PŘ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8" name="Obrázek 6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kládání projektových záměrů v React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0" name="Zástupný obsah 2" descr=""/>
          <p:cNvPicPr/>
          <p:nvPr/>
        </p:nvPicPr>
        <p:blipFill>
          <a:blip r:embed="rId1"/>
          <a:stretch/>
        </p:blipFill>
        <p:spPr>
          <a:xfrm>
            <a:off x="1176480" y="1566720"/>
            <a:ext cx="6851520" cy="4559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 ŠKOLENÍ   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62080" y="1600200"/>
          <a:ext cx="6794640" cy="4525920"/>
        </p:xfrm>
        <a:graphic>
          <a:graphicData uri="http://schemas.openxmlformats.org/drawingml/2006/table">
            <a:tbl>
              <a:tblPr/>
              <a:tblGrid>
                <a:gridCol w="2208240"/>
                <a:gridCol w="4586400"/>
              </a:tblGrid>
              <a:tr h="4096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0 – 9:0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vodní slovo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6062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5 – 09:1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Úvodní slovo za MMR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15 – 10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íprava REACT-E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00 – 10:2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59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20 – 10:3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stávka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7858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30 – 10:4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Žádost o dotaci – proces předkládání a schvalování (doporučení, na co si dát pozor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45 – 11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dministrace ZoR, ŽoP, změn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00 – 11:45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akázky (nejčastější pochybení a dobrá praxe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920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45 – 13:00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kontex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vestiční nástroj EU- reakce na boj s Covid-19 a jeho dopad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ůsobnost na území celé ČR, včetně Prah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alizace projektů v období 1.2.2020-31.12.2023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ČR předpoklad 27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zdravotnictví předpoklad 19,3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mplementace jako PO 6 IROP 2014-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rozdělení alokace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Obdélník 1"/>
          <p:cNvSpPr/>
          <p:nvPr/>
        </p:nvSpPr>
        <p:spPr>
          <a:xfrm>
            <a:off x="1042920" y="1290600"/>
            <a:ext cx="741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ově schválené rozdělení alokace pro ReactEU - celková alokace pro oblast zdravotnictví činí celkem 19,3 mld. Kč, Koncepční pracovní skupinou a poradou vedení  schválen návrh nového rozdělení alokace mezi prioritní oblasti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lvl="1" marL="54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ředpoklad vyhlášení výzev je březen 2021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33360" y="2687760"/>
          <a:ext cx="6794640" cy="1482480"/>
        </p:xfrm>
        <a:graphic>
          <a:graphicData uri="http://schemas.openxmlformats.org/drawingml/2006/table">
            <a:tbl>
              <a:tblPr/>
              <a:tblGrid>
                <a:gridCol w="2265480"/>
                <a:gridCol w="2263680"/>
                <a:gridCol w="2265480"/>
              </a:tblGrid>
              <a:tr h="371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9, 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0,0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B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6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,94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C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,316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y MZ- Předběžná avíza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7" name="Zástupný symbol pro obsah 2" descr=""/>
          <p:cNvPicPr/>
          <p:nvPr/>
        </p:nvPicPr>
        <p:blipFill>
          <a:blip r:embed="rId1"/>
          <a:stretch/>
        </p:blipFill>
        <p:spPr>
          <a:xfrm>
            <a:off x="1170000" y="1603440"/>
            <a:ext cx="6761160" cy="42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voj a modernizace pracovišť v návaznosti na standardizovanou síť urgentních příjmů – JIP, ARO, operační sály, intervenční a diagnostická pracoviště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52 % z celkové alokace pro zdravotnictví (10,036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poskytovatelé lůžkové péče zapojení ve standardizované síti urgentních příjmů (97 poskytovatelů) 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https://www.mzcr.cz/seznam-poskytovatelu-zdravotnich-sluzeb-s-urgentnimi-prijmy/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dle typu urgentního příjm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773440" y="2009880"/>
            <a:ext cx="1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výše do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3" name="Obrázek 6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718400" cy="2917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podporované obor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5" name="Zástupný obsah 3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1944720" y="1182600"/>
            <a:ext cx="6299280" cy="530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-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Stavby a stavební práce (rozvoj pracovišť oborů definovaných dle typů urgentního příjmu):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stavba nových objektů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a rekonstrukce stávající stavby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prostory, které tvoří funkční celek s podporovanými pracovišti a jsou součástí stavby např. chodby, balkony, výtahy, sociální zázemí, šatny, čekárny, sklady zdravotního materiálu (nelze podpořit samostatně bez výstavby/rekonstrukce nebo modernizace pracoviště).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budování a modernizace související inženýrské sítě (vodovod, kanalizace, plyn, elektrické vedení) v rámci stavby, která je součástí projektu a projektové dokumentace stavby (způsobilým výdajem je přípojka realizovaná i mimo pozemek hlavní stavby, pokud je tato přípojka součástí projektové dokumentace a souvisí s realizovaným projektem)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potřebné k uvedení do provozu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Přístrojové vybavení/zdravotnické prostředky/technologie a vybavení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technologie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instruktáž personálu podle zákona č. 268/2014 Sb., o zdravotnických prostředcích, ve znění pozdějších předpisů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vybavení prostor pro poskytování a zajišťování zdravotní péče, které tvoří funkční celek, např. vybavení, nábytek, technologické a technické vybavení.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Vránová Tereza Mgr.</cp:lastModifiedBy>
  <cp:lastPrinted>2020-02-27T06:59:52Z</cp:lastPrinted>
  <dcterms:modified xsi:type="dcterms:W3CDTF">2021-02-18T09:48:10Z</dcterms:modified>
  <cp:revision>653</cp:revision>
  <dc:subject/>
  <dc:title>Snímek 1</dc:title>
</cp:coreProperties>
</file>