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5E3A-D8D6-49EB-B2C2-3B32740E0D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83F3-CD9E-4FFF-B592-1FFB7B81EE23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65DC-67DB-4A8E-AAA7-73E342A9B104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3125-A818-449C-B7B0-F50F7B93AFB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AFE8-4C78-4E12-87C4-D416C46F844A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76B1-BDDA-41F7-8BCB-D95F63652C59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548E-FB0F-4A2C-A783-EF582172A9FE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říve dlouhodobá péč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6CCC-F621-4BB6-929F-A4B012B26BCD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DD60-44CD-4997-980C-AA77FC6A6591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687-12A2-4876-A647-574AC88D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375-FC79-4982-B26A-7F3E8063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24F-E0EE-4D9B-AA4E-ADDA5E3A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944-F060-4AF1-8466-6A040752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4F4-1E1B-4E71-BDB1-6F23FBFC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2A3D-E833-4312-ACCE-735ACB09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4A3F-89AC-44A3-8A5D-2120C1F1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58B9-3842-4320-A80B-F164DE1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C2E9-275B-4F20-93B3-80C9B693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5F68-A0F3-4DC5-8563-C7FCE80A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B49-1334-4CB6-A840-A26E7C6A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7228-257D-42B1-A578-25067802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4C38-E972-45FE-9F8A-94476C35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E46D-A255-4510-8967-5E4E6F10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BF1F-B740-4640-A49F-0E815592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A02D-2B1D-4B91-9133-1455FBC6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AEF0-71CE-4E13-B9A2-A009424D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E97C-F215-4CBF-B088-2EEDD516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C56-E8C7-4453-9BAE-61841E43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648-0362-44A0-8AE1-0AF2AF39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DE6-2830-4A5D-B296-D51D92C1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2C8-B38C-402D-B581-4F834E30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65A-1206-4F3D-B8D8-BE940707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2A9-D526-4E65-9744-F035AE11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A8A3-4B86-490F-B0DC-27CEA8290D31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DC6D-FD89-44A6-B50E-CBE2B263789E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konzultaceVZ@crr.cz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187280" y="1628640"/>
            <a:ext cx="66978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ReactEU – zdravotnictví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3. jednání Koncepční pracovní skupiny pro rozvoj a posílení odolnosti systému českého zdravotnictví s ohledem na využití prostředků ReactEU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2.2.2021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1" descr=""/>
          <p:cNvPicPr/>
          <p:nvPr/>
        </p:nvPicPr>
        <p:blipFill>
          <a:blip r:embed="rId1"/>
          <a:stretch/>
        </p:blipFill>
        <p:spPr>
          <a:xfrm>
            <a:off x="3059280" y="5516640"/>
            <a:ext cx="3395520" cy="1239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onzultace veřejných zakázek z IROP - CRR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280" y="1844280"/>
            <a:ext cx="73119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entrum pro regionální rozvoj České republiky zřídilo pro účely dílčích konzultací k veřejným zakázkám, plánovaným </a:t>
            </a:r>
            <a:br>
              <a:rPr sz="2000"/>
            </a:b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 financování z Integrovaného regionálního operačního programu (IROP), kontaktní místo, resp. e-mailovou adresu pro zasílání žádostí o konzultaci veřejné zakázky:   </a:t>
            </a: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konzultaceVZ@cr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onzultace veřejné zakázky při přípravách zadávacího řízení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apř. hodnotícího kritéria, technické kvalifikace, obchodních podmínek, technické specifikace apod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116000" y="1347840"/>
            <a:ext cx="7228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e7d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4e7d"/>
                </a:solidFill>
                <a:latin typeface="GillSans"/>
              </a:rPr>
              <a:t>Děkujeme za pozornost.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e7d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e7d"/>
                </a:solidFill>
                <a:latin typeface="GillSans"/>
              </a:rPr>
              <a:t>Odbor evropských fondů a investičního rozvoj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e7d"/>
                </a:solidFill>
                <a:latin typeface="GillSans"/>
              </a:rPr>
              <a:t>Ministerstvo zdravotnictví Č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Sans"/>
              </a:rPr>
              <a:t>	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74" name="Obrázek 4" descr=""/>
          <p:cNvPicPr/>
          <p:nvPr/>
        </p:nvPicPr>
        <p:blipFill>
          <a:blip r:embed="rId1"/>
          <a:stretch/>
        </p:blipFill>
        <p:spPr>
          <a:xfrm>
            <a:off x="2987640" y="5157720"/>
            <a:ext cx="3672000" cy="143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formace o aktuálním stavu připravovaných výzev ReactEU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77600" y="1087560"/>
            <a:ext cx="77058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285840" algn="just">
              <a:spcBef>
                <a:spcPts val="27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Dne 15. ledna 2021 byl Monitorovacím výborem IROP schválen aktualizovaný programový dokument IROP, v jehož rámci byla vytvořena prioritní osa 6: ReactEU.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ově schválené rozdělení alokace pro ReactEU - celková alokace pro oblast zdravotnictví činí celkem 19,3 mld. Kč (celkem 71,48 % z alokace pro ČR), 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na základě navýšení byl Koncepční pracovní skupině odeslán 15. ledna návrh na schválení nového rozdělení alokace mezi Prioritní oblasti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34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 algn="just">
              <a:spcBef>
                <a:spcPts val="34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ředpoklad vyhlášení výzev je začátek března 2021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87360" y="3029040"/>
          <a:ext cx="6623280" cy="2008080"/>
        </p:xfrm>
        <a:graphic>
          <a:graphicData uri="http://schemas.openxmlformats.org/drawingml/2006/table">
            <a:tbl>
              <a:tblPr/>
              <a:tblGrid>
                <a:gridCol w="1079640"/>
                <a:gridCol w="1081080"/>
                <a:gridCol w="1079640"/>
                <a:gridCol w="1079280"/>
                <a:gridCol w="1079640"/>
                <a:gridCol w="1224000"/>
              </a:tblGrid>
              <a:tr h="423360">
                <a:tc gridSpan="3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ůvodní alokace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aa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Nová alokace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aa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gridSpan="3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5 mld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7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9,3 mld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7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A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daa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65 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9,75 mld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A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daa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52 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0,036 mld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</a:tr>
              <a:tr h="3906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B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daa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 mld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B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daa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6 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6,948 mld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</a:tr>
              <a:tr h="3906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C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daa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5 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,25 mld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C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daa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2 %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,316 mld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</a:tr>
            </a:tbl>
          </a:graphicData>
        </a:graphic>
      </p:graphicFrame>
      <p:sp>
        <p:nvSpPr>
          <p:cNvPr id="152" name="Rectangle 4"/>
          <p:cNvSpPr/>
          <p:nvPr/>
        </p:nvSpPr>
        <p:spPr>
          <a:xfrm>
            <a:off x="1233360" y="3041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87400" y="1412640"/>
            <a:ext cx="7486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ředběžná avíza jednotlivých výzev k předkládání žádostí o podporu z Integrovaného regionálního operačního programu pro následující prioritní oblasti podpory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 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00"/>
              </a:spcBef>
              <a:buClr>
                <a:srgbClr val="003d61"/>
              </a:buClr>
              <a:buFont typeface="Gill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98. výzva - ROZVOJ, MODERNIZACE A POSÍLENÍ ODOLNOSTI PÁTEŘNÍ SÍTĚ POSKYTOVATELŮ ZDRAVOTNÍ PÉČE S OHLEDEM NA POTENCIÁLNÍ HROZBY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00"/>
              </a:spcBef>
              <a:buClr>
                <a:srgbClr val="003d61"/>
              </a:buClr>
              <a:buFont typeface="Gill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99. výzva - ROZVOJ A ZVÝŠENÍ POSKYTOVATELŮ PÉČE O ZVLÁŠTĚ OHROŽENÉ PACIENTY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00"/>
              </a:spcBef>
              <a:buClr>
                <a:srgbClr val="003d61"/>
              </a:buClr>
              <a:buFont typeface="Gill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100. výzva - ZVÝŠENÍ PŘIPRAVENOSTI SUBJEKTŮ ZAPOJENÝCH DO ŘEŠENÍ HROZEB – Rozvoj laboratorních kapacit nemocnic a Rozvoj infektologických pracovišť všeobecných nemocnic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00"/>
              </a:spcBef>
              <a:buClr>
                <a:srgbClr val="003d61"/>
              </a:buClr>
              <a:buFont typeface="Gill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102. výzva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 -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VÝŠENÍ PŘIPRAVENOSTI SUBJEKTŮ ZAPOJENÝCH DO ŘEŠENÍ HROZEB – Rozvoj laboratorních kapacit zdravotních ústavů a Rozvoj infrastruktury krajských hygienických stanic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Avíza budou zveřejněna na webových stránkách MZ, MMR a CR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dběžná avíza výzev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468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ZVOJ, MODERNIZACE A POSÍLENÍ ODOLNOSTI PÁTEŘNÍ SÍTĚ POSKYTOVATELŮ ZDRAVOTNÍ PÉČE S OHLEDEM NA POTENCIÁLNÍ HROZBY- VÝZVA Č. 98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00000" y="1096560"/>
            <a:ext cx="712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Rozvoj a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modernizace pracovišť v návaznosti na standardizovanou síť urgentních příjmů – JIP, ARO, operační sály, intervenční a diagnostická pracoviště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Výše alokace na výzvu – 52 % z celkové alokace pro zdravotnictví, tj. 10,036 mld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V roce 2021 bude uvolněno 80 % této částky, tj. 7 982 031 013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Oprávnění žadatelé: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skytovatelé lůžkové péče zapojení ve standardizované síti urgentních příjmů 1. a 2. typu 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uvedení v seznamu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 na webu MZ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dporované aktivity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 Stavby, rekonstrukce a modernizace pracovišť v návaznosti na síť urgentních příjmů v lékařských oborech dle typu urgentního příjmu;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</a:t>
            </a:r>
            <a:br>
              <a:rPr sz="1600"/>
            </a:b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 a zdravotnických prostředků) uvedených v Seznamu vybavení, dle typu urgentního příjmu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88840" y="2349360"/>
          <a:ext cx="6912000" cy="2320920"/>
        </p:xfrm>
        <a:graphic>
          <a:graphicData uri="http://schemas.openxmlformats.org/drawingml/2006/table">
            <a:tbl>
              <a:tblPr/>
              <a:tblGrid>
                <a:gridCol w="2509920"/>
                <a:gridCol w="4402080"/>
              </a:tblGrid>
              <a:tr h="2131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inimální a maximální výše celkových způsobilých výdajů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c78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Urgentní příjmy 1. typu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Minimální výše celkových způsobilých výdajů: 50 mil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Maximální výše celkových způsobilých výdajů: 500 mil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Urgentní příjmy 2. typu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Minimální výše celkových způsobilých výdajů: 20 mil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Maximální výše celkových způsobilých výdajů: 150 mil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e4ac"/>
                    </a:solidFill>
                  </a:tcPr>
                </a:tc>
              </a:tr>
              <a:tr h="85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mezení na projekt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78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Urgentní příjmy 1. typu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Žadatel může předložit max. 3 projekty.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Urgentní příjmy 2. typu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  <a:ea typeface="Times New Roman"/>
                        </a:rPr>
                        <a:t>Žadatel může předložit max. 1 projekt.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4ac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ZVOJ A ZVÝŠENÍ POSKYTOVATELŮ PÉČE O ZVLÁŠTĚ OHROŽENÉ PACIENTY – VÝZVA Č. 99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33000" y="1037880"/>
            <a:ext cx="6939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Výše alokace na výzvu-  36 % z alokace pro zdravotnictví, tj. 6,9 mld. Kč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V roce 2021 bude uvolněno 80 % této částky, tj. 5 526 021 470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 toho pro aktivitu Podpora péče o pacienty se zvláště závažnou obezitou je vyčleněna alokace: 300 000 000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dporované aktivity: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tavby, rekonstrukce a modernizace pracovišť v lékařských oborech dle typu cílové skupiny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a zdravotnických prostředků) uvedených v  Seznamu vybavení vč. stavebních úprav potřebných k uvedení do provozu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65400" y="2579760"/>
          <a:ext cx="6840360" cy="2232000"/>
        </p:xfrm>
        <a:graphic>
          <a:graphicData uri="http://schemas.openxmlformats.org/drawingml/2006/table">
            <a:tbl>
              <a:tblPr/>
              <a:tblGrid>
                <a:gridCol w="2401560"/>
                <a:gridCol w="4438800"/>
              </a:tblGrid>
              <a:tr h="1279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inimální a maximální výše celkových způsobilých výdajů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c78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inimální výše celkových způsobilých výdajů:  20 mil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aximální výše celkových způsobilých výdajů:  250 mil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aximální výše celkových způsobilých výdajů pro sdružený KOC: 400 mil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e4ac"/>
                    </a:solidFill>
                  </a:tcPr>
                </a:tc>
              </a:tr>
              <a:tr h="952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mezení na žadatele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78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50 mil. Kč / žadatel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Žadatel může předložit max. 1 projekt pro každou cílovou skupinu.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4ac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ZVOJ A ZVÝŠENÍ POSKYTOVATELŮ PÉČE O ZVLÁŠTĚ OHROŽENÉ PACIENTY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33360" y="1600200"/>
            <a:ext cx="6794640" cy="499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Oprávnění žadatelé: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onkologičtí pacienti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– centra vysoce specializované onkologické péče pro dospělé, centra vysoce specializované hematoonkologické péče pro dospělé (které nejsou zároveň centry vysoce specializované onkologické péče pro dospělé)  – poskytovatel lůžkové péče definovaný ve Věstníku MZ č. 7/2020 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</a:t>
            </a:r>
            <a:r>
              <a:rPr b="1" lang="pt-BR" sz="1600" spc="-1" strike="noStrike">
                <a:solidFill>
                  <a:srgbClr val="003d61"/>
                </a:solidFill>
                <a:latin typeface="GillSans"/>
              </a:rPr>
              <a:t>acienti se zvláště závažnou obezitou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– poskytovatel lůžkové péče v souladu se zákonem č. 372/2011 Sb., příspěvková organizace Ministerstva zdravotnictví se sídlem na území hl. města Prahy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acienti s kardiovaskulárními onemocněními – poskytovatel lůžkové péče definovaný v připravovaném Věstníku MZ (předpoklad vyhlášení: únor 2021) jako centrum vysoce specializované komplexní kardiovaskulární péče pro dospělé  vč. spolupracujících subjektů s výjimkou těch, kteří jsou zároveň urgentním příjmem 1. typu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osoby s duševním onemocněním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– poskytovatelé akutní lůžkové péče v oboru psychiatrie ve všeobecných a psychiatrických nemocnicích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ZVOJ A ZVÝŠENÍ POSKYTOVATELŮ PÉČE O ZVLÁŠTĚ OHROŽENÉ PACIENTY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, jejichž zdravotní stav vyžaduje doléčení v lůžkovém zdravotnickém zařízen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Poskytovatel následné lůžkové zdravotní péče a poskytuje alespoň jeden z níže uvedených typů zdravotní péče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 vykazovanými kódy ošetřovacích dnů dle sazebníku zdravotních výkonů zdravotních pojišťoven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ásledná ventilační péče (NVP) - 00015,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ásledná intenzivní péče (NIP) - 00017,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ehabilitační následná péče - 00022,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pneumologická a ftizeologická následná péče - 00023,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ásledná péče, zahrnující péči geriatrickou a ostatní následnou péči - 00024.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VÝŠENÍ PŘIPRAVENOSTI SUBJEKTŮ ZAPOJENÝCH DO ŘEŠENÍ HROZEB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33360" y="1197000"/>
            <a:ext cx="6794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Rozvoj významných laboratorních kapacit nemocnic a rozvoj infektologických pracovišť všeobecných nemocnic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GillSans"/>
              </a:rPr>
              <a:t>Celková výše alokace na výzvu – 10,2 % celkové alokace pro zdravotnictví, tj. 1,966 mld. Kč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d61"/>
                </a:solidFill>
                <a:latin typeface="GillSans"/>
              </a:rPr>
              <a:t>V roce 2021 bude uvolněno 80 % této částky, tj. 1 492 007 156 Kč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3d61"/>
                </a:solidFill>
                <a:uFillTx/>
                <a:latin typeface="GillSans"/>
              </a:rPr>
              <a:t>Oprávnění žadatelé dle podporovaných aktivit: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d61"/>
                </a:solidFill>
                <a:latin typeface="GillSans"/>
              </a:rPr>
              <a:t>Rozvoj laboratorních kapacit nemocnic - </a:t>
            </a:r>
            <a:r>
              <a:rPr b="0" lang="cs-CZ" sz="1400" spc="-1" strike="noStrike">
                <a:solidFill>
                  <a:srgbClr val="003d61"/>
                </a:solidFill>
                <a:latin typeface="GillSans"/>
              </a:rPr>
              <a:t>Poskytovatelé lůžkové péče zapojení ve standardizované síti urgentních příjmů 1. typu 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d61"/>
                </a:solidFill>
                <a:latin typeface="GillSans"/>
              </a:rPr>
              <a:t>Rozvoj infektologických pracovišť všeobecných nemocnic- </a:t>
            </a:r>
            <a:r>
              <a:rPr b="0" lang="cs-CZ" sz="1400" spc="-1" strike="noStrike">
                <a:solidFill>
                  <a:srgbClr val="003d61"/>
                </a:solidFill>
                <a:latin typeface="GillSans"/>
              </a:rPr>
              <a:t>poskytovatel lůžkové zdravotní péče v oboru infekční lékařství (cca 28 poskytovatelů dle seznamu ČLS JEP) 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33360" y="2421000"/>
          <a:ext cx="6912000" cy="2232000"/>
        </p:xfrm>
        <a:graphic>
          <a:graphicData uri="http://schemas.openxmlformats.org/drawingml/2006/table">
            <a:tbl>
              <a:tblPr/>
              <a:tblGrid>
                <a:gridCol w="2347920"/>
                <a:gridCol w="4564080"/>
              </a:tblGrid>
              <a:tr h="2232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inimální a maximální výše celkových způsobilých výdajů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c78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Aktivita: Rozvoj laboratorních kapacit nemocnic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inimální výše celkových způsobilých výdajů:  20 mil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aximální výše celkových způsobilých výdajů:  200 mil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Aktivita: Rozvoj infektologických pracovišť všeobecných nemocnic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inimální výše celkových způsobilých výdajů:  20 mil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aximální výše celkových způsobilých výdajů:  200 mil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ax. výše celkových způsobilých výdajů za všechny předložené projekty jedním žadatelem činí 200 mil. Kč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e4ac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VÝŠENÍ PŘIPRAVENOSTI SUBJEKTŮ ZAPOJENÝCH DO ŘEŠENÍ HROZEB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33360" y="1125000"/>
            <a:ext cx="6794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Podporované aktivity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Rozvoj laboratorních kapacit nemocnic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buClr>
                <a:srgbClr val="003d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GillSans"/>
              </a:rPr>
              <a:t>Stavby, rekonstrukce a modernizace pracovišť v podporovaných lékařských oborech.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buClr>
                <a:srgbClr val="003d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</a:t>
            </a:r>
            <a:br>
              <a:rPr sz="1400"/>
            </a:br>
            <a:r>
              <a:rPr b="0" lang="cs-CZ" sz="1400" spc="-1" strike="noStrike">
                <a:solidFill>
                  <a:srgbClr val="003d61"/>
                </a:solidFill>
                <a:latin typeface="GillSans"/>
              </a:rPr>
              <a:t>a zdravotnických prostředků) uvedených v Seznamu vybavení  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d61"/>
                </a:solidFill>
                <a:latin typeface="GillSans"/>
              </a:rPr>
              <a:t>Podporované lékařské obory: 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Rozvoj infektologických pracovišť všeobecných nemocnic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buClr>
                <a:srgbClr val="003d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GillSans"/>
              </a:rPr>
              <a:t>Stavby, rekonstrukce a modernizace pracovišť v podporovaných lékařských oborech.  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buClr>
                <a:srgbClr val="003d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uvedených v Seznamu vybavení 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d61"/>
                </a:solidFill>
                <a:latin typeface="GillSans"/>
              </a:rPr>
              <a:t>Podporované lékařské obory: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34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GillSans"/>
              </a:rPr>
              <a:t>Infekční lékařství </a:t>
            </a: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70" name="Obrázek 5" descr=""/>
          <p:cNvPicPr/>
          <p:nvPr/>
        </p:nvPicPr>
        <p:blipFill>
          <a:blip r:embed="rId1"/>
          <a:stretch/>
        </p:blipFill>
        <p:spPr>
          <a:xfrm>
            <a:off x="1692360" y="2816280"/>
            <a:ext cx="5472000" cy="1225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Vránová Tereza Mgr.</cp:lastModifiedBy>
  <cp:lastPrinted>2021-01-28T12:41:35Z</cp:lastPrinted>
  <dcterms:modified xsi:type="dcterms:W3CDTF">2021-02-03T13:23:32Z</dcterms:modified>
  <cp:revision>737</cp:revision>
  <dc:subject/>
  <dc:title>Snímek 1</dc:title>
</cp:coreProperties>
</file>