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8.wmf" ContentType="image/x-wmf"/>
  <Override PartName="/ppt/media/image9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4732-B2E5-415C-BAE3-60239458A56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8B16-AEC8-45D1-8035-FCD5BE43F92F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8202-931D-4582-ACD2-AAE96DBEE0A2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5735-79E8-46D4-B1FB-7C9B68181A7F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321C-A912-46C2-8A1C-AA74A07553B0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F887-17FA-4118-AAD5-70751A0609FF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4023-2260-4B4A-8942-A5650A3EC4E3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F5F9-738F-4A13-AAAE-AD96B064923B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 roce 2021 bude uvolněno 80 % této částky, tj. 7 982 031 013 K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055E-1A05-46CA-9AA0-D5BA1A4314F1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45B-71AE-4ABD-84D2-F75BD258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9B4-620A-4B26-83EF-20AAC047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94C-F002-45D9-8562-202BBB37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2EE-49A0-474D-8AA4-CF0B3C18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D22-E4B8-4BAD-AB51-B8915393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1C17-4C5D-4FC1-9A55-3C6B60A1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AEDA-4106-4919-A8D5-4A5A286D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1BCE-97D3-408F-B4BE-17A7E6E9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5250-65FD-40F4-A74A-5FEFE8DE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E7FC-FEE3-4406-863B-76314235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3E3-7CC0-4F9F-93A4-1E8A9798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257A-366D-436F-A2E7-494816A5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AF37-FEC1-446C-AA71-69B36E15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F48B-C285-4594-8487-66E8F32B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412C-7A8D-4F94-9E5F-336A0A07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5CD9-E68F-45A5-B5BA-28B05DBC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43ED-BAA7-49AA-9C1F-40BE1A70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DB00-0CCD-4A88-9AAF-46D40738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92A-738F-46A7-A933-2BA2EF94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E49-EDAE-40A4-BD10-43A17CC0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A77-A130-48E4-9CEF-3CCA841E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493-4570-4AD9-92BE-B6F3F8AD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AE4-562F-4E11-BD77-193F1783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494-A1A1-4772-99D0-A41F9735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7105-6101-4255-9B17-009F28EE8C06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E1B3-815D-4CBC-B76A-A971FC54B41D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mzcr.cz/seznam-poskytovatelu-zdravotnich-sluzeb-s-urgentnimi-prijmy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8000" y="2349360"/>
            <a:ext cx="90360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1434960"/>
            <a:ext cx="914400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Příprava ReactEU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15. únor 2021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Projekt „Projektová kancelář MZd“ 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Picture 2" descr="W:\PUBLICITA\VIZUÁLNÍ_IDENTITA\loga\OPZ\logo_OPZ_barevne.jpg"/>
          <p:cNvPicPr/>
          <p:nvPr/>
        </p:nvPicPr>
        <p:blipFill>
          <a:blip r:embed="rId1"/>
          <a:stretch/>
        </p:blipFill>
        <p:spPr>
          <a:xfrm>
            <a:off x="2411280" y="5423040"/>
            <a:ext cx="4765680" cy="987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9: ROZVOJ A ZVÝŠENÍ ODOLNOSTI POSKYTOVATELŮ PÉČE O ZVLÁŠTĚ OHROŽENÉ PACIENTY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33360" y="1267920"/>
            <a:ext cx="6794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edpokládaná výše alokace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36 % z alokace pro zdravotnictví (6,9 mld. Kč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právnění žadatelé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kytovatelé lůžkové péče, definováni dle cílové skupiny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70" name="Obrázek 3" descr=""/>
          <p:cNvPicPr/>
          <p:nvPr/>
        </p:nvPicPr>
        <p:blipFill>
          <a:blip r:embed="rId1"/>
          <a:stretch/>
        </p:blipFill>
        <p:spPr>
          <a:xfrm>
            <a:off x="1403280" y="3192480"/>
            <a:ext cx="6337440" cy="2397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9: ROZVOJ A ZVÝŠENÍ ODOLNOSTI POSKYTOVATELŮ PÉČE O ZVLÁŠTĚ OHROŽENÉ PACIENTY – oprávnění žadatelé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74680" y="134136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nkologičtí pacienti –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mplexní onkologická centra, centra vysoce specializované hematoonkologické péče(pokud nejsou současně vedena jako Komplexní onkologická centra)  – poskytovatel lůžkové péče definovaný ve Věstníku MZ č. 7/2020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7560" indent="-27756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acienti se zvláště závažnou obezitou –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kytovatel lůžkové zdravotní péče v souladu se zákonem č. 372/2011 Sb., příspěvková organizace Ministerstva zdravotnictví se sídlem na území hl. města Prahy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7560" indent="-27756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acienti s kardiovaskulárními onemocněními –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kytovatel lůžkové péče definovaný v platném Věstníku MZ jako centrum vysoce specializované komplexní kardiovaskulární péče pro dospělé  nebo jako centrum vysoce specializované komplexní kardiovaskulární péče a pro transplantace srdce pro dospělé (žadatel nesmí být zařazen jako UP 1. typu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7560" indent="-27756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soby s duševním onemocněním –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poskytovatelé akutní péče v oboru psychiatrie a návykové nemoci ve všeobecných a psychiatrických nemocnicích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3360" y="-3348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9: ROZVOJ A ZVÝŠENÍ ODOLNOSTI POSKYTOVATELŮ PÉČE O ZVLÁŠTĚ OHROŽENÉ PACIENTY – oprávnění příjemci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acienti, jejichž zdravotní stav vyžaduje doléčení v lůžkovém zdravotnickém zařízení–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oskytovatel následné lůžkové zdravotní péče, který poskytuje alespoň jeden z níže uvedených typů zdravotní péče: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2" marL="92232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• 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následná ventilační péče (NVP) - 00015,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2" marL="92232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následná intenzivní péče (NIP) - 00017,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2" marL="92232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rehabilitační následná péče - 00022,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2" marL="92232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neumologická a ftizeologická následná péče - 00023,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2" marL="92232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•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následná péče, zahrnující péči geriatrickou a ostatní následnou péči - 00024.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9: ROZVOJ A ZVÝŠENÍ ODOLNOSTI POSKYTOVATELŮ PÉČE O ZVLÁŠTĚ OHROŽENÉ PACIENTY – Podporovaná péče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74680" y="148428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nkologičtí pacienti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lékařské obory: onkologie, paliativa)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acienti s kardiovaskulárními onemocněními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lékařské obory: kardiologie, kardiochirurgie)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acienti se zvláště závažnou obezitou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lékařské obory lůžkové péče: interna (metabolicky/endokrinologicky zaměřená), chirurgie, rehabilitace) 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acienti jejichž zdravotní stav vyžaduje doléčení v lůžkovém zdravotnickém zařízení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nasmlouvaná péče: následná ventilační péče, následná intenzivní péče, rehabilitační následná péče, pneumologická a ftizeologická následná péče, následná péče, zahrnující péči geriatrickou a ostatní následnou péči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soby s duševním onemocněním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lékařské obory: psychiatrie a návykové nemoci)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601"/>
              </a:spcBef>
              <a:buClr>
                <a:srgbClr val="003d6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9: ROZVOJ A ZVÝŠENÍ ODOLNOSTIPOSKYTOVATELŮ PÉČE O ZVLÁŠTĚ OHROŽENÉ PACIENTY – způsobilé výdaj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tavby, rekonstrukce a modernizace pracovišť v lékařských oborech dle vymezené ohrožené cílové skupiny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řízení přístrojového vybavení a technologií (zdravotnické techniky a zdravotnických prostředků) uvedených v Seznamu doporučeného vybavení vč. stavebních úprav potřebných k uvedení do provozu. Instruktáž personálu podle zákona č. 268/2014 Sb., o zdravotních prostředcích související s pořízením zdravotnických prostředků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33360" y="-3348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100: ZVÝŠENÍ PŘIPRAVENOSTI SUBJEKTŮ ZAPOJENÝCH DO ŘEŠENÍ HROZEB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99640" y="1341000"/>
            <a:ext cx="741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Rozvoj laboratorních kapacit nemocnic a rozvoj infektologických pracovišť všeobecných nemocnic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ředpokládaná výše alokace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: 10,2 % z celkové alokace pro zdravotnictví (1,966 mld. Kč)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právnění příjemci dle podporovaných aktivit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: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50320" indent="-32904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Rozvoj laboratorních kapacit nemocnic - Poskytovatelé lůžkové péče zapojení ve standardizované síti urgentních příjmů 1. typu 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50320" indent="-32904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Rozvoj infektologických pracovišť všeobecných nemocnic- poskytovatel lůžkové zdravotní péče v oboru infekční lékařství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50320" indent="-32904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ýše dotace: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Minimální výše celkových způsobilých výdajů: 20 mil. Kč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2" marL="912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Maximální výše celkových způsobilých výdajů: 200 mil. Kč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Max. výše celkových způsobilých výdajů za všechny předložené  projekty jedním žadatelem - 200 mil. Kč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100: ZVÝŠENÍ PŘIPRAVENOSTI SUBJEKTŮ ZAPOJENÝCH DO ŘEŠENÍ HROZEB- podporované obory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31640" y="1341360"/>
            <a:ext cx="679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Rozvoj laboratorních kapacit nemocnic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Stavby, rekonstrukce a modernizace pracovišť v podporovaných lékařských oborech.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ořízení přístrojového vybavení a technologií (zdravotnické techniky </a:t>
            </a:r>
            <a:br>
              <a:rPr sz="1600"/>
            </a:b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a zdravotnických prostředků) uvedených v Seznamu vybavení 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odporované lékařské obory: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Rozvoj infektologických pracovišť všeobecných nemocnic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Stavby, rekonstrukce a modernizace pracovišť v podporovaných lékařských oborech. 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ořízení přístrojového vybavení a technologií uvedených v Seznamu vybavení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odporované lékařské obory: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653760" indent="-17604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Infekční lékařství 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83" name="Obrázek 5" descr=""/>
          <p:cNvPicPr/>
          <p:nvPr/>
        </p:nvPicPr>
        <p:blipFill>
          <a:blip r:embed="rId1"/>
          <a:stretch/>
        </p:blipFill>
        <p:spPr>
          <a:xfrm>
            <a:off x="1893960" y="3141720"/>
            <a:ext cx="5473800" cy="1225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102: ZVÝŠENÍ PŘIPRAVENOSTI SUBJEKTŮ ZAPOJENÝCH DO ŘEŠENÍ HROZEB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Rozvoj laboratorních kapacit zdravotních ústavů a Rozvoj infrastruktury krajských hygienických stanic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ředpokládaná výše alokace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: 1,8 % z celkové alokace pro zdravotnictví (350 mil. Kč)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Oprávnění příjemci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: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885960" indent="-34308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Krajské hygienické stanice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885960" indent="-34308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Zdravotní ústavy (SZÚ, ZÚ Ostrava, ZÚ Ústí n. Labem)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Výše dotace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: Minimální výše celkových způsobilých výdajů: 2 mil. Kč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           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Maximální výše celkových způsobilých výdajů: 150 mil. Kč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Max. výše celkových způsobilých výdajů za všechny předložené projekty jedním žadatelem -150 mil. Kč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ožadované informace od příspěvkových organizací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edpoklad vyhlášení výzev od března 2021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Tabulka k předhodnocení projektových záměrů PŘO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88" name="Obrázek 6" descr="Obsah obrázku stůl&#10;&#10;Popis byl vytvořen automaticky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3710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edkládání projektových záměrů v ReactEU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90" name="Zástupný obsah 2" descr=""/>
          <p:cNvPicPr/>
          <p:nvPr/>
        </p:nvPicPr>
        <p:blipFill>
          <a:blip r:embed="rId1"/>
          <a:stretch/>
        </p:blipFill>
        <p:spPr>
          <a:xfrm>
            <a:off x="1176480" y="1566720"/>
            <a:ext cx="6851520" cy="4559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ROGRAM ŠKOLENÍ   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62080" y="1600200"/>
          <a:ext cx="6794640" cy="4525920"/>
        </p:xfrm>
        <a:graphic>
          <a:graphicData uri="http://schemas.openxmlformats.org/drawingml/2006/table">
            <a:tbl>
              <a:tblPr/>
              <a:tblGrid>
                <a:gridCol w="2208240"/>
                <a:gridCol w="4586400"/>
              </a:tblGrid>
              <a:tr h="40968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9:00 – 9:05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Úvodní slovo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60624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9:05 – 09:15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Úvodní slovo za MMR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58572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9:15 – 10:0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íprava REACT-EU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38736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0:00 – 10:2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Odpovědi na dotazy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38592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0:20 – 10:3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stávka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78588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0:30 – 10:45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Žádost o dotaci – proces předkládání a schvalování (doporučení, na co si dát pozor)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38736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0:45 – 11:00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Administrace ZoR, ŽoP, změn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58572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1:00 – 11:45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Veřejné zakázky (nejčastější pochybení a dobrá praxe)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392040"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1:45 – 13:00 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Odpovědi na dotazy</a:t>
                      </a:r>
                      <a:endParaRPr b="0" lang="en-US" sz="1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0033"/>
                </a:solidFill>
                <a:latin typeface="GillSans"/>
              </a:rPr>
              <a:t>DĚKUJI ZA POZORNOST!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eactEU- kontex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Investiční nástroj EU- reakce na boj s Covid-19 a jeho dopad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ůsobnost na území celé ČR, včetně Prah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ealizace projektů v období 1.2.2020-31.12.2023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 ČR předpoklad 27 mld. Kč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 zdravotnictví předpoklad 19,3 mld. Kč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Implementace jako PO 6 IROP 2014-2020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eactEU- rozdělení alokace MZ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4" name="Obdélník 1"/>
          <p:cNvSpPr/>
          <p:nvPr/>
        </p:nvSpPr>
        <p:spPr>
          <a:xfrm>
            <a:off x="1042920" y="1290600"/>
            <a:ext cx="741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Nově schválené rozdělení alokace pro ReactEU - celková alokace pro oblast zdravotnictví činí celkem 19,3 mld. Kč, Koncepční pracovní skupinou a poradou vedení  schválen návrh nového rozdělení alokace mezi prioritní oblasti.</a:t>
            </a: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lvl="1" marL="54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  <a:p>
            <a:pPr marL="285840" indent="-285840"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ředpoklad vyhlášení výzev je březen 2021.</a:t>
            </a: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33360" y="2687760"/>
          <a:ext cx="6794640" cy="1482480"/>
        </p:xfrm>
        <a:graphic>
          <a:graphicData uri="http://schemas.openxmlformats.org/drawingml/2006/table">
            <a:tbl>
              <a:tblPr/>
              <a:tblGrid>
                <a:gridCol w="2265480"/>
                <a:gridCol w="2263680"/>
                <a:gridCol w="2265480"/>
              </a:tblGrid>
              <a:tr h="3715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19, 3 mld. Kč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ioritní oblast A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52 %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0,03 mld. Kč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ioritní oblast B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36 %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6,94 mld. Kč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ioritní oblast C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2 %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2,316 mld. Kč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riority MZ- Předběžná avíza výzev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57" name="Zástupný symbol pro obsah 2" descr=""/>
          <p:cNvPicPr/>
          <p:nvPr/>
        </p:nvPicPr>
        <p:blipFill>
          <a:blip r:embed="rId1"/>
          <a:stretch/>
        </p:blipFill>
        <p:spPr>
          <a:xfrm>
            <a:off x="1170000" y="1603440"/>
            <a:ext cx="6761160" cy="4279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illSans"/>
              </a:rPr>
              <a:t>Výzva č. 98: ROZVOJ, MODERNIZACE A POSÍLENÍ ODOLNOSTI PÁTEŘNÍ SÍTĚ POSKYTOVATELŮ ZDRAVOTNÍ PÉČE S OHLEDEM NA POTENCIÁLNÍ HROZBY</a:t>
            </a:r>
            <a:endParaRPr b="1" lang="en-US" sz="1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ozvoj a modernizace pracovišť v návaznosti na standardizovanou síť urgentních příjmů – JIP, ARO, operační sály, intervenční a diagnostická pracoviště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edpokládaná výše alokace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: 52 % z celkové alokace pro zdravotnictví (10,036 mld. Kč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právnění příjemci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: poskytovatelé lůžkové péče zapojení ve standardizované síti urgentních příjmů (97 poskytovatelů)  </a:t>
            </a:r>
            <a:r>
              <a:rPr b="0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https://www.mzcr.cz/seznam-poskytovatelu-zdravotnich-sluzeb-s-urgentnimi-prijmy/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še dotace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: dle typu urgentního příjmu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8596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773440" y="2009880"/>
            <a:ext cx="18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8: ROZVOJ, MODERNIZACE A POSÍLENÍ ODOLNOSTI PÁTEŘNÍ SÍTĚ POSKYTOVATELŮ ZDRAVOTNÍ PÉČE S OHLEDEM NA POTENCIÁLNÍ HROZBY– výše dotac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63" name="Obrázek 6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718400" cy="2917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8: ROZVOJ, MODERNIZACE A POSÍLENÍ ODOLNOSTI PÁTEŘNÍ SÍTĚ POSKYTOVATELŮ ZDRAVOTNÍ PÉČE S OHLEDEM NA POTENCIÁLNÍ HROZBY– podporované obory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65" name="Zástupný obsah 3" descr="Obsah obrázku stůl&#10;&#10;Popis byl vytvořen automaticky"/>
          <p:cNvPicPr/>
          <p:nvPr/>
        </p:nvPicPr>
        <p:blipFill>
          <a:blip r:embed="rId1"/>
          <a:stretch/>
        </p:blipFill>
        <p:spPr>
          <a:xfrm>
            <a:off x="1944720" y="1182600"/>
            <a:ext cx="6299280" cy="5307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Výzva č. 98: ROZVOJ, MODERNIZACE A POSÍLENÍ ODOLNOSTI PÁTEŘNÍ SÍTĚ POSKYTOVATELŮ ZDRAVOTNÍ PÉČE S OHLEDEM NA POTENCIÁLNÍ HROZBY- způsobilé výdaj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3d61"/>
                </a:solidFill>
                <a:uFillTx/>
                <a:latin typeface="GillSans"/>
              </a:rPr>
              <a:t>Stavby a stavební práce (rozvoj pracovišť oborů definovaných dle typů urgentního příjmu):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výstavba nových objektů;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stavební úpravy a rekonstrukce stávající stavby;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výdaje na prostory, které tvoří funkční celek s podporovanými pracovišti a jsou součástí stavby např. chodby, balkony, výtahy, sociální zázemí, šatny, čekárny, sklady zdravotního materiálu (nelze podpořit samostatně bez výstavby/rekonstrukce nebo modernizace pracoviště).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budování a modernizace související inženýrské sítě (vodovod, kanalizace, plyn, elektrické vedení) v rámci stavby, která je součástí projektu a projektové dokumentace stavby (způsobilým výdajem je přípojka realizovaná i mimo pozemek hlavní stavby, pokud je tato přípojka součástí projektové dokumentace a souvisí s realizovaným projektem);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stavební úpravy potřebné k uvedení do provozu přístrojového vybavení a technologií (zdravotnické techniky a zdravotnických prostředků) uvedených v Seznamu vybavení;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3d61"/>
                </a:solidFill>
                <a:uFillTx/>
                <a:latin typeface="GillSans"/>
              </a:rPr>
              <a:t>Přístrojové vybavení/zdravotnické prostředky/technologie a vybavení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pořízení přístrojového vybavení a technologií (zdravotnické techniky a zdravotnických prostředků) uvedených v Seznamu vybavení;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výdaje na technologie 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výdaje na instruktáž personálu podle zákona č. 268/2014 Sb., o zdravotnických prostředcích, ve znění pozdějších předpisů;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3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výdaje na vybavení prostor pro poskytování a zajišťování zdravotní péče, které tvoří funkční celek, např. vybavení, nábytek, technologické a technické vybavení.</a:t>
            </a: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Vránová Tereza Mgr.</cp:lastModifiedBy>
  <cp:lastPrinted>2020-02-27T06:59:52Z</cp:lastPrinted>
  <dcterms:modified xsi:type="dcterms:W3CDTF">2021-02-18T09:48:10Z</dcterms:modified>
  <cp:revision>653</cp:revision>
  <dc:subject/>
  <dc:title>Snímek 1</dc:title>
</cp:coreProperties>
</file>