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971C-54D7-4F01-B1E9-8E6FAABCD1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87B-6602-4BAF-BE0B-4662182A6B5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F04-BF7D-4963-88C1-160AD91A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8B1-A808-4646-8112-416651A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EFB-1991-4C92-96FD-96507A7C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42D-754C-4CE7-88B4-9E660234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B5A-A8CC-4B2C-8DFB-9875931B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3AF-3AC4-43DF-BB39-5E25CECB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9DF-C818-474F-A10D-21A5D7B2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F53-87D5-463C-89BF-27C3ADBF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C23E-1145-4A14-920E-C472521A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BBC-5BD0-4D27-9B01-0EFACE38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C0E-05CC-4879-BA81-7F3F9CE1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F913-6445-4C87-BBB1-1DBE3788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2EDD-39B5-480E-A062-24D970B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CAC1-73F1-40FF-8132-38ED648E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0DD4-4BFF-492D-B231-B896776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946-6136-40FA-8C2C-9CC95FB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B403-F351-4FC6-90EC-9EF4BE36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D533-D115-4416-9E62-1E965427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1E0-A86D-4839-9C08-F3467DD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7D3-4339-410F-858F-F2FFFDDC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849-9227-439F-A96F-63142083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374-CF56-4EB8-A2B8-9AC6860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200-E1A0-4FA9-88A5-A6DFBD35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1F5-A669-479C-99B1-474248C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604-BC36-4803-94D0-41B1FFC000A8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E37E-35C2-4F14-9190-8F2CC58AC35A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1268280"/>
            <a:ext cx="8135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Školení pracovníků přímo řízených organizací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Možnosti čerpání finančních prostředků pro psychiatrické nemocnice z ESIF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2. prosince 2019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rojektová kancelář Ministerstva zdravotnictví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CZ.03.4.74/0.0/0.0/15_025/000371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783400"/>
            <a:ext cx="5191200" cy="107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aximální výše podpory ve SC 5.1a) a 5.3a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Památkově chráněné a architektonicky cenné budov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9" name="Obrázek 3" descr=""/>
          <p:cNvPicPr/>
          <p:nvPr/>
        </p:nvPicPr>
        <p:blipFill>
          <a:blip r:embed="rId1"/>
          <a:stretch/>
        </p:blipFill>
        <p:spPr>
          <a:xfrm>
            <a:off x="900000" y="2409840"/>
            <a:ext cx="7712280" cy="1816200"/>
          </a:xfrm>
          <a:prstGeom prst="rect">
            <a:avLst/>
          </a:prstGeom>
          <a:ln w="0">
            <a:noFill/>
          </a:ln>
        </p:spPr>
      </p:pic>
      <p:sp>
        <p:nvSpPr>
          <p:cNvPr id="170" name="Obdélník 4"/>
          <p:cNvSpPr/>
          <p:nvPr/>
        </p:nvSpPr>
        <p:spPr>
          <a:xfrm>
            <a:off x="900000" y="4595760"/>
            <a:ext cx="7834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3d61"/>
              </a:buClr>
              <a:buFont typeface="Segoe U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Segoe UI"/>
                <a:ea typeface="Segoe UI"/>
              </a:rPr>
              <a:t>Je možné získat bonifikaci ve výši 5 % v případě kombinace s EPC nebo metodikou Design&amp;Build. </a:t>
            </a:r>
            <a:endParaRPr b="0" lang="en-US" sz="1400" spc="-1" strike="noStrike">
              <a:solidFill>
                <a:srgbClr val="003d61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003d61"/>
              </a:buClr>
              <a:buFont typeface="Segoe U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Segoe UI"/>
                <a:ea typeface="Segoe UI"/>
              </a:rPr>
              <a:t>Výjimku mohou tvořit výplně otvorů dle ČSN 730540-2, bodu 5.2.8.</a:t>
            </a:r>
            <a:endParaRPr b="0" lang="en-US" sz="1400" spc="-1" strike="noStrike">
              <a:solidFill>
                <a:srgbClr val="003d61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003d61"/>
              </a:buClr>
              <a:buFont typeface="Segoe U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Segoe UI"/>
                <a:ea typeface="Segoe UI"/>
              </a:rPr>
              <a:t>Je možno uplatnit výjimku s ohledem na stanovisko příslušného orgánu památkové péče.                   U architektonicky cenných bude doplněno ještě o nezávislý posudek, který zajišťuje SFŽP ČR. </a:t>
            </a:r>
            <a:endParaRPr b="0" lang="en-US" sz="1400" spc="-1" strike="noStrike">
              <a:solidFill>
                <a:srgbClr val="003d61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003d61"/>
              </a:buClr>
              <a:buFont typeface="Segoe U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d61"/>
                </a:solidFill>
                <a:latin typeface="Segoe UI"/>
                <a:ea typeface="Segoe UI"/>
              </a:rPr>
              <a:t>Je možné získat bonifikaci ve výši 5 %, pokud se zároveň s realizací energeticky úsporné renovace instalují obnovitelné zdroje energie (musí pokrýt alespoň 40 % celkové spotřeby energie v budově).</a:t>
            </a:r>
            <a:endParaRPr b="0" lang="en-US" sz="1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aximální výše podpory ve SC 5.1b) a 5.3b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72" name="Zástupný symbol pro obsah 3" descr=""/>
          <p:cNvPicPr/>
          <p:nvPr/>
        </p:nvPicPr>
        <p:blipFill>
          <a:blip r:embed="rId1"/>
          <a:stretch/>
        </p:blipFill>
        <p:spPr>
          <a:xfrm>
            <a:off x="932040" y="1947960"/>
            <a:ext cx="7816680" cy="4408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působilé náklady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755280" y="1599840"/>
            <a:ext cx="7993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 způsobilé výdaje jsou obecně považovány stavební práce, dodávky a služby bezprostředně související s předmětem podpor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jektová příprava, TDI, BOZ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limity (zateplení, zdroje a další opatření) jsou definovány v PrŽa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ožnost uplatnění vyšší míry způsobilosti (i bez limitu) u památkově chráněných budo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Aktuální výzvy SC 5.1 a 5.3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280" y="119664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Termín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čátek podání žádosti 121. a 135. výzvy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2. 5. 2019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ec podání žádosti 121. a 135. výzvy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3. 2. 2020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Alok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,5, resp. 2 mld. Kč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ystém hodnoce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esoutěžní výzv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ení bodováno tj. „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kdo splní, dostane“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Individuální přístup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ožnost individuální a průběžná konzultace projektů 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Možnost školení na MS 2014+ pro OSS,SPO a VVI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6176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vize (kontrola) připravených projektů před podáním žádosti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lánovaná výzva v r. 2020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31520" y="1484280"/>
            <a:ext cx="7272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Termín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čátek podání žádosti 146. výzvy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2. 3. 2020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nec podání žádosti 146. výzvy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2. 3. 2021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Alok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,5 mld. Kč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pecifický cíl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5.1.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Změny oproti stávajícím výzvám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9320" indent="-3326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stavba nových budov v pasivním standardu v rámci 5.1. 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ásadní přílohy k žádosti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26560" y="1600200"/>
            <a:ext cx="7921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Energetické posouz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le zveřejněného závazného vzor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tudie stavebně technologického záměru nebo Projektová dokumentac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 úrovni pro stavební povolení (u relevantních projektů) případně vyšší stupeň projektové dokumentace včetně položkového rozpočtu (možnost i agregovaného např. u dodávek)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Odborný posudek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zpracovaný v souladu s „Metodikou posuzování staveb z hlediska výskytu obecně a zvláště chráněných synantropních druhů živočichů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000160"/>
            <a:ext cx="835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Metodický pokyn pro projekty PO a OSS MZ spolufinancované z ESIF v Operačním programu Životní prostředí 2014-2020 – financování nezpůsobilých výdajů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Úvod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4292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chválen poradou vedení MZ dne 17. 9. 2019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vazuje na dokument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avidla pro žadatele a příjemce podpory z OPŽP 2014-2020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íkaz ministra č. 12/2017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etodický pokyn samostatného oddělení programu Nová zelená úsporám Ministerstva životního prostřed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52760" indent="-2916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tup pro Přímo řízené organizace pro projekty ESIF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znik z důvodu stanovení obecných pravidel pro financování nezpůsobilých výdajů projektů přímo řízených organizací M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1600" indent="-29160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určen pro výzvy č. 39, 70 a 100 OPŽ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Výdaje projekt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26560" y="119664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působilé výdaj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. 45 % NZÚ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? % OPŽP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x. 20 % SR kapitola 335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Nezpůsobilé výdaje 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imárně hrazeny příjemcem dotace z vlastních zdroj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lze získat dotaci ze SR kapitoly 335 na nezpůsobilé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investič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daj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daj musí splňovat pravidlo 3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Jedná se primárně o: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. investiční (realizační) výdaj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d stanovené finanční limit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avidly OPŽP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. investiční výdaje na komplexní projekt/investiční akc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illSans"/>
              </a:rPr>
              <a:t>Příloha č. 1 - Žádost o financování nezpůsobilých výdajů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říloha č. 1 Metodického pokynu – vzor žád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slat datovou schránkou podepsané statutárním zástupcem organ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eprodleně po schválení žádosti o podporu ze strany SFŽP, tj. před vydáním registrace ak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kud je vydána registraci akce          žádost zaslána nejpozději před vydáním Rozhodnutí o poskytnutí dotace/Stanovení výdaj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8" name="Přímá spojnice se šipkou 4" descr=""/>
          <p:cNvPicPr/>
          <p:nvPr/>
        </p:nvPicPr>
        <p:blipFill>
          <a:blip r:embed="rId1"/>
          <a:stretch/>
        </p:blipFill>
        <p:spPr>
          <a:xfrm>
            <a:off x="5651640" y="4395960"/>
            <a:ext cx="52992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2463480"/>
            <a:ext cx="67946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Operační program Životní prostředí 2014+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ENERGETICKÉ ÚSPORY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0" name="Obrázek 4" descr=""/>
          <p:cNvPicPr/>
          <p:nvPr/>
        </p:nvPicPr>
        <p:blipFill>
          <a:blip r:embed="rId1"/>
          <a:stretch/>
        </p:blipFill>
        <p:spPr>
          <a:xfrm>
            <a:off x="-7920" y="5376960"/>
            <a:ext cx="9151920" cy="148248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5" descr=""/>
          <p:cNvPicPr/>
          <p:nvPr/>
        </p:nvPicPr>
        <p:blipFill>
          <a:blip r:embed="rId2"/>
          <a:stretch/>
        </p:blipFill>
        <p:spPr>
          <a:xfrm>
            <a:off x="2789280" y="4265640"/>
            <a:ext cx="3682800" cy="74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5544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nezpůsobilých výdajů ze SR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483920"/>
            <a:ext cx="77040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 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y PO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elkové výdaje projektu dosahují méně než 100 mil. Kč - porada vedení MZ rozhodne o financování 80 % uznatelných NV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elkové výdaje projektu dosahují více než 100 mil. Kč - porada vedení MZ rozhodne o procentní výši financování uznatelných N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plexní projekt/investiční akce - porada vedení MZ rozhodne o procentní výši financování uznatelných NV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y OSS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407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rada vedení MZ rozhodne o procentní výši financování uznatelných NV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Financování nezpůsobilých výdajů ze SR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056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427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ýše financování nezpůsobilých výdajů ze SR bude stanovena pevnou částkou, kterou nelze navýšit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případě, že dojde v průběhu realizace projektu k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nížení výše nezpůsobilých výdaj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stanovených v Registraci akce    poměrně poníženo i financování nezpůsobilých výdajů ze SR v rámci vydání Rozhodnutí o poskytnutí dotace/Stanovení výdaj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 algn="just">
              <a:spcBef>
                <a:spcPts val="499"/>
              </a:spcBef>
              <a:buClr>
                <a:srgbClr val="003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93" name="Přímá spojnice se šipkou 3" descr=""/>
          <p:cNvPicPr/>
          <p:nvPr/>
        </p:nvPicPr>
        <p:blipFill>
          <a:blip r:embed="rId1"/>
          <a:stretch/>
        </p:blipFill>
        <p:spPr>
          <a:xfrm>
            <a:off x="7236000" y="2664000"/>
            <a:ext cx="52992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PC – příloha č. 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ání energetických služeb se zaručeným výsledke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oučástí plnění může být i tzv. dodavatelské financo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je-li využita metoda EPC v projektu             nutno doložit přílohu č. 2 „čestné prohlášení k využití metody EPC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-li metoda EPC využita jako tzv. dodavatelské financování           „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kyn k procesu schvalování metody EPC jako dodavatelského úvěru na financování vlastních zdrojů u projektů realizovaných v Operačním programu Životní prostředí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2120" indent="-3121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96" name="Přímá spojnice se šipkou 3" descr=""/>
          <p:cNvPicPr/>
          <p:nvPr/>
        </p:nvPicPr>
        <p:blipFill>
          <a:blip r:embed="rId1"/>
          <a:stretch/>
        </p:blipFill>
        <p:spPr>
          <a:xfrm>
            <a:off x="5797440" y="3097080"/>
            <a:ext cx="530280" cy="378000"/>
          </a:xfrm>
          <a:prstGeom prst="rect">
            <a:avLst/>
          </a:prstGeom>
          <a:ln w="0">
            <a:noFill/>
          </a:ln>
        </p:spPr>
      </p:pic>
      <p:pic>
        <p:nvPicPr>
          <p:cNvPr id="197" name="Přímá spojnice se šipkou 4" descr=""/>
          <p:cNvPicPr/>
          <p:nvPr/>
        </p:nvPicPr>
        <p:blipFill>
          <a:blip r:embed="rId2"/>
          <a:stretch/>
        </p:blipFill>
        <p:spPr>
          <a:xfrm>
            <a:off x="3200400" y="4395960"/>
            <a:ext cx="53640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EPC - příloha č. 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55280" y="1599840"/>
            <a:ext cx="838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okyn k procesu schvalování metody EPC jako dodavatelského úvěru na financování vlastních zdrojů u projektů realizovaných v Operačním programu Životní prostřed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 s dotací do 200 mil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e schválení MF se předkládají pouze veřejné zakázky týkající se výběru dodavatele/poskytovatele energetických služeb, respektive metody EPC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Gill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rojekt s dotací nad 200 mil. Kč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45720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e schválení MF se předkládají veškeré veřejné zakázk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rioritní osa 5 – Energetické úspory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600200"/>
            <a:ext cx="8137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pecifický cíl 5.1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– Snížit energetickou náročnost veřejných budov a zvýšit využití obnovitelných zdrojů energie (FS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pecifický cíl 5.2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– Dosáhnout vysokého energetického standardu nových veřejných budov (ERDF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pecifický cíl 5.3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– Snížit energetickou náročnost veřejných budov a zvýšit využití obnovitelných zdrojů energie v budovách ústředních vládních institucí (ERDF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illSans"/>
              </a:rPr>
              <a:t>Typy podporovaných projektů a aktivit        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GillSans"/>
              </a:rPr>
              <a:t>SC 5.1.a) a 5.3.a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teplení obvodového pláště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měna a renovace (repase) otvorových výpl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alizace systémů nuceného větrání s rekuperací odpadního tepla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otovoltaické systém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ystémy využívající odpadní tepl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konstrukce zdroje vytápění, včetně otopných soustav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patření mající prokazatelně vliv na energetickou náročnost budovy nebo zlepší kvalitu vnitřního prostředí, např.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konstrukce a modernizace vnitřního osvětl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ystémy měření a regulace vytápění a větr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zabraňující letnímu přehřívání (venkovní stíně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atření zlepšující prostorovou akustik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Typy podporovaných projektů a aktivit         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 5.1.b) a 5.3.b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55280" y="281952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měna zdroje tepla pro vytápění nebo přípravu teplé užitkové vody s výkonem nižším než 5 MW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využívajícího fosilní paliva nebo elektrickou energii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a účinné zdroje využívající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biomasu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tepelná čerpadla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kondenzační kotle na zemní plyn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bo zařízení pro kombinovanou výrobu elektřiny a tepla využívající obnovitelné zdroje nebo zemní plyn.  Instalace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solárně - termických kolektorů a fotovoltaických systé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illSans"/>
              </a:rPr>
              <a:t>Co není podporováno ve SC 5.1 a 5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26920" y="1599840"/>
            <a:ext cx="7848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jsou podporována opatření realizovaná na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novostavbách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přístavbách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a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nástavbách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 Omezení se netýká půdních vestaveb, kde nedochází k rozšíření stávajícího obestavěného prostor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jsou podporována opatření realizovaná v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bytových a rodinných domech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ní podporována výměna zdroje na vytápění, kterou by došlo  k 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úplnému odpojení od SZT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ejsou podporovány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výměny kotlů na zemní plyn za kotle na biomas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GillSans"/>
              </a:rPr>
              <a:t>Co je zvýhodňováno ve SC 5.1 a 5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564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hodněná podpora pro kombinaci instalace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FVE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alizací systémů nuceného větrání s rekuperací odpadního tepl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hodněná podpora pro projekty, které aplikují metodu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EPC nebo Design</a:t>
            </a:r>
            <a:r>
              <a:rPr b="1" lang="en-US" sz="2000" spc="-1" strike="noStrike">
                <a:solidFill>
                  <a:srgbClr val="0046ad"/>
                </a:solidFill>
                <a:latin typeface="GillSans"/>
              </a:rPr>
              <a:t>&amp;Build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– zaručená úspor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hodněná podpora pro projekty realizující </a:t>
            </a: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OZ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památkově chráněné budovy  a architektonicky cenné budovy 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ají zvláštní režim (vyšší způsobilé náklady, mírnější požadavky na plnění technických parametrů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 jakým změnám došlo ve SC 5.1 a 5.3? 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(121. a 135. výzva)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0000" y="1599840"/>
            <a:ext cx="80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výšení většiny limitů způsobilých výdajů o 15 %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onifikace ve výši 5 % (dotace) v případě, kdy se zároveň s realizací energeticky úsporné renovace veřejné budovy instalují obnovitelné zdroje energie, které pokryjí alespoň 40 % celkové spotřeby energie v budově po realizaci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výšení dotace (ze 40 na 60 %) u realizací výměny zdroje pro vytápění a ohřev TV za účinné zdroje využívající biomasu, tepelná čerpadla, instalace solárně-termických kolektorů a fotovoltaických systé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2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plnění samostatných opatření v oblasti vnitřního osvětlení, zlepšení prostorové akustiky a ochrany proti letnímu přehří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Maximální výše podpory ve SC 5.1a) a 5.3a)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46ad"/>
                </a:solidFill>
                <a:latin typeface="GillSans"/>
              </a:rPr>
              <a:t>Běžné objekt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6" name="Obrázek 4" descr=""/>
          <p:cNvPicPr/>
          <p:nvPr/>
        </p:nvPicPr>
        <p:blipFill>
          <a:blip r:embed="rId1"/>
          <a:stretch/>
        </p:blipFill>
        <p:spPr>
          <a:xfrm>
            <a:off x="914400" y="2463840"/>
            <a:ext cx="7978680" cy="3662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Pohlová Michaela Mgr.</cp:lastModifiedBy>
  <cp:lastPrinted>2019-06-05T13:39:22Z</cp:lastPrinted>
  <dcterms:modified xsi:type="dcterms:W3CDTF">2019-11-27T12:22:40Z</dcterms:modified>
  <cp:revision>687</cp:revision>
  <dc:subject/>
  <dc:title>Snímek 1</dc:title>
</cp:coreProperties>
</file>