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85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9B745-EF93-4A47-B2C4-7C0ACCD44F3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8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FD29F-3845-4831-ACE7-F3C3D67A68FB}" type="slidenum">
              <a:rPr b="0" lang="cs-CZ" sz="1200" spc="-1" strike="noStrike">
                <a:solidFill>
                  <a:srgbClr val="003d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85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5EC09-72B6-444C-88E6-69F3E36A7896}" type="slidenum">
              <a:rPr b="0" lang="cs-CZ" sz="1200" spc="-1" strike="noStrike">
                <a:solidFill>
                  <a:srgbClr val="003d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85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24486-DEC5-46AF-9CE4-E2E716AD5325}" type="slidenum">
              <a:rPr b="0" lang="cs-CZ" sz="1200" spc="-1" strike="noStrike">
                <a:solidFill>
                  <a:srgbClr val="003d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85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0000"/>
                </a:solidFill>
                <a:latin typeface="Times New Roman"/>
              </a:rPr>
              <a:t>APEL NA RYCHLOU REAKCI, V PŘÍPADĚ, ŽE SI VYŽÁDÁME INFORMACE PRO ŘO!!!!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DE58A-D056-443D-AD0F-47724C87A567}" type="slidenum">
              <a:rPr b="0" lang="cs-CZ" sz="1200" spc="-1" strike="noStrike">
                <a:solidFill>
                  <a:srgbClr val="003d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8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428E4-DE14-4B12-B473-0738DF80F9B6}" type="slidenum">
              <a:rPr b="0" lang="cs-CZ" sz="1200" spc="-1" strike="noStrike">
                <a:solidFill>
                  <a:srgbClr val="003d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8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66E17-18F9-4549-9515-1FC527AFCD02}" type="slidenum">
              <a:rPr b="0" lang="cs-CZ" sz="1200" spc="-1" strike="noStrike">
                <a:solidFill>
                  <a:srgbClr val="003d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8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2CF30-742C-4F81-B70F-27FA03B6BDBA}" type="slidenum">
              <a:rPr b="0" lang="cs-CZ" sz="1200" spc="-1" strike="noStrike">
                <a:solidFill>
                  <a:srgbClr val="003d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8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2197F-8C14-44A4-9DC1-5938E5BB94B1}" type="slidenum">
              <a:rPr b="0" lang="cs-CZ" sz="1200" spc="-1" strike="noStrike">
                <a:solidFill>
                  <a:srgbClr val="003d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D0510-8720-40D2-919F-868BB91D030E}" type="slidenum">
              <a:rPr b="0" lang="cs-CZ" sz="1200" spc="-1" strike="noStrike">
                <a:solidFill>
                  <a:srgbClr val="003d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8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8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82AFB-E5EF-4879-A591-1760F43C374F}" type="slidenum">
              <a:rPr b="0" lang="cs-CZ" sz="1200" spc="-1" strike="noStrike">
                <a:solidFill>
                  <a:srgbClr val="003d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8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3DCC1-4A46-4858-A501-D80A8031EEE9}" type="slidenum">
              <a:rPr b="0" lang="cs-CZ" sz="1200" spc="-1" strike="noStrike">
                <a:solidFill>
                  <a:srgbClr val="003d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8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1FF83-47DA-4F62-9510-3FC322A05D3D}" type="slidenum">
              <a:rPr b="0" lang="cs-CZ" sz="1200" spc="-1" strike="noStrike">
                <a:solidFill>
                  <a:srgbClr val="003d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8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2962D-74A7-4D12-A1C1-6B7C66A840EC}" type="slidenum">
              <a:rPr b="0" lang="cs-CZ" sz="1200" spc="-1" strike="noStrike">
                <a:solidFill>
                  <a:srgbClr val="003d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8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6D48-7702-4A48-BFCD-13276629646D}" type="slidenum">
              <a:rPr b="0" lang="cs-CZ" sz="1200" spc="-1" strike="noStrike">
                <a:solidFill>
                  <a:srgbClr val="003d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8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57C3B-74F7-42D7-97A2-63D0CF65561B}" type="slidenum">
              <a:rPr b="0" lang="cs-CZ" sz="1200" spc="-1" strike="noStrike">
                <a:solidFill>
                  <a:srgbClr val="003d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8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F0147-F230-41BD-882E-CD761C87B5FF}" type="slidenum">
              <a:rPr b="0" lang="cs-CZ" sz="1200" spc="-1" strike="noStrike">
                <a:solidFill>
                  <a:srgbClr val="003d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FAD5-9C74-410D-A7F5-0094122AA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E8A5-9DF5-4FE1-AD41-D7443D38A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D476-CADB-4738-A9AF-871D028FB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088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2840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23336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088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2840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BD03-8032-4326-8461-C4CAF773F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233360" y="0"/>
            <a:ext cx="679464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E95F-4874-494D-AB0B-45825E6EF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3088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82840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23336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3088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82840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685E8-30FE-488F-8C05-96B8B1609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BFF26-7167-4EDB-93DE-FE2F0C4AE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951BD-9A3B-4234-8087-CE673232A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2F5B8-2B35-4561-850A-D23B368B0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143A8-8CCD-49A2-BBDB-6317B9E32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4203-2B27-4BB7-A713-5A0CD1CF8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233360" y="0"/>
            <a:ext cx="679464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4857E-B48A-470A-97D1-FB396B2ED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A3866-C8A1-4EB8-B2BB-D6E4E3D0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7EB1F-BA14-4511-B2D9-68B3C53F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88039-743D-41A7-9055-72405475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F5B69-A34A-4B0E-9954-043258288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8C257-04E0-4B8A-B084-070975A26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3088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82840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123336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3088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82840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D717F-B9AB-47C9-AE59-5720709C6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6178-A518-4F62-8D9C-728104ADA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3887-7AAE-464D-97ED-003E8F2DD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33360" y="0"/>
            <a:ext cx="679464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5736-2A3D-43F5-BAAD-5711346CB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5DEF-27A0-4BD4-AD89-319B18C9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14B2-A808-4B80-A1B4-181E99E5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06E5-EEC9-4FD6-A833-1D89DB3B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3240" y="0"/>
            <a:ext cx="8024760" cy="107964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233360" y="6244920"/>
            <a:ext cx="1371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2914560" y="6237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207120" y="6244920"/>
            <a:ext cx="1835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ill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D5A88-AF5A-4E9B-B724-4433CB84F6CA}" type="slidenum">
              <a:rPr b="0" lang="cs-CZ" sz="12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8628120" y="558720"/>
            <a:ext cx="522360" cy="522360"/>
          </a:xfrm>
          <a:prstGeom prst="rect">
            <a:avLst/>
          </a:prstGeom>
          <a:solidFill>
            <a:srgbClr val="d31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6" name="Rectangle 10"/>
          <p:cNvSpPr/>
          <p:nvPr/>
        </p:nvSpPr>
        <p:spPr>
          <a:xfrm>
            <a:off x="8621640" y="0"/>
            <a:ext cx="522360" cy="522360"/>
          </a:xfrm>
          <a:prstGeom prst="rect">
            <a:avLst/>
          </a:prstGeom>
          <a:solidFill>
            <a:srgbClr val="c2c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7" name="Rectangle 11"/>
          <p:cNvSpPr/>
          <p:nvPr/>
        </p:nvSpPr>
        <p:spPr>
          <a:xfrm>
            <a:off x="8066160" y="558720"/>
            <a:ext cx="522360" cy="52236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8" name="Rectangle 12"/>
          <p:cNvSpPr/>
          <p:nvPr/>
        </p:nvSpPr>
        <p:spPr>
          <a:xfrm>
            <a:off x="8066160" y="0"/>
            <a:ext cx="522360" cy="522360"/>
          </a:xfrm>
          <a:prstGeom prst="rect">
            <a:avLst/>
          </a:prstGeom>
          <a:solidFill>
            <a:srgbClr val="fdb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9" name="Picture 15" descr="pp_podtisk"/>
          <p:cNvPicPr/>
          <p:nvPr/>
        </p:nvPicPr>
        <p:blipFill>
          <a:blip r:embed="rId2"/>
          <a:stretch/>
        </p:blipFill>
        <p:spPr>
          <a:xfrm>
            <a:off x="0" y="1341360"/>
            <a:ext cx="892080" cy="551664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240" y="0"/>
            <a:ext cx="8024760" cy="107964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233360" y="1989000"/>
            <a:ext cx="679464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8628120" y="558720"/>
            <a:ext cx="522360" cy="522360"/>
          </a:xfrm>
          <a:prstGeom prst="rect">
            <a:avLst/>
          </a:prstGeom>
          <a:solidFill>
            <a:srgbClr val="d31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8621640" y="0"/>
            <a:ext cx="522360" cy="522360"/>
          </a:xfrm>
          <a:prstGeom prst="rect">
            <a:avLst/>
          </a:prstGeom>
          <a:solidFill>
            <a:srgbClr val="c2c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8066160" y="558720"/>
            <a:ext cx="522360" cy="52236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8066160" y="0"/>
            <a:ext cx="522360" cy="522360"/>
          </a:xfrm>
          <a:prstGeom prst="rect">
            <a:avLst/>
          </a:prstGeom>
          <a:solidFill>
            <a:srgbClr val="fdb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53" name="Picture 12" descr="pp_podtisk"/>
          <p:cNvPicPr/>
          <p:nvPr/>
        </p:nvPicPr>
        <p:blipFill>
          <a:blip r:embed="rId2"/>
          <a:stretch/>
        </p:blipFill>
        <p:spPr>
          <a:xfrm>
            <a:off x="0" y="1341360"/>
            <a:ext cx="892080" cy="5516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logo IOP + EU + text - 1"/>
          <p:cNvPicPr/>
          <p:nvPr/>
        </p:nvPicPr>
        <p:blipFill>
          <a:blip r:embed="rId3"/>
          <a:stretch/>
        </p:blipFill>
        <p:spPr>
          <a:xfrm>
            <a:off x="1116000" y="5157720"/>
            <a:ext cx="5545080" cy="620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"/>
          <p:cNvPicPr/>
          <p:nvPr/>
        </p:nvPicPr>
        <p:blipFill>
          <a:blip r:embed="rId4"/>
          <a:stretch/>
        </p:blipFill>
        <p:spPr>
          <a:xfrm>
            <a:off x="6815160" y="5157720"/>
            <a:ext cx="1428840" cy="6256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6"/>
          <p:cNvSpPr/>
          <p:nvPr/>
        </p:nvSpPr>
        <p:spPr>
          <a:xfrm>
            <a:off x="2124000" y="6140520"/>
            <a:ext cx="5256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3d61"/>
                </a:solidFill>
                <a:latin typeface="GillSans"/>
              </a:rPr>
              <a:t>Tento Projekt technické pomoci 6.1 Ministerstva zdravotnictví je spolufinancován Evropskou unií z Evropského fondu pro regionální rozvoj. </a:t>
            </a:r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8"/>
          <p:cNvSpPr/>
          <p:nvPr/>
        </p:nvSpPr>
        <p:spPr>
          <a:xfrm>
            <a:off x="-12600" y="1968480"/>
            <a:ext cx="9156600" cy="488952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95" name="Picture 9" descr="logo_mzcr"/>
          <p:cNvPicPr/>
          <p:nvPr/>
        </p:nvPicPr>
        <p:blipFill>
          <a:blip r:embed="rId2"/>
          <a:stretch/>
        </p:blipFill>
        <p:spPr>
          <a:xfrm>
            <a:off x="647640" y="682560"/>
            <a:ext cx="6737400" cy="593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pp_titul_podtisk"/>
          <p:cNvPicPr/>
          <p:nvPr/>
        </p:nvPicPr>
        <p:blipFill>
          <a:blip r:embed="rId3"/>
          <a:stretch/>
        </p:blipFill>
        <p:spPr>
          <a:xfrm>
            <a:off x="0" y="1989000"/>
            <a:ext cx="812880" cy="4869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4"/>
          </p:nvPr>
        </p:nvSpPr>
        <p:spPr>
          <a:xfrm>
            <a:off x="1220760" y="6244920"/>
            <a:ext cx="13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5"/>
          </p:nvPr>
        </p:nvSpPr>
        <p:spPr>
          <a:xfrm>
            <a:off x="291600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6"/>
          </p:nvPr>
        </p:nvSpPr>
        <p:spPr>
          <a:xfrm>
            <a:off x="6207120" y="6244920"/>
            <a:ext cx="1835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Gill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F01E-78D2-42F0-AF8D-7F625D1D81C8}" type="slidenum">
              <a:rPr b="0" lang="cs-CZ" sz="1200" spc="-1" strike="noStrike">
                <a:solidFill>
                  <a:srgbClr val="ffffff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Zdravi2030@mzcr.cz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1187280" y="0"/>
            <a:ext cx="679464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08000" y="2349360"/>
            <a:ext cx="9036000" cy="20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  </a:t>
            </a:r>
            <a:br>
              <a:rPr sz="2000"/>
            </a:b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0" y="981000"/>
            <a:ext cx="9144000" cy="39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d61"/>
                </a:solidFill>
                <a:latin typeface="GillSans"/>
              </a:rPr>
              <a:t> </a:t>
            </a:r>
            <a:r>
              <a:rPr b="1" lang="cs-CZ" sz="2400" spc="-1" strike="noStrike">
                <a:solidFill>
                  <a:srgbClr val="003d61"/>
                </a:solidFill>
                <a:latin typeface="GillSans"/>
              </a:rPr>
              <a:t>Školení pracovníků přímo řízených organizací Ministerstva zdravotnictví</a:t>
            </a:r>
            <a:endParaRPr b="0" lang="en-US" sz="24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d61"/>
                </a:solidFill>
                <a:latin typeface="GillSans"/>
              </a:rPr>
              <a:t>Možnosti čerpání finančních prostředků pro psychiatrické nemocnice z ESIF</a:t>
            </a:r>
            <a:endParaRPr b="0" lang="en-US" sz="2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d61"/>
                </a:solidFill>
                <a:latin typeface="GillSans"/>
              </a:rPr>
              <a:t>2. prosince 2019</a:t>
            </a:r>
            <a:endParaRPr b="0" lang="en-US" sz="24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d61"/>
                </a:solidFill>
                <a:latin typeface="GillSans"/>
              </a:rPr>
              <a:t>Projektová kancelář Ministerstva zdravotnictví</a:t>
            </a:r>
            <a:endParaRPr b="0" lang="en-US" sz="24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d61"/>
                </a:solidFill>
                <a:latin typeface="GillSans"/>
              </a:rPr>
              <a:t>CZ.03.4.74/0.0/0.0/15_025/0003715</a:t>
            </a:r>
            <a:endParaRPr b="0" lang="en-US" sz="24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148" name="Picture 2" descr="W:\PUBLICITA\VIZUÁLNÍ_IDENTITA\loga\OPZ\logo_OPZ_barevne.jpg"/>
          <p:cNvPicPr/>
          <p:nvPr/>
        </p:nvPicPr>
        <p:blipFill>
          <a:blip r:embed="rId1"/>
          <a:stretch/>
        </p:blipFill>
        <p:spPr>
          <a:xfrm>
            <a:off x="1989000" y="5661000"/>
            <a:ext cx="5191200" cy="10764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Nové změny v programovém období 2021 – 2027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buClr>
                <a:srgbClr val="003d61"/>
              </a:buClr>
              <a:buFont typeface="Arial"/>
              <a:buChar char="•"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725400" indent="-285840" algn="just">
              <a:spcAft>
                <a:spcPts val="601"/>
              </a:spcAft>
              <a:buClr>
                <a:srgbClr val="003d61"/>
              </a:buClr>
              <a:buFont typeface="Arial"/>
              <a:buChar char="•"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Nově v ČR 3 kategorie regionů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1133640" indent="-285840" algn="just">
              <a:spcAft>
                <a:spcPts val="601"/>
              </a:spcAft>
              <a:buClr>
                <a:srgbClr val="003d61"/>
              </a:buClr>
              <a:buFont typeface="Courier New"/>
              <a:buChar char="o"/>
              <a:tabLst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Méně rozvinuté 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(Severozápad, Severovýchod, Střední Morava, Moravskoslezsko)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lvl="2" marL="1133640" indent="-285840" algn="just">
              <a:spcAft>
                <a:spcPts val="601"/>
              </a:spcAft>
              <a:buClr>
                <a:srgbClr val="003d61"/>
              </a:buClr>
              <a:buFont typeface="Courier New"/>
              <a:buChar char="o"/>
              <a:tabLst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Přechodové 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(Střední Čechy, Jihozápad, Jihovýchod)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lvl="2" marL="1133640" indent="-285840" algn="just">
              <a:spcAft>
                <a:spcPts val="601"/>
              </a:spcAft>
              <a:buClr>
                <a:srgbClr val="003d61"/>
              </a:buClr>
              <a:buFont typeface="Courier New"/>
              <a:buChar char="o"/>
              <a:tabLst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Více rozvinuté regiony 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(Praha) </a:t>
            </a:r>
            <a:r>
              <a:rPr b="1" lang="cs-CZ" sz="1800" spc="-1" strike="noStrike">
                <a:solidFill>
                  <a:srgbClr val="003d61"/>
                </a:solidFill>
                <a:latin typeface="Symbol"/>
                <a:ea typeface="Symbol"/>
              </a:rPr>
              <a:t></a:t>
            </a: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 již nebude mít svůj vlastní operační program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lvl="1" marL="725400" indent="-285840" algn="just">
              <a:spcAft>
                <a:spcPts val="601"/>
              </a:spcAft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0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buClr>
                <a:srgbClr val="003d61"/>
              </a:buClr>
              <a:buFont typeface="Arial"/>
              <a:buChar char="•"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725400" indent="-285840" algn="just">
              <a:spcAft>
                <a:spcPts val="601"/>
              </a:spcAft>
              <a:buClr>
                <a:srgbClr val="003d61"/>
              </a:buClr>
              <a:buFont typeface="Arial"/>
              <a:buChar char="•"/>
              <a:tabLst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Výrazné snížení míry spolufinancování EU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1133640" indent="-285840" algn="just">
              <a:spcAft>
                <a:spcPts val="601"/>
              </a:spcAft>
              <a:buClr>
                <a:srgbClr val="003d61"/>
              </a:buClr>
              <a:buFont typeface="Courier New"/>
              <a:buChar char="o"/>
              <a:tabLst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Méně rozvinuté 70 % (nyní 85 %)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lvl="2" marL="1133640" indent="-285840" algn="just">
              <a:spcAft>
                <a:spcPts val="601"/>
              </a:spcAft>
              <a:buClr>
                <a:srgbClr val="003d61"/>
              </a:buClr>
              <a:buFont typeface="Courier New"/>
              <a:buChar char="o"/>
              <a:tabLst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Přechodové 55 % (nyní 60 %)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lvl="2" marL="1133640" indent="-285840" algn="just">
              <a:spcAft>
                <a:spcPts val="601"/>
              </a:spcAft>
              <a:buClr>
                <a:srgbClr val="003d61"/>
              </a:buClr>
              <a:buFont typeface="Courier New"/>
              <a:buChar char="o"/>
              <a:tabLst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Více rozvinuté regiony 40 % (nyní 50 %)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Resort zdravotnictví v programovém období 2021 – 2027 „Základní podmínka“ čerpání ESIF 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11280" y="1267920"/>
            <a:ext cx="741672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Základní podmínka =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„</a:t>
            </a:r>
            <a:r>
              <a:rPr b="0" i="1" lang="cs-CZ" sz="1800" spc="-1" strike="noStrike">
                <a:solidFill>
                  <a:srgbClr val="003d61"/>
                </a:solidFill>
                <a:latin typeface="GillSans"/>
              </a:rPr>
              <a:t>Je vypracován vnitrostátní nebo regionální strategický rámec politiky v oblasti zdraví, který obsahuje: </a:t>
            </a:r>
            <a:r>
              <a:rPr b="0" i="1" lang="cs-CZ" sz="2000" spc="-1" strike="noStrike">
                <a:solidFill>
                  <a:srgbClr val="003d61"/>
                </a:solidFill>
                <a:latin typeface="GillSans"/>
              </a:rPr>
              <a:t>	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3d61"/>
                </a:solidFill>
                <a:latin typeface="GillSans"/>
              </a:rPr>
              <a:t>	</a:t>
            </a:r>
            <a:r>
              <a:rPr b="1" i="1" lang="cs-CZ" sz="1800" spc="-1" strike="noStrike">
                <a:solidFill>
                  <a:srgbClr val="003d61"/>
                </a:solidFill>
                <a:latin typeface="GillSans"/>
              </a:rPr>
              <a:t>1.</a:t>
            </a:r>
            <a:r>
              <a:rPr b="0" i="1" lang="cs-CZ" sz="1800" spc="-1" strike="noStrike">
                <a:solidFill>
                  <a:srgbClr val="003d61"/>
                </a:solidFill>
                <a:latin typeface="GillSans"/>
              </a:rPr>
              <a:t> Mapování potřeb v oblasti zdravotní a dlouhodobé péče.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3d61"/>
                </a:solidFill>
                <a:latin typeface="GillSans"/>
              </a:rPr>
              <a:t>	</a:t>
            </a:r>
            <a:r>
              <a:rPr b="1" i="1" lang="cs-CZ" sz="1800" spc="-1" strike="noStrike">
                <a:solidFill>
                  <a:srgbClr val="003d61"/>
                </a:solidFill>
                <a:latin typeface="GillSans"/>
              </a:rPr>
              <a:t>2.</a:t>
            </a:r>
            <a:r>
              <a:rPr b="0" i="1" lang="cs-CZ" sz="1800" spc="-1" strike="noStrike">
                <a:solidFill>
                  <a:srgbClr val="003d61"/>
                </a:solidFill>
                <a:latin typeface="GillSans"/>
              </a:rPr>
              <a:t> Opatření k zajištění efektivnosti, udržitelnosti, přístupnosti a </a:t>
            </a:r>
            <a:r>
              <a:rPr b="0" i="1" lang="cs-CZ" sz="1800" spc="-1" strike="noStrike">
                <a:solidFill>
                  <a:srgbClr val="003d61"/>
                </a:solidFill>
                <a:latin typeface="GillSans"/>
              </a:rPr>
              <a:t>	</a:t>
            </a:r>
            <a:r>
              <a:rPr b="0" i="1" lang="cs-CZ" sz="1800" spc="-1" strike="noStrike">
                <a:solidFill>
                  <a:srgbClr val="003d61"/>
                </a:solidFill>
                <a:latin typeface="GillSans"/>
              </a:rPr>
              <a:t>cenové dostupnosti zdravotní péče a služeb dlouhodobé péče, </a:t>
            </a:r>
            <a:r>
              <a:rPr b="0" i="1" lang="cs-CZ" sz="1800" spc="-1" strike="noStrike">
                <a:solidFill>
                  <a:srgbClr val="003d61"/>
                </a:solidFill>
                <a:latin typeface="GillSans"/>
              </a:rPr>
              <a:t>	</a:t>
            </a:r>
            <a:r>
              <a:rPr b="0" i="1" lang="cs-CZ" sz="1800" spc="-1" strike="noStrike">
                <a:solidFill>
                  <a:srgbClr val="003d61"/>
                </a:solidFill>
                <a:latin typeface="GillSans"/>
              </a:rPr>
              <a:t>včetně zvláštního zaměření na osoby vyloučené ze systémů </a:t>
            </a:r>
            <a:r>
              <a:rPr b="0" i="1" lang="cs-CZ" sz="1800" spc="-1" strike="noStrike">
                <a:solidFill>
                  <a:srgbClr val="003d61"/>
                </a:solidFill>
                <a:latin typeface="GillSans"/>
              </a:rPr>
              <a:t>	</a:t>
            </a:r>
            <a:r>
              <a:rPr b="0" i="1" lang="cs-CZ" sz="1800" spc="-1" strike="noStrike">
                <a:solidFill>
                  <a:srgbClr val="003d61"/>
                </a:solidFill>
                <a:latin typeface="GillSans"/>
              </a:rPr>
              <a:t>zdravotní a dlouhodobé péče.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3d61"/>
                </a:solidFill>
                <a:latin typeface="GillSans"/>
              </a:rPr>
              <a:t>	</a:t>
            </a:r>
            <a:r>
              <a:rPr b="1" i="1" lang="cs-CZ" sz="1800" spc="-1" strike="noStrike">
                <a:solidFill>
                  <a:srgbClr val="003d61"/>
                </a:solidFill>
                <a:latin typeface="GillSans"/>
              </a:rPr>
              <a:t>3. </a:t>
            </a:r>
            <a:r>
              <a:rPr b="0" i="1" lang="cs-CZ" sz="1800" spc="-1" strike="noStrike">
                <a:solidFill>
                  <a:srgbClr val="003d61"/>
                </a:solidFill>
                <a:latin typeface="GillSans"/>
              </a:rPr>
              <a:t>Opatření na podporu komunitních služeb včetně prevence a </a:t>
            </a:r>
            <a:r>
              <a:rPr b="0" i="1" lang="cs-CZ" sz="1800" spc="-1" strike="noStrike">
                <a:solidFill>
                  <a:srgbClr val="003d61"/>
                </a:solidFill>
                <a:latin typeface="GillSans"/>
              </a:rPr>
              <a:t>	</a:t>
            </a:r>
            <a:r>
              <a:rPr b="0" i="1" lang="cs-CZ" sz="1800" spc="-1" strike="noStrike">
                <a:solidFill>
                  <a:srgbClr val="003d61"/>
                </a:solidFill>
                <a:latin typeface="GillSans"/>
              </a:rPr>
              <a:t>primární péče a služeb domácí péče a komunitní péče.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Naplňování podmínek bude sledováno průběžně během celého programového období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Plněním je „Strategický rámec rozvoje péče o zdraví v ČR do roku 2030“,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schváleno vládou 18.11.2019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99"/>
              </a:spcBef>
              <a:buClr>
                <a:srgbClr val="003d61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Strategický rámec rozvoje péče o zdraví v ČR do roku 2030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„Zdraví 2030“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11280" y="1341000"/>
            <a:ext cx="7921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Koncepční materiál s meziresortním přesahem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32640" indent="-33264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32640" indent="-33264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Návaznost Strategického rámce „Zdraví 2030“ na Strategický rámec ČR 2030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32640" indent="-33264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32640" indent="-33264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Udává směr rozvoje péče o zdraví občanů ČR v příštím desetiletí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32640" indent="-3326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32640" indent="-33264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3 strategické cíle, 7 specifických cílů,</a:t>
            </a:r>
            <a:r>
              <a:rPr b="0" lang="cs-CZ" sz="2000" spc="-1" strike="noStrike">
                <a:solidFill>
                  <a:srgbClr val="ff0000"/>
                </a:solidFill>
                <a:latin typeface="GillSans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GillSans"/>
              </a:rPr>
              <a:t>95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dílčích cílů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32640" indent="-33264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32640" indent="-33264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7 navazujících implementačních plánů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32640" indent="-33264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32640" indent="-33264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Projednán vládou 18.11. 2019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32640" indent="-3326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32640" indent="-33264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Případné komentáře možno posílat na </a:t>
            </a:r>
            <a:r>
              <a:rPr b="0" lang="cs-CZ" sz="2000" spc="-1" strike="noStrike" u="sng">
                <a:solidFill>
                  <a:srgbClr val="003d61"/>
                </a:solidFill>
                <a:uFillTx/>
                <a:latin typeface="GillSans"/>
                <a:hlinkClick r:id="rId1"/>
              </a:rPr>
              <a:t>Zdravi2030@mzcr.cz</a:t>
            </a:r>
            <a:r>
              <a:rPr b="1" lang="cs-CZ" sz="2000" spc="-1" strike="noStrike">
                <a:solidFill>
                  <a:srgbClr val="ff0000"/>
                </a:solidFill>
                <a:latin typeface="GillSans"/>
              </a:rPr>
              <a:t>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„</a:t>
            </a: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Zdraví 2030“ -  Strategické a specifické cíle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826560" y="1197000"/>
            <a:ext cx="74185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Strategický cíl 1 – Zlepšení zdravotního stavu populace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798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Specifické cíle:</a:t>
            </a:r>
            <a:endParaRPr b="0" lang="en-US" sz="1600" spc="-1" strike="noStrike">
              <a:solidFill>
                <a:srgbClr val="003d61"/>
              </a:solidFill>
              <a:latin typeface="GillSans"/>
            </a:endParaRPr>
          </a:p>
          <a:p>
            <a:pPr lvl="1" marL="3798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1.1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	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Reforma primární péče</a:t>
            </a:r>
            <a:endParaRPr b="0" lang="en-US" sz="1600" spc="-1" strike="noStrike">
              <a:solidFill>
                <a:srgbClr val="003d61"/>
              </a:solidFill>
              <a:latin typeface="GillSans"/>
            </a:endParaRPr>
          </a:p>
          <a:p>
            <a:pPr lvl="1" marL="3798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1.2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	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Primární a sekundární prevence nemocí, </a:t>
            </a:r>
            <a:endParaRPr b="0" lang="en-US" sz="1600" spc="-1" strike="noStrike">
              <a:solidFill>
                <a:srgbClr val="003d61"/>
              </a:solidFill>
              <a:latin typeface="GillSans"/>
            </a:endParaRPr>
          </a:p>
          <a:p>
            <a:pPr lvl="1" marL="3798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	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zvyšování zdravotní gramotnosti a odpovědnosti občanů za vlastní zdraví</a:t>
            </a:r>
            <a:endParaRPr b="0" lang="en-US" sz="1600" spc="-1" strike="noStrike">
              <a:solidFill>
                <a:srgbClr val="003d61"/>
              </a:solidFill>
              <a:latin typeface="GillSans"/>
            </a:endParaRPr>
          </a:p>
          <a:p>
            <a:pPr lvl="1" marL="37980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25800" indent="-32580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Strategický cíl 2 - Optimalizace zdravotnického systému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798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Specifické cíle:</a:t>
            </a:r>
            <a:endParaRPr b="0" lang="en-US" sz="1600" spc="-1" strike="noStrike">
              <a:solidFill>
                <a:srgbClr val="003d61"/>
              </a:solidFill>
              <a:latin typeface="GillSans"/>
            </a:endParaRPr>
          </a:p>
          <a:p>
            <a:pPr lvl="1" marL="3798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2.1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	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Implementace modelů integrované péče, integrace zdravotní a sociální 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	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péče, reforma péče o duševní zdraví</a:t>
            </a:r>
            <a:endParaRPr b="0" lang="en-US" sz="1600" spc="-1" strike="noStrike">
              <a:solidFill>
                <a:srgbClr val="003d61"/>
              </a:solidFill>
              <a:latin typeface="GillSans"/>
            </a:endParaRPr>
          </a:p>
          <a:p>
            <a:pPr lvl="1" marL="3798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2.2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	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Personální stabilizace resortu zdravotnictví</a:t>
            </a:r>
            <a:endParaRPr b="0" lang="en-US" sz="1600" spc="-1" strike="noStrike">
              <a:solidFill>
                <a:srgbClr val="003d61"/>
              </a:solidFill>
              <a:latin typeface="GillSans"/>
            </a:endParaRPr>
          </a:p>
          <a:p>
            <a:pPr lvl="1" marL="3798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2.3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	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Digitalizace zdravotnictví</a:t>
            </a:r>
            <a:endParaRPr b="0" lang="en-US" sz="1600" spc="-1" strike="noStrike">
              <a:solidFill>
                <a:srgbClr val="003d61"/>
              </a:solidFill>
              <a:latin typeface="GillSans"/>
            </a:endParaRPr>
          </a:p>
          <a:p>
            <a:pPr lvl="1" marL="3798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2.4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	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Optimalizace systému úhrad ve zdravotnictví</a:t>
            </a:r>
            <a:endParaRPr b="0" lang="en-US" sz="1600" spc="-1" strike="noStrike">
              <a:solidFill>
                <a:srgbClr val="003d61"/>
              </a:solidFill>
              <a:latin typeface="GillSans"/>
            </a:endParaRPr>
          </a:p>
          <a:p>
            <a:pPr lvl="1" marL="37980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25800" indent="-32580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Strategický cíl 3 – Podpora vědy a výzkumu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798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Specifické cíle:</a:t>
            </a:r>
            <a:endParaRPr b="0" lang="en-US" sz="1600" spc="-1" strike="noStrike">
              <a:solidFill>
                <a:srgbClr val="003d61"/>
              </a:solidFill>
              <a:latin typeface="GillSans"/>
            </a:endParaRPr>
          </a:p>
          <a:p>
            <a:pPr lvl="1" marL="3798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3.1 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	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Zapojení vědy a výzkumu do řešení prioritních úkolů zdravotnictví</a:t>
            </a:r>
            <a:endParaRPr b="0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325800" indent="-32580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25800" indent="-32580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25800" indent="-3258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25800" indent="-32580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25800" indent="-32580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11280" y="-14400"/>
            <a:ext cx="69134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Strategický rámec rozvoje péče o zdraví v ČR do roku 2030 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4000" y="1267920"/>
            <a:ext cx="75596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d61"/>
                </a:solidFill>
                <a:latin typeface="GillSans"/>
              </a:rPr>
              <a:t>Specifický cíl 2.1 - Implementace modelů integrované péče, integrace zdravotní a </a:t>
            </a:r>
            <a:r>
              <a:rPr b="1" lang="cs-CZ" sz="1600" spc="-1" strike="noStrike">
                <a:solidFill>
                  <a:srgbClr val="003d61"/>
                </a:solidFill>
                <a:latin typeface="GillSans"/>
              </a:rPr>
              <a:t>	</a:t>
            </a:r>
            <a:r>
              <a:rPr b="1" lang="cs-CZ" sz="1600" spc="-1" strike="noStrike">
                <a:solidFill>
                  <a:srgbClr val="003d61"/>
                </a:solidFill>
                <a:latin typeface="GillSans"/>
              </a:rPr>
              <a:t>	</a:t>
            </a:r>
            <a:r>
              <a:rPr b="1" lang="cs-CZ" sz="1600" spc="-1" strike="noStrike">
                <a:solidFill>
                  <a:srgbClr val="003d61"/>
                </a:solidFill>
                <a:latin typeface="GillSans"/>
              </a:rPr>
              <a:t>             sociální péče, reforma péče o duševní zdraví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322200" indent="-322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322200" indent="-322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d61"/>
                </a:solidFill>
                <a:latin typeface="GillSans"/>
              </a:rPr>
              <a:t>V oblasti péče o duševní zdraví dílčí cíle: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322200" indent="-322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2.1.11  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	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Zlepšení řízení a poskytování péče v oblasti duševního zdraví vedené 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	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spolehlivými informacemi a vědomostmi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322200" indent="-322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322200" indent="-322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2.1.12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	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Zajištění, aby každý občan ČR měl srovnatelnou příležitost na duševní zdraví 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322200" indent="-322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	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	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v průběhu celého svého života, především ti nejvíce zranitelní nebo v riziku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322200" indent="-322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322200" indent="-322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2.1.13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	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Zajištění, aby lidská práva osob s obtížemi v oblasti duševního zdraví byla plně 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	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respektována, chráněna a podporována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322200" indent="-322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322200" indent="-322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2.1.14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	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Zajištění plné dostupnosti služeb v oblasti duševního zdraví v čase, místě, 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	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kapacitě i ceně, zajištění jejich dostupnosti  v komunitě dle potřeby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322200" indent="-322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322200" indent="-322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2.1.15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	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Budování systémů péče o duševní zdraví pracujících v dobře koordinované 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	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partnerské spolupráci s ostatními sektory, včetně rovného přístupu k péči o 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	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somatické zdraví a začlenění / návratu do společnosti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322200" indent="-322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illSans"/>
              </a:rPr>
              <a:t>Příprava dokumentů pro programové období 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GillSans"/>
              </a:rPr>
              <a:t>ESIF 2021 - 2027</a:t>
            </a:r>
            <a:endParaRPr b="1" lang="en-US" sz="24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10920" y="1341360"/>
            <a:ext cx="7993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Legislativa EU fondů a víceletého finančního rámce ve vyjednávání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39480" indent="-3394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V ČR termíny určuje </a:t>
            </a: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usnesení vlády č. 94  / 4.2. 2019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do 31. 1. 2020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	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Návrhy operačních programů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do 31. 3. 2020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	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Návrh Dohody o partnerství pro období a Návrhy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	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	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	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operačních programů pro období 2021–2027 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do 31. 3. 2020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	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Návrh Pravidel pro zajištění efektivního řízení a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	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	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	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koordinace naplňování cílů Dohody o partnerství pro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	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	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období 2021</a:t>
            </a: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–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2027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pic>
        <p:nvPicPr>
          <p:cNvPr id="179" name="Picture 3" descr="C:\Users\bakicovah\AppData\Local\Microsoft\Windows\Temporary Internet Files\Content.Outlook\KFDIB7IR\Logo-Zdravi 2030-new (2).png"/>
          <p:cNvPicPr/>
          <p:nvPr/>
        </p:nvPicPr>
        <p:blipFill>
          <a:blip r:embed="rId1"/>
          <a:stretch/>
        </p:blipFill>
        <p:spPr>
          <a:xfrm>
            <a:off x="3995640" y="6232680"/>
            <a:ext cx="1189080" cy="4600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Programové priority ESIF navržené Ministerstvem zdravotnictví pro období 2021 - 2027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900000" y="1108080"/>
            <a:ext cx="7417080" cy="55213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Předpokládané možnosti čerpání pro resort zdravotnictví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v programovém období 2021 – 2027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94920" y="1197000"/>
            <a:ext cx="76582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1020600" indent="-187560" algn="just">
              <a:spcBef>
                <a:spcPts val="451"/>
              </a:spcBef>
              <a:buClr>
                <a:srgbClr val="003d61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IROP II 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- Reforma primární péče – sdružené praxe, urgentní příjmy, investice do integrované péče, integrace zdravotní a sociální péče, investice do zařízení poskytovatelů psychiatrické péče, digitalizace zdravotnictví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(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kybernetická bezpečnost, informační systémy) </a:t>
            </a:r>
            <a:endParaRPr b="0" lang="en-US" sz="1800" spc="-1" strike="noStrike">
              <a:solidFill>
                <a:srgbClr val="003d61"/>
              </a:solidFill>
              <a:latin typeface="GillSans"/>
            </a:endParaRPr>
          </a:p>
          <a:p>
            <a:pPr lvl="1" marL="1020600" indent="-187560" algn="just">
              <a:spcBef>
                <a:spcPts val="451"/>
              </a:spcBef>
              <a:buClr>
                <a:srgbClr val="003d61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illSans"/>
            </a:endParaRPr>
          </a:p>
          <a:p>
            <a:pPr lvl="1" marL="1020600" indent="-187560" algn="just">
              <a:spcBef>
                <a:spcPts val="451"/>
              </a:spcBef>
              <a:buClr>
                <a:srgbClr val="003d61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OPZ 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- Implementace modelů integrované péče, integrace zdravotní a sociální péče, reforma péče o duševní zdraví, personální stabilizace resortu zdravotnictví (vzdělávání),  primární a sekundární prevence nemocí, zvyšování zdravotní gramotnosti a odpovědnosti občanů k vlastnímu zdraví </a:t>
            </a: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*)</a:t>
            </a:r>
            <a:endParaRPr b="0" lang="en-US" sz="1800" spc="-1" strike="noStrike">
              <a:solidFill>
                <a:srgbClr val="003d61"/>
              </a:solidFill>
              <a:latin typeface="GillSans"/>
            </a:endParaRPr>
          </a:p>
          <a:p>
            <a:pPr lvl="1" marL="1020600" indent="-18756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illSans"/>
            </a:endParaRPr>
          </a:p>
          <a:p>
            <a:pPr lvl="1" marL="1020600" indent="-187560" algn="just">
              <a:spcBef>
                <a:spcPts val="451"/>
              </a:spcBef>
              <a:buClr>
                <a:srgbClr val="003d61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OP JAK 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- Zapojení vědy a výzkumu do řešení prioritních úkolů zdravotnictví</a:t>
            </a:r>
            <a:endParaRPr b="0" lang="en-US" sz="1800" spc="-1" strike="noStrike">
              <a:solidFill>
                <a:srgbClr val="003d61"/>
              </a:solidFill>
              <a:latin typeface="GillSans"/>
            </a:endParaRPr>
          </a:p>
          <a:p>
            <a:pPr lvl="1" marL="1020600" indent="-18756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illSans"/>
            </a:endParaRPr>
          </a:p>
          <a:p>
            <a:pPr lvl="1" marL="1020600" indent="-187560" algn="just">
              <a:spcBef>
                <a:spcPts val="451"/>
              </a:spcBef>
              <a:buClr>
                <a:srgbClr val="003d61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OP VVV , OP ŽP </a:t>
            </a:r>
            <a:endParaRPr b="0" lang="en-US" sz="1800" spc="-1" strike="noStrike">
              <a:solidFill>
                <a:srgbClr val="003d61"/>
              </a:solidFill>
              <a:latin typeface="GillSans"/>
            </a:endParaRPr>
          </a:p>
          <a:p>
            <a:pPr lvl="1" marL="1020600" indent="-187560" algn="just">
              <a:spcBef>
                <a:spcPts val="451"/>
              </a:spcBef>
              <a:buClr>
                <a:srgbClr val="003d61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2220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*) </a:t>
            </a:r>
            <a:r>
              <a:rPr b="0" i="1" lang="cs-CZ" sz="1800" spc="-1" strike="noStrike">
                <a:solidFill>
                  <a:srgbClr val="003d61"/>
                </a:solidFill>
                <a:latin typeface="GillSans"/>
              </a:rPr>
              <a:t>Využití zrušení vazby ESF+ na území - možnost přesunu alespoň části prostředků do regionů s nižší mírou spolufinancování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22200" algn="just">
              <a:spcBef>
                <a:spcPts val="451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IROP 2021-2027 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Specifický cíl 4.3 Infrastruktura ve zdravotnictví 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39280" y="1268280"/>
            <a:ext cx="79930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Zajištění rovného přístupu ke zdravotní péči pomocí rozvoje infrastruktury,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08520" indent="-30852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včetně primární péče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08520" indent="-30852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08520" indent="-308520" algn="just">
              <a:lnSpc>
                <a:spcPct val="15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212121"/>
                </a:solidFill>
                <a:latin typeface="GillSans"/>
              </a:rPr>
              <a:t>Primární péče</a:t>
            </a:r>
            <a:endParaRPr b="1" lang="en-US" sz="1700" spc="-1" strike="noStrike">
              <a:solidFill>
                <a:srgbClr val="003d61"/>
              </a:solidFill>
              <a:latin typeface="GillSans"/>
            </a:endParaRPr>
          </a:p>
          <a:p>
            <a:pPr lvl="1" marL="745560" indent="-257040" algn="just">
              <a:lnSpc>
                <a:spcPct val="150000"/>
              </a:lnSpc>
              <a:spcBef>
                <a:spcPts val="425"/>
              </a:spcBef>
              <a:buClr>
                <a:srgbClr val="212121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212121"/>
                </a:solidFill>
                <a:latin typeface="GillSans"/>
              </a:rPr>
              <a:t>Vznik a modernizace urgentních příjmů </a:t>
            </a:r>
            <a:endParaRPr b="0" lang="en-US" sz="1700" spc="-1" strike="noStrike">
              <a:solidFill>
                <a:srgbClr val="003d61"/>
              </a:solidFill>
              <a:latin typeface="GillSans"/>
            </a:endParaRPr>
          </a:p>
          <a:p>
            <a:pPr marL="308520" indent="-308520" algn="just">
              <a:lnSpc>
                <a:spcPct val="15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212121"/>
                </a:solidFill>
                <a:latin typeface="GillSans"/>
              </a:rPr>
              <a:t>Zlepšení dostupnosti integrované péče, integrace zdravotních a sociálních služeb</a:t>
            </a:r>
            <a:endParaRPr b="1" lang="en-US" sz="1700" spc="-1" strike="noStrike">
              <a:solidFill>
                <a:srgbClr val="003d61"/>
              </a:solidFill>
              <a:latin typeface="GillSans"/>
            </a:endParaRPr>
          </a:p>
          <a:p>
            <a:pPr lvl="1" marL="745560" indent="-257040" algn="just">
              <a:lnSpc>
                <a:spcPct val="150000"/>
              </a:lnSpc>
              <a:spcBef>
                <a:spcPts val="425"/>
              </a:spcBef>
              <a:buClr>
                <a:srgbClr val="212121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212121"/>
                </a:solidFill>
                <a:latin typeface="GillSans"/>
              </a:rPr>
              <a:t>Deinstitucionalizace psychiatrické péče</a:t>
            </a:r>
            <a:endParaRPr b="0" lang="en-US" sz="1700" spc="-1" strike="noStrike">
              <a:solidFill>
                <a:srgbClr val="003d61"/>
              </a:solidFill>
              <a:latin typeface="GillSans"/>
            </a:endParaRPr>
          </a:p>
          <a:p>
            <a:pPr lvl="1" marL="745560" indent="-257040" algn="just">
              <a:lnSpc>
                <a:spcPct val="150000"/>
              </a:lnSpc>
              <a:spcBef>
                <a:spcPts val="425"/>
              </a:spcBef>
              <a:buClr>
                <a:srgbClr val="212121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212121"/>
                </a:solidFill>
                <a:latin typeface="GillSans"/>
              </a:rPr>
              <a:t>Zvýšení dostupnosti následné a dlouhodobé péče</a:t>
            </a:r>
            <a:endParaRPr b="0" lang="en-US" sz="1700" spc="-1" strike="noStrike">
              <a:solidFill>
                <a:srgbClr val="003d61"/>
              </a:solidFill>
              <a:latin typeface="GillSans"/>
            </a:endParaRPr>
          </a:p>
          <a:p>
            <a:pPr lvl="1" marL="745560" indent="-257040" algn="just">
              <a:lnSpc>
                <a:spcPct val="150000"/>
              </a:lnSpc>
              <a:spcBef>
                <a:spcPts val="425"/>
              </a:spcBef>
              <a:buClr>
                <a:srgbClr val="212121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212121"/>
                </a:solidFill>
                <a:latin typeface="GillSans"/>
              </a:rPr>
              <a:t>Zvýšení dostupnosti paliativní a hospicové péče</a:t>
            </a:r>
            <a:endParaRPr b="0" lang="en-US" sz="1700" spc="-1" strike="noStrike">
              <a:solidFill>
                <a:srgbClr val="003d61"/>
              </a:solidFill>
              <a:latin typeface="GillSans"/>
            </a:endParaRPr>
          </a:p>
          <a:p>
            <a:pPr lvl="1" marL="745560" indent="-257040" algn="just">
              <a:lnSpc>
                <a:spcPct val="150000"/>
              </a:lnSpc>
              <a:spcBef>
                <a:spcPts val="425"/>
              </a:spcBef>
              <a:buClr>
                <a:srgbClr val="212121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212121"/>
                </a:solidFill>
                <a:latin typeface="GillSans"/>
              </a:rPr>
              <a:t>Zvýšení dostupnosti integrované onkologické péče</a:t>
            </a:r>
            <a:endParaRPr b="0" lang="en-US" sz="1700" spc="-1" strike="noStrike">
              <a:solidFill>
                <a:srgbClr val="003d61"/>
              </a:solidFill>
              <a:latin typeface="GillSans"/>
            </a:endParaRPr>
          </a:p>
          <a:p>
            <a:pPr lvl="1" marL="745560" indent="-257040" algn="just">
              <a:lnSpc>
                <a:spcPct val="150000"/>
              </a:lnSpc>
              <a:spcBef>
                <a:spcPts val="425"/>
              </a:spcBef>
              <a:buClr>
                <a:srgbClr val="212121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212121"/>
                </a:solidFill>
                <a:latin typeface="GillSans"/>
              </a:rPr>
              <a:t>Zvýšení dostupnosti integrované zdravotně-sociální péče v perinatologii</a:t>
            </a:r>
            <a:endParaRPr b="0" lang="en-US" sz="1700" spc="-1" strike="noStrike">
              <a:solidFill>
                <a:srgbClr val="003d61"/>
              </a:solidFill>
              <a:latin typeface="GillSans"/>
            </a:endParaRPr>
          </a:p>
          <a:p>
            <a:pPr lvl="1" marL="745560" indent="-257040" algn="just">
              <a:lnSpc>
                <a:spcPct val="15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212121"/>
                </a:solidFill>
                <a:latin typeface="GillSans"/>
              </a:rPr>
              <a:t>      </a:t>
            </a:r>
            <a:r>
              <a:rPr b="0" lang="cs-CZ" sz="1700" spc="-1" strike="noStrike">
                <a:solidFill>
                  <a:srgbClr val="212121"/>
                </a:solidFill>
                <a:latin typeface="GillSans"/>
              </a:rPr>
              <a:t>a gerontologii</a:t>
            </a:r>
            <a:endParaRPr b="0" lang="en-US" sz="1700" spc="-1" strike="noStrike">
              <a:solidFill>
                <a:srgbClr val="003d61"/>
              </a:solidFill>
              <a:latin typeface="GillSans"/>
            </a:endParaRPr>
          </a:p>
          <a:p>
            <a:pPr lvl="1" marL="745560" indent="-257040" algn="just">
              <a:lnSpc>
                <a:spcPct val="150000"/>
              </a:lnSpc>
              <a:spcBef>
                <a:spcPts val="425"/>
              </a:spcBef>
              <a:buClr>
                <a:srgbClr val="212121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212121"/>
                </a:solidFill>
                <a:latin typeface="GillSans"/>
              </a:rPr>
              <a:t>Zvýšení dostupnosti akutní a specializované péče</a:t>
            </a:r>
            <a:endParaRPr b="0" lang="en-US" sz="17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illSans"/>
              </a:rPr>
              <a:t>Pokles alokace EU na OP 2021+</a:t>
            </a:r>
            <a:endParaRPr b="1" lang="en-US" sz="24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6207120" y="6245280"/>
            <a:ext cx="183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07AEA-3894-46F7-B06C-66CD39B22F8B}" type="slidenum">
              <a:rPr b="0" lang="cs-CZ" sz="1200" spc="-1" strike="noStrike">
                <a:solidFill>
                  <a:srgbClr val="003d61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188" name="Graf 5" descr=""/>
          <p:cNvPicPr/>
          <p:nvPr/>
        </p:nvPicPr>
        <p:blipFill>
          <a:blip r:embed="rId1"/>
          <a:stretch/>
        </p:blipFill>
        <p:spPr>
          <a:xfrm>
            <a:off x="23760" y="1554120"/>
            <a:ext cx="8759880" cy="4322880"/>
          </a:xfrm>
          <a:prstGeom prst="rect">
            <a:avLst/>
          </a:prstGeom>
          <a:ln w="0">
            <a:noFill/>
          </a:ln>
        </p:spPr>
      </p:pic>
      <p:sp>
        <p:nvSpPr>
          <p:cNvPr id="189" name="TextovéPole 2"/>
          <p:cNvSpPr/>
          <p:nvPr/>
        </p:nvSpPr>
        <p:spPr>
          <a:xfrm>
            <a:off x="360360" y="5959440"/>
            <a:ext cx="842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d61"/>
                </a:solidFill>
                <a:latin typeface="Garamond"/>
              </a:rPr>
              <a:t>*) Dle údajů MMR, u MPSV je pokles po odečtení alokace na prioritní osu 4 Efektivní veřejná správa OPZ. Při zohlednění celé alokace OPZ je pokles u MPSV o 34,3 %)</a:t>
            </a:r>
            <a:endParaRPr b="0" lang="en-US" sz="16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1187280" y="0"/>
            <a:ext cx="679464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08000" y="2349360"/>
            <a:ext cx="9036000" cy="20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  </a:t>
            </a:r>
            <a:br>
              <a:rPr sz="2000"/>
            </a:b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0" y="1434960"/>
            <a:ext cx="9144000" cy="39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d61"/>
                </a:solidFill>
                <a:latin typeface="GillSans"/>
              </a:rPr>
              <a:t>Evropské strukturální a investiční fondy</a:t>
            </a:r>
            <a:endParaRPr b="0" lang="en-US" sz="32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d61"/>
                </a:solidFill>
                <a:latin typeface="GillSans"/>
              </a:rPr>
              <a:t>Příprava nového programového </a:t>
            </a:r>
            <a:endParaRPr b="0" lang="en-US" sz="32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d61"/>
                </a:solidFill>
                <a:latin typeface="GillSans"/>
              </a:rPr>
              <a:t>období 2021 -2027</a:t>
            </a:r>
            <a:endParaRPr b="0" lang="en-US" sz="32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152" name="Picture 2" descr="W:\PUBLICITA\VIZUÁLNÍ_IDENTITA\loga\OPZ\logo_OPZ_barevne.jpg"/>
          <p:cNvPicPr/>
          <p:nvPr/>
        </p:nvPicPr>
        <p:blipFill>
          <a:blip r:embed="rId1"/>
          <a:stretch/>
        </p:blipFill>
        <p:spPr>
          <a:xfrm>
            <a:off x="1989000" y="5661000"/>
            <a:ext cx="5191200" cy="10764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1116000" y="1557000"/>
            <a:ext cx="7228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d61"/>
              </a:solidFill>
              <a:latin typeface="GillSans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d61"/>
              </a:solidFill>
              <a:latin typeface="GillSans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ff"/>
                </a:solidFill>
                <a:latin typeface="GillSans"/>
              </a:rPr>
              <a:t>Děkuji Vám za pozornost</a:t>
            </a:r>
            <a:endParaRPr b="1" lang="en-US" sz="2800" spc="-1" strike="noStrike">
              <a:solidFill>
                <a:srgbClr val="003d61"/>
              </a:solidFill>
              <a:latin typeface="GillSans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d61"/>
              </a:solidFill>
              <a:latin typeface="GillSans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Sans"/>
              </a:rPr>
              <a:t>Projektová kancelář Ministerstva zdravotnictví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Sans"/>
              </a:rPr>
              <a:t>CZ.03.4.74/0.0/0.0/15_025/0003715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Sans"/>
              </a:rPr>
              <a:t>	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33360" y="115920"/>
            <a:ext cx="67946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illSans"/>
              </a:rPr>
              <a:t>Evropské strukturální a investiční fondy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GillSans"/>
              </a:rPr>
              <a:t>Příprava nového programového období 2021 -2027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GillSans"/>
            </a:endParaRPr>
          </a:p>
        </p:txBody>
      </p:sp>
      <p:pic>
        <p:nvPicPr>
          <p:cNvPr id="192" name="Picture 2" descr="W:\PUBLICITA\VIZUÁLNÍ_IDENTITA\loga\OPZ\logo_OPZ_barevne.jpg"/>
          <p:cNvPicPr/>
          <p:nvPr/>
        </p:nvPicPr>
        <p:blipFill>
          <a:blip r:embed="rId1"/>
          <a:stretch/>
        </p:blipFill>
        <p:spPr>
          <a:xfrm>
            <a:off x="1992240" y="5084640"/>
            <a:ext cx="5191200" cy="10764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ESIF v programovém období 2014 – 2020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116000" y="1341000"/>
            <a:ext cx="6794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Politika (hospodářské, sociální a územní) soudržnosti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- cílem je snižování rozdílů mezi regiony a snížení zaostalosti nejvíce znevýhodněných regionů, posilování a rozvoj EU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39480" indent="-3394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39480" indent="-3394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ESIF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 - Evropské strukturální a investiční fondy: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1139400" indent="-226080" algn="just">
              <a:spcBef>
                <a:spcPts val="499"/>
              </a:spcBef>
              <a:buClr>
                <a:srgbClr val="003d61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EFRR -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Evropský fond regionálního rozvoje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1139400" indent="-226080" algn="just">
              <a:spcBef>
                <a:spcPts val="499"/>
              </a:spcBef>
              <a:buClr>
                <a:srgbClr val="003d61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ESF-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Evropský sociální fond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1139400" indent="-226080" algn="just">
              <a:spcBef>
                <a:spcPts val="499"/>
              </a:spcBef>
              <a:buClr>
                <a:srgbClr val="003d61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FS -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Fond soudržnosti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1139400" indent="-226080" algn="just">
              <a:spcBef>
                <a:spcPts val="499"/>
              </a:spcBef>
              <a:buClr>
                <a:srgbClr val="003d61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EZFRV -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Evropský zemědělský fond pro rozvoj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	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	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   venkova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1139400" indent="-226080" algn="just">
              <a:spcBef>
                <a:spcPts val="499"/>
              </a:spcBef>
              <a:buClr>
                <a:srgbClr val="003d61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ENRF -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Evropský námořní a rybářský fond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39480" indent="-3394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39480" indent="-3394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V programovém období 2014 – 2020 je z ESIF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39480" indent="-3394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     </a:t>
            </a: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pro ČR vyčleněno 24 mld. EUR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Programové období 2021 – 2027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187280" y="134136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Podoba politiky soudržnosti po roce 2021 souvisí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     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s geopolitickým a finančním vývojem EU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Legislativa ESIF 2021+ a víceletého finančního rámce ve vyjednávání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V programovém období 2021 – 2027 určují národní pozici ČR především dokumenty Strategický rámec Česká republika 2030, Strategie regionálního rozvoje ČR 2021+ a Národní koncepce realizace politiky soudružnosti po roce 2020 (NKR)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V rámci 5 priorit EU je navrhováno 7 OP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Priority EU pro financování 2021 – 2027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1484280"/>
          <a:ext cx="8280360" cy="5121360"/>
        </p:xfrm>
        <a:graphic>
          <a:graphicData uri="http://schemas.openxmlformats.org/drawingml/2006/table">
            <a:tbl>
              <a:tblPr/>
              <a:tblGrid>
                <a:gridCol w="1655640"/>
                <a:gridCol w="1656000"/>
                <a:gridCol w="1584360"/>
                <a:gridCol w="1873080"/>
                <a:gridCol w="1511280"/>
              </a:tblGrid>
              <a:tr h="1737720">
                <a:tc>
                  <a:txBody>
                    <a:bodyPr lIns="53280" rIns="532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GillSans"/>
                        </a:rPr>
                        <a:t>Inteligentnější Evropa</a:t>
                      </a:r>
                      <a:endParaRPr b="0" lang="en-US" sz="18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GillSans"/>
                        </a:rPr>
                        <a:t>Předpoklad </a:t>
                      </a:r>
                      <a:endParaRPr b="0" lang="en-US" sz="18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GillSans"/>
                        </a:rPr>
                        <a:t>45 %  z  EFRR </a:t>
                      </a:r>
                      <a:endParaRPr b="0" lang="en-US" sz="18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53280" marR="53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6f0ff"/>
                    </a:solidFill>
                  </a:tcPr>
                </a:tc>
                <a:tc>
                  <a:txBody>
                    <a:bodyPr lIns="53280" rIns="532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GillSans"/>
                        </a:rPr>
                        <a:t>Zelenější Evropa</a:t>
                      </a:r>
                      <a:endParaRPr b="0" lang="en-US" sz="18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GillSans"/>
                        </a:rPr>
                        <a:t>Předpoklad </a:t>
                      </a:r>
                      <a:endParaRPr b="0" lang="en-US" sz="18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GillSans"/>
                        </a:rPr>
                        <a:t>30 % z EFRR</a:t>
                      </a:r>
                      <a:endParaRPr b="0" lang="en-US" sz="18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53280" marR="53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6f0ff"/>
                    </a:solidFill>
                  </a:tcPr>
                </a:tc>
                <a:tc>
                  <a:txBody>
                    <a:bodyPr lIns="53280" rIns="532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GillSans"/>
                        </a:rPr>
                        <a:t>Propojenější Evropa</a:t>
                      </a:r>
                      <a:endParaRPr b="0" lang="en-US" sz="18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53280" marR="53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6f0ff"/>
                    </a:solidFill>
                  </a:tcPr>
                </a:tc>
                <a:tc>
                  <a:txBody>
                    <a:bodyPr lIns="53280" rIns="532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GillSans"/>
                        </a:rPr>
                        <a:t>Sociálnější Evropa</a:t>
                      </a:r>
                      <a:endParaRPr b="0" lang="en-US" sz="18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53280" marR="53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6f0ff"/>
                    </a:solidFill>
                  </a:tcPr>
                </a:tc>
                <a:tc>
                  <a:txBody>
                    <a:bodyPr lIns="53280" rIns="532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GillSans"/>
                        </a:rPr>
                        <a:t>Evropa bližší občanům</a:t>
                      </a:r>
                      <a:endParaRPr b="0" lang="en-US" sz="18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53280" marR="53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6f0ff"/>
                    </a:solidFill>
                  </a:tcPr>
                </a:tc>
              </a:tr>
              <a:tr h="3657960">
                <a:tc>
                  <a:txBody>
                    <a:bodyPr lIns="53280" rIns="5328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GillSan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illSans"/>
                        </a:rPr>
                        <a:t>Výzkum a inovace</a:t>
                      </a:r>
                      <a:endParaRPr b="0" lang="en-US" sz="18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GillSan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illSans"/>
                        </a:rPr>
                        <a:t>Digitalizace</a:t>
                      </a:r>
                      <a:endParaRPr b="0" lang="en-US" sz="18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GillSan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illSans"/>
                        </a:rPr>
                        <a:t>Malé a střední podniky</a:t>
                      </a:r>
                      <a:endParaRPr b="0" lang="en-US" sz="18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GillSan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illSans"/>
                        </a:rPr>
                        <a:t>Technologie</a:t>
                      </a:r>
                      <a:endParaRPr b="0" lang="en-US" sz="18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53280" marR="53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f0ff"/>
                    </a:solidFill>
                  </a:tcPr>
                </a:tc>
                <a:tc>
                  <a:txBody>
                    <a:bodyPr lIns="53280" rIns="5328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GillSan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illSans"/>
                        </a:rPr>
                        <a:t>Energetická účinnost</a:t>
                      </a:r>
                      <a:endParaRPr b="0" lang="en-US" sz="18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GillSan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illSans"/>
                        </a:rPr>
                        <a:t>Obnovitelné zdroje</a:t>
                      </a:r>
                      <a:endParaRPr b="0" lang="en-US" sz="18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GillSan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illSans"/>
                        </a:rPr>
                        <a:t>Přizpůsobení se klimatu</a:t>
                      </a:r>
                      <a:endParaRPr b="0" lang="en-US" sz="18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GillSan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illSans"/>
                        </a:rPr>
                        <a:t>Ochrana životního prostředí</a:t>
                      </a:r>
                      <a:endParaRPr b="0" lang="en-US" sz="18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53280" marR="53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f0ff"/>
                    </a:solidFill>
                  </a:tcPr>
                </a:tc>
                <a:tc>
                  <a:txBody>
                    <a:bodyPr lIns="53280" rIns="5328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GillSan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illSans"/>
                        </a:rPr>
                        <a:t>Doprava</a:t>
                      </a:r>
                      <a:endParaRPr b="0" lang="en-US" sz="18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GillSan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illSans"/>
                        </a:rPr>
                        <a:t>Vysokorychlostní internet</a:t>
                      </a:r>
                      <a:endParaRPr b="0" lang="en-US" sz="18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GillSan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illSans"/>
                        </a:rPr>
                        <a:t>Mobilita</a:t>
                      </a:r>
                      <a:endParaRPr b="0" lang="en-US" sz="18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53280" marR="53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f0ff"/>
                    </a:solidFill>
                  </a:tcPr>
                </a:tc>
                <a:tc>
                  <a:txBody>
                    <a:bodyPr lIns="53280" rIns="5328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GillSan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illSans"/>
                        </a:rPr>
                        <a:t>Vzdělávání a zaměstnanost</a:t>
                      </a:r>
                      <a:endParaRPr b="0" lang="en-US" sz="18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GillSan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illSans"/>
                        </a:rPr>
                        <a:t>Sociální  začleňování</a:t>
                      </a:r>
                      <a:endParaRPr b="0" lang="en-US" sz="18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GillSan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illSans"/>
                        </a:rPr>
                        <a:t>Zdravotnictví</a:t>
                      </a:r>
                      <a:endParaRPr b="0" lang="en-US" sz="18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53280" marR="53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f0ff"/>
                    </a:solidFill>
                  </a:tcPr>
                </a:tc>
                <a:tc>
                  <a:txBody>
                    <a:bodyPr lIns="53280" rIns="5328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GillSan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illSans"/>
                        </a:rPr>
                        <a:t>Cestovní ruch</a:t>
                      </a:r>
                      <a:endParaRPr b="0" lang="en-US" sz="18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GillSan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illSans"/>
                        </a:rPr>
                        <a:t>Kulturní a přírodní dědictví</a:t>
                      </a:r>
                      <a:endParaRPr b="0" lang="en-US" sz="18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GillSan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illSans"/>
                        </a:rPr>
                        <a:t>Veřejná prostranství</a:t>
                      </a:r>
                      <a:endParaRPr b="0" lang="en-US" sz="18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GillSan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GillSans"/>
                        </a:rPr>
                        <a:t>Rozvoj obcí pomocí místních iniciativ</a:t>
                      </a:r>
                      <a:endParaRPr b="0" lang="en-US" sz="18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53280" marR="53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f0ff"/>
                    </a:solidFill>
                  </a:tcPr>
                </a:tc>
              </a:tr>
            </a:tbl>
          </a:graphicData>
        </a:graphic>
      </p:graphicFrame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Operační programy v ČR  v programovém období 2021 - 2027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pic>
        <p:nvPicPr>
          <p:cNvPr id="160" name="Obrázek 2" descr=""/>
          <p:cNvPicPr/>
          <p:nvPr/>
        </p:nvPicPr>
        <p:blipFill>
          <a:blip r:embed="rId1"/>
          <a:stretch/>
        </p:blipFill>
        <p:spPr>
          <a:xfrm>
            <a:off x="819000" y="1116000"/>
            <a:ext cx="8282160" cy="57070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Finanční aspekty politiky soudržnosti v programovém období 2021 – 2027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826920" y="1197000"/>
            <a:ext cx="72266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876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Celková alokace pro ČR 20,019 mld. €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53712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d61"/>
                </a:solidFill>
                <a:latin typeface="GillSans"/>
              </a:rPr>
              <a:t>ESF+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 = 2,74 mld. € 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	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(-20 %)</a:t>
            </a:r>
            <a:endParaRPr b="0" lang="en-US" sz="1600" spc="-1" strike="noStrike">
              <a:solidFill>
                <a:srgbClr val="003d61"/>
              </a:solidFill>
              <a:latin typeface="GillSans"/>
            </a:endParaRPr>
          </a:p>
          <a:p>
            <a:pPr lvl="1" marL="53712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d61"/>
                </a:solidFill>
                <a:latin typeface="GillSans"/>
              </a:rPr>
              <a:t>ERDF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 = 10,52 mld. € 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	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(-12 %)</a:t>
            </a:r>
            <a:endParaRPr b="0" lang="en-US" sz="1600" spc="-1" strike="noStrike">
              <a:solidFill>
                <a:srgbClr val="003d61"/>
              </a:solidFill>
              <a:latin typeface="GillSans"/>
            </a:endParaRPr>
          </a:p>
          <a:p>
            <a:pPr lvl="1" marL="53712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d61"/>
                </a:solidFill>
                <a:latin typeface="GillSans"/>
              </a:rPr>
              <a:t>FS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 = 6,44 mld. € 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	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(+5 %)</a:t>
            </a:r>
            <a:endParaRPr b="0" lang="en-US" sz="1600" spc="-1" strike="noStrike">
              <a:solidFill>
                <a:srgbClr val="003d61"/>
              </a:solidFill>
              <a:latin typeface="GillSans"/>
            </a:endParaRPr>
          </a:p>
          <a:p>
            <a:pPr lvl="1" marL="53712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d61"/>
                </a:solidFill>
                <a:latin typeface="GillSans"/>
              </a:rPr>
              <a:t>ETC 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= 0,31 mld. €</a:t>
            </a:r>
            <a:endParaRPr b="0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339480" indent="-339480" algn="just">
              <a:spcBef>
                <a:spcPts val="876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Poměr alokace ESF+ vůči ERDF je v ČR 20,6 : 79,4 %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39480" indent="-339480">
              <a:spcBef>
                <a:spcPts val="876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Užití části alokace je předdefinováno (tematická koncentrace)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1139400" indent="-226080" algn="just">
              <a:spcBef>
                <a:spcPts val="876"/>
              </a:spcBef>
              <a:buClr>
                <a:srgbClr val="003d6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25 % alokace ESF+ na sociální začleňování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lvl="2" marL="1139400" indent="-226080" algn="just">
              <a:spcBef>
                <a:spcPts val="876"/>
              </a:spcBef>
              <a:buClr>
                <a:srgbClr val="003d6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2 % alokace ESF+ na aktivity na typu FEAD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lvl="2" marL="1139400" indent="-226080" algn="just">
              <a:spcBef>
                <a:spcPts val="876"/>
              </a:spcBef>
              <a:buClr>
                <a:srgbClr val="003d6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10 % alokace ESF+ na podporou mladých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lvl="2" marL="1139400" indent="-226080" algn="just">
              <a:spcBef>
                <a:spcPts val="876"/>
              </a:spcBef>
              <a:buClr>
                <a:srgbClr val="003d6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Alokace ESF+: 54,8 % OPZ+, 42% OP JAK, 3,2 % OP TP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lvl="2" marL="1139400" indent="-226080" algn="just">
              <a:spcBef>
                <a:spcPts val="876"/>
              </a:spcBef>
              <a:buClr>
                <a:srgbClr val="003d6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Nižší míra spolufinancování EU - výrazné snížení ročních zálohových plateb vyplácených na OP, na 0,5 % alokace programu ročně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39480" indent="-339480" algn="just">
              <a:spcBef>
                <a:spcPts val="876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Nové změny v programovém období 2021 – 2027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900000" y="1196640"/>
            <a:ext cx="68659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Komise navrhuje zkrácení </a:t>
            </a: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pravidla n+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 na dva roky ze stávajících tří </a:t>
            </a:r>
            <a:r>
              <a:rPr b="0" lang="cs-CZ" sz="2000" spc="-1" strike="noStrike">
                <a:solidFill>
                  <a:srgbClr val="003d61"/>
                </a:solidFill>
                <a:latin typeface="Symbol"/>
                <a:ea typeface="Symbol"/>
              </a:rPr>
              <a:t>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 důraz na jednoduché/dobře připravené projekty s kratší dobou realizace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18960" indent="-318960" algn="just">
              <a:spcBef>
                <a:spcPts val="300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d61"/>
              </a:solidFill>
              <a:latin typeface="GillSans"/>
            </a:endParaRPr>
          </a:p>
          <a:p>
            <a:pPr marL="318960" indent="-31896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Finanční záležitosti vyjednává MF - Víceletý finanční rámec: negociační balíček (tzv. negobox), otázky spolufinancování, předfinancování, atd. – návrh FI PRES v listopadu, předpoklad projednání na prosincové (2019) ER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18960" indent="-31896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d61"/>
              </a:solidFill>
              <a:latin typeface="GillSans"/>
            </a:endParaRPr>
          </a:p>
          <a:p>
            <a:pPr marL="318960" indent="-31896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r. 2025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– revize programového období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18960" indent="-31896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18960" indent="-31896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ESIF a Evropský semestr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– posílení vazby mezi politikou soudržnosti a evropským semestrem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18960" indent="-31896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18960" indent="-31896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Zásadní důraz kladen na naplňování Specifických doporučení Rady (Country report )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18960" indent="-31896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d61"/>
              </a:solidFill>
              <a:latin typeface="GillSans"/>
            </a:endParaRPr>
          </a:p>
          <a:p>
            <a:pPr marL="318960" indent="-31896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18960" indent="-31896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Pohled EK na podporu zdravotnictví v programovém období 2021 – 2027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tzv. Country report – v roce 2019  Příloha D Investiční priority k financování politiky soudržnosti v období 2021 – 2027 pro ČR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705600" indent="-190080" algn="just">
              <a:spcBef>
                <a:spcPts val="499"/>
              </a:spcBef>
              <a:buClr>
                <a:srgbClr val="003d61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Politický cíl č. 1: </a:t>
            </a: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Inteligentnější Evropa – inovativní a inteligentní průmyslová transformace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– elektronické zdravotnictví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705600" indent="-190080" algn="just">
              <a:spcBef>
                <a:spcPts val="499"/>
              </a:spcBef>
              <a:buClr>
                <a:srgbClr val="003d61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Politický cíl č. 4: </a:t>
            </a: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Sociálnější Evropa - provádění evropského pilíře sociálních práv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- podpora deinstitucionalizace péče zejména pro děti mladší tří let, osoby se zdravotním postižením, starší osoby a osoby s mentálním postižením, podpora spolupráce mezi zdravotními a sociálními službami, posílit a zlepšit přístup k primární péči, zejména pro zranitelné skupiny, integraci péče a prevence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25800" indent="-325800">
              <a:spcBef>
                <a:spcPts val="499"/>
              </a:spcBef>
              <a:buClr>
                <a:srgbClr val="003d61"/>
              </a:buClr>
              <a:buFont typeface="Gill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08:56:53Z</dcterms:created>
  <dc:creator>kobid</dc:creator>
  <dc:description/>
  <dc:language>en-US</dc:language>
  <cp:lastModifiedBy>Marková Kateřina Ing.</cp:lastModifiedBy>
  <cp:lastPrinted>2019-11-29T08:09:41Z</cp:lastPrinted>
  <dcterms:modified xsi:type="dcterms:W3CDTF">2019-11-29T08:18:30Z</dcterms:modified>
  <cp:revision>661</cp:revision>
  <dc:subject/>
  <dc:title>Snímek 1</dc:title>
</cp:coreProperties>
</file>