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7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3"/>
          </p:nvPr>
        </p:nvSpPr>
        <p:spPr>
          <a:xfrm>
            <a:off x="3851280" y="942948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80EEF-5768-49AE-ADC2-7B8BA21EE58E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1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70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4D45B-F8CF-4382-B0C3-873293623C2C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0EAA4-EDB0-46D4-A4E1-0B07215A11F8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Text Box 2"/>
          <p:cNvSpPr/>
          <p:nvPr/>
        </p:nvSpPr>
        <p:spPr>
          <a:xfrm>
            <a:off x="6811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DC723-D533-4B73-8F32-976A9594D11C}" type="slidenum">
              <a:rPr b="0" lang="cs-CZ" sz="1200" spc="-1" strike="noStrike">
                <a:solidFill>
                  <a:srgbClr val="003d61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19CBC-61E6-4747-91F7-C533DEECF528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11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3380A-EEED-4797-AB43-397A7FFD501D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Text Box 2"/>
          <p:cNvSpPr/>
          <p:nvPr/>
        </p:nvSpPr>
        <p:spPr>
          <a:xfrm>
            <a:off x="6811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ACF74-C7F7-4C4C-820C-F5B0CE2C76CE}" type="slidenum">
              <a:rPr b="0" lang="cs-CZ" sz="1200" spc="-1" strike="noStrike">
                <a:solidFill>
                  <a:srgbClr val="003d61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360EA-9867-42FC-B6B4-4A23B06F5524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6811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F3ACC-8970-48BF-813E-D7AAEE92F4C9}" type="slidenum">
              <a:rPr b="0" lang="cs-CZ" sz="1200" spc="-1" strike="noStrike">
                <a:solidFill>
                  <a:srgbClr val="003d61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7C684-F544-4347-8921-02E7712CFCEF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Text Box 2"/>
          <p:cNvSpPr/>
          <p:nvPr/>
        </p:nvSpPr>
        <p:spPr>
          <a:xfrm>
            <a:off x="6811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A09F9-1703-4698-AEE1-BE98C00987F2}" type="slidenum">
              <a:rPr b="0" lang="cs-CZ" sz="1200" spc="-1" strike="noStrike">
                <a:solidFill>
                  <a:srgbClr val="003d61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2CE3E-F378-46C1-A346-510BEAAB4B68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Text Box 2"/>
          <p:cNvSpPr/>
          <p:nvPr/>
        </p:nvSpPr>
        <p:spPr>
          <a:xfrm>
            <a:off x="6811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EA11D-B509-40C4-9079-E3DD21EA63AB}" type="slidenum">
              <a:rPr b="0" lang="cs-CZ" sz="1200" spc="-1" strike="noStrike">
                <a:solidFill>
                  <a:srgbClr val="003d61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D00AE-9F3A-4378-83A4-DBD657EA4E1E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6811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A7DFF-FEF4-48CD-A9E5-820D0781F5C0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6811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A0AA5-7482-46BF-96A8-69CC7132201E}" type="slidenum">
              <a:rPr b="0" lang="cs-CZ" sz="1200" spc="-1" strike="noStrike">
                <a:solidFill>
                  <a:srgbClr val="003d61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D22F9-C83E-48E1-AF44-4C75B2C21F40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Text Box 2"/>
          <p:cNvSpPr/>
          <p:nvPr/>
        </p:nvSpPr>
        <p:spPr>
          <a:xfrm>
            <a:off x="681120" y="4714920"/>
            <a:ext cx="544032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4537D-25C6-402E-A49A-327FF583CAB0}" type="slidenum">
              <a:rPr b="0" lang="cs-CZ" sz="1200" spc="-1" strike="noStrike">
                <a:solidFill>
                  <a:srgbClr val="003d61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B57F-1FE3-4619-9F52-595AD83C3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6791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000" y="3962160"/>
            <a:ext cx="6791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8F48-139A-4FDE-A2C2-DA5DF4BFD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12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000" y="396216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120" y="396216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B721-22BE-4EA2-BE82-F95DFB2B9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29440" y="159984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5880" y="159984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000" y="396216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29440" y="396216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5880" y="396216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3204-E293-4493-9990-6C9638A4E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000" y="1599840"/>
            <a:ext cx="6791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6791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33141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120" y="1599840"/>
            <a:ext cx="33141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000" y="-360"/>
            <a:ext cx="67914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120" y="1599840"/>
            <a:ext cx="33141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000" y="396216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000" y="1599840"/>
            <a:ext cx="6791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0457-E67C-4C62-947B-5F59A88DE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33141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120" y="396216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12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000" y="3962160"/>
            <a:ext cx="6791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6791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000" y="3962160"/>
            <a:ext cx="6791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12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000" y="396216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120" y="396216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29440" y="159984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5880" y="159984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000" y="396216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29440" y="396216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5880" y="396216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842A-85CA-49F2-8EB3-8C59B5940C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000" y="1599840"/>
            <a:ext cx="6791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F705-AEA4-4B92-9B6F-44C9035F18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6791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6D9B-1898-4598-94A3-C60EC42100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33141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3120" y="1599840"/>
            <a:ext cx="33141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E62EC-2295-4A11-88D6-3E73BD323F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0262B-D8CB-41D7-9B96-D74A5E7DF4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6791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C4A4-B120-4111-AFBE-0AC108776C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000" y="-360"/>
            <a:ext cx="67914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C8317-650C-4973-BB82-20F4822B28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120" y="1599840"/>
            <a:ext cx="33141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000" y="396216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628B9-05DA-4A6D-90BA-47578B785D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33141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312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3120" y="396216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88CB-023E-4C58-A28B-CF88C7732C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312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000" y="3962160"/>
            <a:ext cx="6791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F60AA-EEFA-481B-8897-A96908222E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6791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000" y="3962160"/>
            <a:ext cx="6791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3D1CC-E3DE-4C6F-8BB3-9C512A6ECB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312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000" y="396216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3120" y="396216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FC0EC-B831-4E8B-8EA6-A213A4CEA5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29440" y="159984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5880" y="159984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000" y="396216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29440" y="396216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5880" y="3962160"/>
            <a:ext cx="218664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E794-7F33-4885-9094-7FF9F1A22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33141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120" y="1599840"/>
            <a:ext cx="33141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5F87-1A58-4B61-9C6F-11A5080CC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BC54-05E5-40E1-B451-3CB26970A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000" y="-360"/>
            <a:ext cx="67914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2CD4-6735-4CE9-832C-AA1C698B3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120" y="1599840"/>
            <a:ext cx="33141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000" y="396216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A8A7-BDD7-4CF9-A1C3-CFCEFFC09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33141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12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120" y="396216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AB5B-4752-4F73-A41B-70733EBE9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00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120" y="1599840"/>
            <a:ext cx="33141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000" y="3962160"/>
            <a:ext cx="679140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71CE-9E71-4A32-A1C7-3D0C4EF08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000" y="1599840"/>
            <a:ext cx="6791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1233360" y="6245280"/>
            <a:ext cx="1371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914560" y="6237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6206760" y="6245280"/>
            <a:ext cx="1832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GillSan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8428E-AF36-4315-BCDA-E72377FFDC7A}" type="slidenum">
              <a:rPr b="0" lang="cs-CZ" sz="1200" spc="-1" strike="noStrike">
                <a:solidFill>
                  <a:srgbClr val="000000"/>
                </a:solidFill>
                <a:latin typeface="GillSan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000" y="1988640"/>
            <a:ext cx="67914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0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000" y="1599840"/>
            <a:ext cx="67914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000" y="-360"/>
            <a:ext cx="67914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220760" y="6245280"/>
            <a:ext cx="13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9163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2"/>
          </p:nvPr>
        </p:nvSpPr>
        <p:spPr>
          <a:xfrm>
            <a:off x="6206760" y="6245280"/>
            <a:ext cx="1832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ffffff"/>
                </a:solidFill>
                <a:latin typeface="GillSan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BFF06-74D7-461D-9A00-048A6479CFCE}" type="slidenum">
              <a:rPr b="0" lang="cs-CZ" sz="1200" spc="-1" strike="noStrike">
                <a:solidFill>
                  <a:srgbClr val="ffffff"/>
                </a:solidFill>
                <a:latin typeface="GillSan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Vera.galuszkova@mzcr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18728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8000" y="2349360"/>
            <a:ext cx="90360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981000"/>
            <a:ext cx="914400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Školení pracovníků přímo řízených organizací Ministerstva zdravotnictv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illSans"/>
              </a:rPr>
              <a:t>Možnosti čerpání finančních prostředků pro psychiatrické nemocnice z ESI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2. prosince 201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Projektová kancelář Ministerstva zdravotnictv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CZ.03.4.74/0.0/0.0/15_025/000371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2" descr="W:\PUBLICITA\VIZUÁLNÍ_IDENTITA\loga\OPZ\logo_OPZ_barevne.jpg"/>
          <p:cNvPicPr/>
          <p:nvPr/>
        </p:nvPicPr>
        <p:blipFill>
          <a:blip r:embed="rId1"/>
          <a:stretch/>
        </p:blipFill>
        <p:spPr>
          <a:xfrm>
            <a:off x="1989000" y="5661000"/>
            <a:ext cx="519120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042920" y="3492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Děkujeme za pozorn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Děkuji za pozor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Ing. Věra Galuszkov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edoucí oddělení financování a administrace projekt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GillSans"/>
                <a:hlinkClick r:id="rId1"/>
              </a:rPr>
              <a:t>vera.galuszkova@mzcr.c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Financování projektů v programovém období 2014+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ed vydáním Rozhodnutí o poskytnutí dotac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233360" y="1600200"/>
            <a:ext cx="679464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utno zažádat MZ o stanovisko  k projektovému záměr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 schválení ŘO oznámit Poskytovateli, že byl projekt podpoř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ŘO požádá MZ o vydání Ro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dbor EFI předloží projekt ke schválení financování vedení ministerst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EFI vyzve příjemce ke tvorbě bila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 založení akce v systému EDS/SMVS se příjemci zasílá tzv. formulář S09 dokumentace ak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dání řídicí dokument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116000" y="2700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Akci do systému EDS/SMVS zadává MM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Bilance je podrobná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CRR není zasílán originál řídicí dokumentace, příjemce je zasílá CRR sá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Financování je prováděno před zaplacením faktur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– zasílejte fakturu, košilka se zaúčtováním nákladu, likvidační + dodací list, smlouvu popř. objednávku a stanovisko k zakáz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Zaměstnanost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3984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jekty jsou financovány zálohovými platbami (vratka nevyčerpaných prostředků musí být přičtena na účet ministerstva nejpozději do cca 15. prosince daného roku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33984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jednodušené vykazování v systému EDS/SMVS – řádek 5159 – akci zadává odbor EFI po obdržení podkladů od příjem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33984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 ukončení realizace akce vyčkejte na výzvu k navrácení prostředků, poněvadž výše zaslaných prostředků musí odpovídat výši schválených prostředků ze strany Ř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Životní prostřed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ozhodnutí o poskytnutí dotace je vydáváno až po vysoutěžení výběrových řízení !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egistrace akce musí obsahovat nezpůsobilé výdaje, které jsou financovány vlastními zdroji příjemce (nyní možno požádat o dotaci ze státního rozpočtu na část těchto výdajů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plácení faktur probíhá na základě souhlasu o uvolnění prostředků, které zasílá SFŽ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Z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výzkum, vývoj a inov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1174680" y="1165320"/>
            <a:ext cx="6794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785520" indent="-30240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jekty jsou financovány zálohovými platbami (vratka nevyčerpaných prostředků musí být přičtena na účet ministerstva nejpozději do cca 15. prosince daného roku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5520" indent="-30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5520" indent="-30240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jednodušené vykazování v systému EDS/SMVS – řádek 5159 resp. 6159 – akci zadává MŠMT dle podkladů od příjemce, EFI bilanci nepožaduj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5520" indent="-30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5520" indent="-30240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 ukončení realizace akce vyčkejte na výzvu k navrácení prostředků, poněvadž výše zaslaných prostředků musí odpovídat výši schválených prostředků ze strany Ř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5520" indent="-30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5520" indent="-30240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loučená řídicí dokumentace obsahuje také C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3480" indent="-302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statní O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1187280" y="1989000"/>
            <a:ext cx="67946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Doposud financován pouze Interre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financování bude probíhat dle typu výdajů – investiční vs. neinvestič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utno kontaktovat odbor EFI ihned, kdy projekt prošel úspěšně hodnocením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Ukončení roku a Z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Ukončení rozpočtového rok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latby probíhají cca do 15. prosince daného ro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 lednu dalšího roku bude příjemce vyzván k napárování skutečnosti zdrojů do potře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a jaře probíhá rozpočtování zdrojů a vydávání tzv. překlápěcích (technických) rozhodnutí – ty nejsou příjemci zasílá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ávěrečné vyhodnocení ak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 ukončení financování projektu je příjemce vyzván k vyplnění formuláře, který bude podkladem pro zadání dat do systému EDS/SMV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VA je posledním platným řídicím dokumentem a je v něm uvedena skutečnost projekt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Marková Kateřina Ing.</cp:lastModifiedBy>
  <cp:lastPrinted>2019-11-29T07:59:59Z</cp:lastPrinted>
  <dcterms:modified xsi:type="dcterms:W3CDTF">2019-11-29T08:00:03Z</dcterms:modified>
  <cp:revision>552</cp:revision>
  <dc:subject/>
  <dc:title>Snímek 1</dc:title>
</cp:coreProperties>
</file>