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EE52-9613-4EA6-99C2-F6F1180075D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2E38-06D9-4E1E-82D4-A229A77CB703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CD91-A51F-4B8C-8529-583CB9F98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F631-AFFF-4FE4-BDD9-4024FE34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DD89-703D-4536-9014-3BBDD8704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2D28-7F12-4C4A-9607-31622E926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C57D-F77E-4B3C-9E68-A9809F6C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B7CB-0B75-46E2-A25C-6F2713D06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18BB-4DFE-448A-B3F7-F9E7F938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BE9A-0A22-4C3A-AEC0-4DE9E4B4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FAB9-FD9D-4A7E-A206-B1A27D4A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D9BA-131D-4436-A74A-E8CC734F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115F-1FB0-4305-A940-B17DCE53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609A-EB3F-4C70-9B4C-4948265F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7536-1518-44B4-BB26-199694DE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E8F0-3597-4257-9B4D-526F94B1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F79E-7EA8-46C1-9194-2961FF71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7542-F70D-4E8B-8A27-F08C7CB1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89F70-6CAB-4FC9-8E9F-AF142E525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0C74-CD72-47DB-A1BF-25026D7DB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75DC-BE67-400C-80D0-A4CC404C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7A19-30E7-44CB-8BA5-4DEA5FE0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42F0-39A3-47EB-90D8-A37607F2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AB59-B860-46B1-A61A-7DED5AB5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E4B9-B098-47D8-BD94-05AD94BD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B2CA-5276-42BA-A5E7-B8381083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233360" y="6244920"/>
            <a:ext cx="1371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914560" y="6237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F4C6-2A30-47A0-AEF5-88DFDC13133C}" type="slidenum">
              <a:rPr b="0" lang="cs-CZ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7" name="Rectangle 11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9" name="Picture 15" descr="pp_podtisk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233360" y="1989000"/>
            <a:ext cx="67946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53" name="Picture 12" descr="pp_podtisk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logo IOP + EU + text - 1"/>
          <p:cNvPicPr/>
          <p:nvPr/>
        </p:nvPicPr>
        <p:blipFill>
          <a:blip r:embed="rId3"/>
          <a:stretch/>
        </p:blipFill>
        <p:spPr>
          <a:xfrm>
            <a:off x="1116000" y="5157720"/>
            <a:ext cx="5545080" cy="620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4"/>
          <a:stretch/>
        </p:blipFill>
        <p:spPr>
          <a:xfrm>
            <a:off x="6815160" y="5157720"/>
            <a:ext cx="1428840" cy="6256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6"/>
          <p:cNvSpPr/>
          <p:nvPr/>
        </p:nvSpPr>
        <p:spPr>
          <a:xfrm>
            <a:off x="2124000" y="6140520"/>
            <a:ext cx="5256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d61"/>
                </a:solidFill>
                <a:latin typeface="GillSans"/>
              </a:rPr>
              <a:t>Tento Projekt technické pomoci 6.1 Ministerstva zdravotnictví je spolufinancován Evropskou unií z Evropského fondu pro regionální rozvoj. </a:t>
            </a:r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"/>
          <p:cNvSpPr/>
          <p:nvPr/>
        </p:nvSpPr>
        <p:spPr>
          <a:xfrm>
            <a:off x="-12600" y="1968480"/>
            <a:ext cx="9156600" cy="488952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95" name="Picture 9" descr="logo_mzcr"/>
          <p:cNvPicPr/>
          <p:nvPr/>
        </p:nvPicPr>
        <p:blipFill>
          <a:blip r:embed="rId2"/>
          <a:stretch/>
        </p:blipFill>
        <p:spPr>
          <a:xfrm>
            <a:off x="647640" y="682560"/>
            <a:ext cx="6737400" cy="593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pp_titul_podtisk"/>
          <p:cNvPicPr/>
          <p:nvPr/>
        </p:nvPicPr>
        <p:blipFill>
          <a:blip r:embed="rId3"/>
          <a:stretch/>
        </p:blipFill>
        <p:spPr>
          <a:xfrm>
            <a:off x="0" y="1989000"/>
            <a:ext cx="812880" cy="4869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4"/>
          </p:nvPr>
        </p:nvSpPr>
        <p:spPr>
          <a:xfrm>
            <a:off x="1220760" y="6244920"/>
            <a:ext cx="13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5"/>
          </p:nvPr>
        </p:nvSpPr>
        <p:spPr>
          <a:xfrm>
            <a:off x="291600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BA84-816C-4DB3-A49D-74C73633478F}" type="slidenum">
              <a:rPr b="0" lang="cs-CZ" sz="1200" spc="-1" strike="noStrike">
                <a:solidFill>
                  <a:srgbClr val="ffffff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1187280" y="0"/>
            <a:ext cx="679464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8000" y="2349360"/>
            <a:ext cx="9036000" cy="20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  </a:t>
            </a:r>
            <a:br>
              <a:rPr sz="2000"/>
            </a:b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0" y="1074600"/>
            <a:ext cx="9144000" cy="39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1" lang="cs-CZ" sz="2400" spc="-1" strike="noStrike">
                <a:solidFill>
                  <a:srgbClr val="003d61"/>
                </a:solidFill>
                <a:latin typeface="GillSans"/>
              </a:rPr>
              <a:t>Školení pracovníků přímo řízených organizací Ministerstva zdravotnictví</a:t>
            </a: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d61"/>
                </a:solidFill>
                <a:latin typeface="GillSans"/>
              </a:rPr>
              <a:t>Možnosti čerpání finančních prostředků v rámci Operačního programu Životní prostředí</a:t>
            </a:r>
            <a:endParaRPr b="0" lang="en-US" sz="2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d61"/>
                </a:solidFill>
                <a:latin typeface="GillSans"/>
              </a:rPr>
              <a:t>18. listopadu 2019</a:t>
            </a: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GillSans"/>
              </a:rPr>
              <a:t>Projektová kancelář Ministerstva zdravotnictví</a:t>
            </a: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GillSans"/>
              </a:rPr>
              <a:t>CZ.03.4.74/0.0/0.0/15_025/0003715</a:t>
            </a: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148" name="Picture 2" descr="W:\PUBLICITA\VIZUÁLNÍ_IDENTITA\loga\OPZ\logo_OPZ_barevne.jpg"/>
          <p:cNvPicPr/>
          <p:nvPr/>
        </p:nvPicPr>
        <p:blipFill>
          <a:blip r:embed="rId1"/>
          <a:stretch/>
        </p:blipFill>
        <p:spPr>
          <a:xfrm>
            <a:off x="1989000" y="5661000"/>
            <a:ext cx="5191200" cy="1076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d61"/>
                </a:solidFill>
                <a:latin typeface="GillSans"/>
              </a:rPr>
              <a:t>Děkuji za pozornost!</a:t>
            </a:r>
            <a:endParaRPr b="1" lang="en-US" sz="36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33000" y="2000160"/>
            <a:ext cx="6867720" cy="29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cs-CZ" sz="2400" spc="-1" strike="noStrike">
                <a:solidFill>
                  <a:srgbClr val="ffffff"/>
                </a:solidFill>
                <a:latin typeface="GillSans"/>
              </a:rPr>
              <a:t>Metodický pokyn pro projekty PO a OSS MZ spolufinancované z ESIF v Operačním programu Životní prostředí 2014-2020 – financování nezpůsobilých výdajů</a:t>
            </a:r>
            <a:br>
              <a:rPr sz="2400"/>
            </a:br>
            <a:br>
              <a:rPr sz="2400"/>
            </a:br>
            <a:r>
              <a:rPr b="1" i="1" lang="cs-CZ" sz="2400" spc="-1" strike="noStrike">
                <a:solidFill>
                  <a:srgbClr val="ffffff"/>
                </a:solidFill>
                <a:latin typeface="GillSans"/>
              </a:rPr>
              <a:t>Projektová kancelář Ministerstva zdravotnictví</a:t>
            </a:r>
            <a:br>
              <a:rPr sz="2400"/>
            </a:br>
            <a:r>
              <a:rPr b="1" i="1" lang="cs-CZ" sz="2400" spc="-1" strike="noStrike">
                <a:solidFill>
                  <a:srgbClr val="ffffff"/>
                </a:solidFill>
                <a:latin typeface="GillSans"/>
              </a:rPr>
              <a:t>reg. č. CZ.03.4.74/0.0/0.0/15_025_0003715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pic>
        <p:nvPicPr>
          <p:cNvPr id="150" name="Picture 2" descr="W:\PUBLICITA\VIZUÁLNÍ_IDENTITA\loga\OPZ\logo_OPZ_barevne.jpg"/>
          <p:cNvPicPr/>
          <p:nvPr/>
        </p:nvPicPr>
        <p:blipFill>
          <a:blip r:embed="rId1"/>
          <a:stretch/>
        </p:blipFill>
        <p:spPr>
          <a:xfrm>
            <a:off x="1976400" y="5157720"/>
            <a:ext cx="5191200" cy="1076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Úvod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42920" y="134136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schválen poradou vedení MZ dne 17. 9. 2019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91600" indent="-29160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91600" indent="-29160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navazuje na dokumenty: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52760" indent="-29160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ravidla pro žadatele a příjemce podpory z OPŽP 2014-2020 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52760" indent="-29160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říkaz ministra č. 12/2017 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52760" indent="-29160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Metodický pokyn samostatného oddělení programu Nová zelená úsporám Ministerstva životního prostředí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52760" indent="-29160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stup pro Přímo řízené organizace pro projekty ESIF 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91600" indent="-29160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91600" indent="-29160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znik z důvodu stanovení obecných pravidel pro financování nezpůsobilých výdajů projektů přímo řízených organizací MZ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91600" indent="-2916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91600" indent="-29160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určen pro výzvy č. 39, 70 a 100 OPŽP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Výdaje projektu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26560" y="1196640"/>
            <a:ext cx="8209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7f7f7f"/>
                </a:solidFill>
                <a:uFillTx/>
                <a:latin typeface="GillSans"/>
              </a:rPr>
              <a:t>Způsobilé výdaje projektu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7f7f7f"/>
                </a:solidFill>
                <a:latin typeface="GillSans"/>
              </a:rPr>
              <a:t>Max. 45 % NZÚ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7f7f7f"/>
                </a:solidFill>
                <a:latin typeface="GillSans"/>
              </a:rPr>
              <a:t>? % OPŽP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7f7f7f"/>
                </a:solidFill>
                <a:latin typeface="GillSans"/>
              </a:rPr>
              <a:t>Max. 20 % SR kapitola 335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</a:rPr>
              <a:t>Nezpůsobilé výdaje projektu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rimárně hrazeny příjemcem dotace z vlastních zdrojů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lze získat dotaci ze SR kapitoly 335 na nezpůsobilé </a:t>
            </a:r>
            <a:r>
              <a:rPr b="1" lang="cs-CZ" sz="2000" spc="-1" strike="noStrike">
                <a:solidFill>
                  <a:srgbClr val="ff0000"/>
                </a:solidFill>
                <a:latin typeface="GillSans"/>
              </a:rPr>
              <a:t>investiční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výdaje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výdaj musí splňovat pravidlo 3E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d61"/>
                </a:solidFill>
                <a:uFillTx/>
                <a:latin typeface="GillSans"/>
              </a:rPr>
              <a:t>Jedná se primárně o: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a. investiční (realizační) výdaje 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nad stanovené finanční limity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ravidly OPŽP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b. investiční výdaje na komplexní projekt/investiční akci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illSans"/>
              </a:rPr>
              <a:t>Příloha č. 1 - Žádost o financování nezpůsobilých výdajů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říloha č. 1 Metodického pokynu – vzor žádosti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Zaslat datovou schránkou podepsané statutárním zástupcem organizace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neprodleně po schválení žádosti o podporu ze strany SFŽP, tj. před vydáním registrace akce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kud je vydána registraci akce          žádost zaslána nejpozději před vydáním Rozhodnutí o poskytnutí dotace/Stanovení výdajů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pic>
        <p:nvPicPr>
          <p:cNvPr id="157" name="Přímá spojnice se šipkou 4" descr=""/>
          <p:cNvPicPr/>
          <p:nvPr/>
        </p:nvPicPr>
        <p:blipFill>
          <a:blip r:embed="rId1"/>
          <a:stretch/>
        </p:blipFill>
        <p:spPr>
          <a:xfrm>
            <a:off x="5651640" y="4395960"/>
            <a:ext cx="529920" cy="377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00000" y="5544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Financování nezpůsobilých výdajů ze SR 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24000" y="1483920"/>
            <a:ext cx="77040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0016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d61"/>
                </a:solidFill>
                <a:uFillTx/>
                <a:latin typeface="GillSans"/>
              </a:rPr>
              <a:t>Projekty PO 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1150920" indent="-22860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celkové výdaje projektu dosahují méně než 100 mil. Kč - porada vedení MZ rozhodne o financování 80 % uznatelných NV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1150920" indent="-22860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celkové výdaje projektu dosahují více než 100 mil. Kč - porada vedení MZ rozhodne o procentní výši financování uznatelných NV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1150920" indent="-22860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komplexní projekt/investiční akce - porada vedení MZ rozhodne o procentní výši financování uznatelných NV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1150920" indent="-22860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0016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d61"/>
                </a:solidFill>
                <a:uFillTx/>
                <a:latin typeface="GillSans"/>
              </a:rPr>
              <a:t>Projekty OSS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1150920" indent="-22860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rada vedení MZ rozhodne o procentní výši financování uznatelných NV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Financování nezpůsobilých výdajů ze SR 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50560" y="134100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7160" indent="-342720" algn="just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GillSans"/>
              </a:rPr>
              <a:t>výše financování nezpůsobilých výdajů ze SR bude stanovena pevnou částkou, kterou nelze navýšit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857160" indent="-342720" algn="just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857160" indent="-34272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v případě, že dojde v průběhu realizace projektu ke 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snížení výše nezpůsobilých výdajů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stanovených v Registraci akce    poměrně poníženo i financování nezpůsobilých výdajů ze SR v rámci vydání Rozhodnutí o poskytnutí dotace/Stanovení výdajů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857160" indent="-342720" algn="just">
              <a:spcBef>
                <a:spcPts val="499"/>
              </a:spcBef>
              <a:buClr>
                <a:srgbClr val="0033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857160" indent="-342720" algn="just">
              <a:spcBef>
                <a:spcPts val="499"/>
              </a:spcBef>
              <a:buClr>
                <a:srgbClr val="0033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pic>
        <p:nvPicPr>
          <p:cNvPr id="162" name="Přímá spojnice se šipkou 3" descr=""/>
          <p:cNvPicPr/>
          <p:nvPr/>
        </p:nvPicPr>
        <p:blipFill>
          <a:blip r:embed="rId1"/>
          <a:stretch/>
        </p:blipFill>
        <p:spPr>
          <a:xfrm>
            <a:off x="7236000" y="2664000"/>
            <a:ext cx="529920" cy="377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EPC – příloha č. 2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skytování energetických služeb se zaručeným výsledkem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12120" indent="-31212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12120" indent="-31212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součástí plnění může být i tzv. dodavatelské financování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12120" indent="-31212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12120" indent="-31212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je-li využita metoda EPC v projektu             nutno doložit přílohu č. 2 „čestné prohlášení k využití metody EPC“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12120" indent="-31212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12120" indent="-31212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bude-li metoda EPC využita jako tzv. dodavatelské financování           „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okyn k procesu schvalování metody EPC jako dodavatelského úvěru na financování vlastních zdrojů u projektů realizovaných v Operačním programu Životní prostředí“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12120" indent="-31212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pic>
        <p:nvPicPr>
          <p:cNvPr id="165" name="Přímá spojnice se šipkou 3" descr=""/>
          <p:cNvPicPr/>
          <p:nvPr/>
        </p:nvPicPr>
        <p:blipFill>
          <a:blip r:embed="rId1"/>
          <a:stretch/>
        </p:blipFill>
        <p:spPr>
          <a:xfrm>
            <a:off x="5797440" y="3097080"/>
            <a:ext cx="530280" cy="378000"/>
          </a:xfrm>
          <a:prstGeom prst="rect">
            <a:avLst/>
          </a:prstGeom>
          <a:ln w="0">
            <a:noFill/>
          </a:ln>
        </p:spPr>
      </p:pic>
      <p:pic>
        <p:nvPicPr>
          <p:cNvPr id="166" name="Přímá spojnice se šipkou 4" descr=""/>
          <p:cNvPicPr/>
          <p:nvPr/>
        </p:nvPicPr>
        <p:blipFill>
          <a:blip r:embed="rId2"/>
          <a:stretch/>
        </p:blipFill>
        <p:spPr>
          <a:xfrm>
            <a:off x="3200400" y="4395960"/>
            <a:ext cx="536400" cy="377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EPC - příloha č. 2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55280" y="1599840"/>
            <a:ext cx="83883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</a:rPr>
              <a:t>Pokyn k procesu schvalování metody EPC jako dodavatelského úvěru na financování vlastních zdrojů u projektů realizovaných v Operačním programu Životní prostředí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GillSan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d61"/>
                </a:solidFill>
                <a:uFillTx/>
                <a:latin typeface="GillSans"/>
              </a:rPr>
              <a:t>Projekt s dotací do 200 mil. Kč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857160" indent="-45720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ke schválení MF se předkládají pouze veřejné zakázky týkající se výběru dodavatele/poskytovatele energetických služeb, respektive metody EPC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GillSan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d61"/>
                </a:solidFill>
                <a:uFillTx/>
                <a:latin typeface="GillSans"/>
              </a:rPr>
              <a:t>Projekt s dotací nad 200 mil. Kč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857160" indent="-45720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ke schválení MF se předkládají veškeré veřejné zakázky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08:56:53Z</dcterms:created>
  <dc:creator>kobid</dc:creator>
  <dc:description/>
  <dc:language>en-US</dc:language>
  <cp:lastModifiedBy>Marková Kateřina Ing.</cp:lastModifiedBy>
  <cp:lastPrinted>2019-06-05T13:39:22Z</cp:lastPrinted>
  <dcterms:modified xsi:type="dcterms:W3CDTF">2019-11-14T10:49:42Z</dcterms:modified>
  <cp:revision>677</cp:revision>
  <dc:subject/>
  <dc:title>Snímek 1</dc:title>
</cp:coreProperties>
</file>