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BF61-7973-4848-8429-0E816D8C67C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7748-093C-441D-8321-C7F1583C103B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D8AE-9C9B-42FF-8CC4-E08A6C873AF4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19A8-5F3C-4B9E-9524-C6BF7F4B20BC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EDAB-8744-4789-8B2B-DC16A8934D0D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E52F-8EB7-4E4A-82CA-B781D1A05682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241-6FE1-4D15-8EF8-16FD22E6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0EC-B221-4649-B60E-EC13FC47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FA3-996D-4D2F-9909-EE7DBE67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E63-83DF-4744-BBB7-10670371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586-C285-43DC-8426-05EC1E3E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7C5B-AEB8-4AD5-8836-4B3404D3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0002-B3C8-4EBE-A19B-BB1DDDBA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242C-6E9F-4DC6-A4ED-E7115CF0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E573-7F44-407E-90C7-6DA635CA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0D14-39D1-47BF-8331-E449EE97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AF6-4814-42E3-9A06-F5421227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13FC-71D9-41BD-AE67-B77F465D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5244-E104-4974-9448-84FE1453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6AC6-F8D9-4D3D-B04C-DE7A1936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3774-8EDE-4B04-846D-ECCC9698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5839-35BA-46D0-BEDB-35B1B598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79C5-0906-4C5D-9797-254C8E8C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983E-851D-406F-B813-1905910C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349-95FF-41C8-878C-A331B649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33F-229B-4F78-A63C-CBA24C8B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9C6-1FB3-4C20-8C5F-AFE854E1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564-FA49-4CBC-B7E3-F067AA44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359-87D4-4CB3-B99D-3B010FEB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3EE-CE88-40D2-860E-3482F32D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5C40-8FA3-4F75-B375-CF715055F21B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5341-CBBE-498E-8C3C-1A78ECF4C633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finance@mz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8000" y="2349360"/>
            <a:ext cx="90360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1074600"/>
            <a:ext cx="914400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Školení pracovníků přímo řízených organizací Ministerstva zdravotnictví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d61"/>
                </a:solidFill>
                <a:latin typeface="GillSans"/>
              </a:rPr>
              <a:t>Možnosti čerpání finančních prostředků v rámci Operačního programu Životní prostředí</a:t>
            </a:r>
            <a:endParaRPr b="0" lang="en-US" sz="2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18. listopadu 2019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Projektová kancelář Ministerstva zdravotnictví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CZ.03.4.74/0.0/0.0/15_025/0003715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Picture 2" descr="W:\PUBLICITA\VIZUÁLNÍ_IDENTITA\loga\OPZ\logo_OPZ_barevne.jpg"/>
          <p:cNvPicPr/>
          <p:nvPr/>
        </p:nvPicPr>
        <p:blipFill>
          <a:blip r:embed="rId1"/>
          <a:stretch/>
        </p:blipFill>
        <p:spPr>
          <a:xfrm>
            <a:off x="1989000" y="5661000"/>
            <a:ext cx="5191200" cy="1076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000" y="2000160"/>
            <a:ext cx="68677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Finanční toky vůči přímo řízeným organizacím Ministerstva zdravotnictví</a:t>
            </a:r>
            <a:br>
              <a:rPr sz="2400"/>
            </a:br>
            <a:br>
              <a:rPr sz="2400"/>
            </a:br>
            <a:r>
              <a:rPr b="1" i="1" lang="cs-CZ" sz="2400" spc="-1" strike="noStrike">
                <a:solidFill>
                  <a:srgbClr val="ffffff"/>
                </a:solidFill>
                <a:latin typeface="GillSans"/>
              </a:rPr>
              <a:t>Projektová kancelář Ministerstva zdravotnictví</a:t>
            </a:r>
            <a:br>
              <a:rPr sz="2400"/>
            </a:br>
            <a:r>
              <a:rPr b="1" i="1" lang="cs-CZ" sz="2400" spc="-1" strike="noStrike">
                <a:solidFill>
                  <a:srgbClr val="ffffff"/>
                </a:solidFill>
                <a:latin typeface="GillSans"/>
              </a:rPr>
              <a:t>reg. č. CZ.03.4.74/0.0/0.0/15_025_0003715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50" name="Picture 2" descr="W:\PUBLICITA\VIZUÁLNÍ_IDENTITA\loga\OPZ\logo_OPZ_barevne.jpg"/>
          <p:cNvPicPr/>
          <p:nvPr/>
        </p:nvPicPr>
        <p:blipFill>
          <a:blip r:embed="rId1"/>
          <a:stretch/>
        </p:blipFill>
        <p:spPr>
          <a:xfrm>
            <a:off x="1976400" y="5157720"/>
            <a:ext cx="5191200" cy="1076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d vydáním Registrace akc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33360" y="1599840"/>
            <a:ext cx="67946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utno zažádat MZ o stanovisko  k projektovému záměr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 schválení projektu ze ŘO oznámit Poskytovateli, že byl projekt podpořen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ŘO požádá MZ o vydání Registrace akce Odbor EFI předloží projekt ke schválení financování vedení ministerstv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Akce je v systému EDS/SMVS založena přenosem dat z MS 2014+ 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FI vyzve příjemce k přiřazení nezpůsobilých výdajů k „potřebám“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 odsouhlasení všemi stranami dochází k vydání Registrace ak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ozhodnutí o poskytnutí dotac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hodnutí o poskytnutí dotace je vydáváno až po vysoutěžení výběrových řízení !!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 vydání Rozhodnutí opětovně žádá ŘO poskytovatel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Finanční údaje uvedené v RoD především rozložení financování v letech poskytuje příjemce ŘO sám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plácení faktur probíhá na základě souhlasu o uvolnění prostředků, které zasílá SFŽP – zde je schvalovací lhůta až 30 d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ZÚ – prostředky nejsou alokovány v kapitole MZ, jsou postupně uvolňovány z kapitoly MŽP do kapitoly MZ až po souhlasu ze strany MF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ZÚ nelze čerpat na výdaje vzniklé před podáním Žádosti o podporu např. na výdaje spojené s tvorbou Žádost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Financování nezpůsobilých výdajů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87280" y="1988640"/>
            <a:ext cx="6794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kud již byla příjemci vydána Registrace akce je nutné vydat Registraci akce (změna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kud je čerpání nezpůsobilých nákladů očekáváno ve více letech je důležité uvést rozložení mezi lety, aby mohlo MZ zajistit dostatečné finanční kryt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šechny faktury je nutné zaslat na email </a:t>
            </a: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finance@mzcr.c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87280" y="1988640"/>
            <a:ext cx="6794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d61"/>
                </a:solidFill>
                <a:latin typeface="GillSans"/>
              </a:rPr>
              <a:t>Děkuji za pozornost!</a:t>
            </a:r>
            <a:endParaRPr b="1" lang="en-US" sz="3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Ing. Věra Galuszková, vedoucí oddělení financování a administrace projektů odboru EF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Marková Kateřina Ing.</cp:lastModifiedBy>
  <cp:lastPrinted>2018-09-17T10:46:55Z</cp:lastPrinted>
  <dcterms:modified xsi:type="dcterms:W3CDTF">2019-11-14T10:53:19Z</dcterms:modified>
  <cp:revision>531</cp:revision>
  <dc:subject/>
  <dc:title>Snímek 1</dc:title>
</cp:coreProperties>
</file>